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329-C095-4505-A04E-4836692F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094-71B3-45B7-B4CA-75D708C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1E4-CED5-494A-91EC-9641917E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70A-2E87-4FD2-8B8E-C3925868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93C-DA5D-454F-A8A8-82CE03F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FD7-B065-4230-809A-72F1C9B5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56F-3939-41C9-AAD8-3E4FD051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850-F073-4AC6-B8C6-943DD99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67B-1987-47EB-89AF-CEB6C18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D48-14A0-48AD-993B-B931684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56A-089B-4A25-A1BE-A257894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D5B-DB4A-43D0-B4B9-785DB25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EAC-E608-4CC2-BCA8-846F3E07F9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2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correlazione 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line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44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45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46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280040" y="1295280"/>
            <a:ext cx="4419360" cy="17974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In questo esperimento il contenitore graduato contiene una quantità iniziale di acqua pari a 20 ml. Ad intervalli regolari da un rubinetto viene fatta scendere acqua, con flusso costante. Che relazione c’è tra la quantità di acqua totale ed il tempo di erogazione?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09480" y="5232240"/>
            <a:ext cx="82296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 punti rappresentati sul piano cartesiano sono tutti allineati fra loro,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ma non con l’origine.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Il grafico che si ottiene è una semiretta che taglia l’asse delle ordinate nel punto di valore “20ml”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Oval 25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26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470480" y="35053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m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1" name="Freeform 50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51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Oval 52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3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4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Freeform 55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Freeform 68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Oval 69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Freeform 70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0" name="Group 78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71" name="Line 71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" name="Line 7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4" name="Text Box 80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76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77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78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9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4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191120" y="2057400"/>
            <a:ext cx="32763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14800" y="914400"/>
          <a:ext cx="3733920" cy="1036800"/>
        </p:xfrm>
        <a:graphic>
          <a:graphicData uri="http://schemas.openxmlformats.org/drawingml/2006/table">
            <a:tbl>
              <a:tblPr/>
              <a:tblGrid>
                <a:gridCol w="720720"/>
                <a:gridCol w="523800"/>
                <a:gridCol w="622440"/>
                <a:gridCol w="622080"/>
                <a:gridCol w="622440"/>
                <a:gridCol w="622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n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41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Oval 42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43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Freeform 44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Freeform 46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Oval 48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Freeform 49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04920" y="5105520"/>
            <a:ext cx="36576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esta relazione è simile a quella di proporzionalità dirett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ma con un valore iniziale diverso da zer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Text Box 51"/>
          <p:cNvSpPr/>
          <p:nvPr/>
        </p:nvSpPr>
        <p:spPr>
          <a:xfrm>
            <a:off x="4419720" y="5334120"/>
            <a:ext cx="4495680" cy="137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otremo scriverla così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2"/>
              <p:cNvSpPr txBox="1"/>
              <p:nvPr/>
            </p:nvSpPr>
            <p:spPr>
              <a:xfrm>
                <a:off x="5842080" y="5981760"/>
                <a:ext cx="129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53"/>
          <p:cNvSpPr/>
          <p:nvPr/>
        </p:nvSpPr>
        <p:spPr>
          <a:xfrm>
            <a:off x="304920" y="5943600"/>
            <a:ext cx="4114800" cy="8715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cc"/>
                </a:solidFill>
                <a:latin typeface="Arial"/>
              </a:rPr>
              <a:t>Due grandezze che si comportano così sono legate da una </a:t>
            </a:r>
            <a:r>
              <a:rPr b="1" lang="it-IT" sz="1700" spc="-1" strike="noStrike">
                <a:solidFill>
                  <a:srgbClr val="ff0066"/>
                </a:solidFill>
                <a:latin typeface="Arial"/>
              </a:rPr>
              <a:t>correlazione lineare 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5" name="Group 54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106" name="Line 55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7" name="Line 5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58"/>
              <p:cNvSpPr txBox="1"/>
              <p:nvPr/>
            </p:nvSpPr>
            <p:spPr>
              <a:xfrm>
                <a:off x="6629400" y="5105520"/>
                <a:ext cx="13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59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4419720" y="6019920"/>
            <a:ext cx="1295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Oppure così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7162920" y="5969160"/>
            <a:ext cx="167616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ssend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2"/>
              <p:cNvSpPr txBox="1"/>
              <p:nvPr/>
            </p:nvSpPr>
            <p:spPr>
              <a:xfrm>
                <a:off x="5181480" y="2438280"/>
                <a:ext cx="236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63"/>
              <p:cNvSpPr txBox="1"/>
              <p:nvPr/>
            </p:nvSpPr>
            <p:spPr>
              <a:xfrm>
                <a:off x="4794120" y="3124080"/>
                <a:ext cx="29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4"/>
              <p:cNvSpPr txBox="1"/>
              <p:nvPr/>
            </p:nvSpPr>
            <p:spPr>
              <a:xfrm>
                <a:off x="5087880" y="4495680"/>
                <a:ext cx="2455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4902120" y="3805200"/>
                <a:ext cx="2641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" name="Group 72"/>
          <p:cNvGrpSpPr/>
          <p:nvPr/>
        </p:nvGrpSpPr>
        <p:grpSpPr>
          <a:xfrm>
            <a:off x="6934320" y="2590920"/>
            <a:ext cx="380880" cy="2286000"/>
            <a:chOff x="6934320" y="2590920"/>
            <a:chExt cx="380880" cy="2286000"/>
          </a:xfrm>
        </p:grpSpPr>
        <p:sp>
          <p:nvSpPr>
            <p:cNvPr id="118" name="Oval 67"/>
            <p:cNvSpPr/>
            <p:nvPr/>
          </p:nvSpPr>
          <p:spPr>
            <a:xfrm>
              <a:off x="6934320" y="25909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9" name="Oval 69"/>
            <p:cNvSpPr/>
            <p:nvPr/>
          </p:nvSpPr>
          <p:spPr>
            <a:xfrm>
              <a:off x="6934320" y="32767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Oval 70"/>
            <p:cNvSpPr/>
            <p:nvPr/>
          </p:nvSpPr>
          <p:spPr>
            <a:xfrm>
              <a:off x="6934320" y="39625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1" name="Oval 71"/>
            <p:cNvSpPr/>
            <p:nvPr/>
          </p:nvSpPr>
          <p:spPr>
            <a:xfrm>
              <a:off x="6934320" y="46483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2" name="Text Box 73"/>
          <p:cNvSpPr/>
          <p:nvPr/>
        </p:nvSpPr>
        <p:spPr>
          <a:xfrm>
            <a:off x="4114800" y="304812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2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5486400" y="1066680"/>
            <a:ext cx="3352680" cy="661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Quale è la pendenza della retta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2" name="Group 63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133" name="Text Box 18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5" name="Group 66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136" name="Text Box 20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8" name="Group 64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139" name="Text Box 17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41" name="Group 65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142" name="Text Box 19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4" name="Text Box 48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cedi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Line 53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9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60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post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2"/>
              <p:cNvSpPr txBox="1"/>
              <p:nvPr/>
            </p:nvSpPr>
            <p:spPr>
              <a:xfrm>
                <a:off x="5410080" y="52704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0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71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Line 75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Line 76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Rectangle 79"/>
          <p:cNvSpPr/>
          <p:nvPr/>
        </p:nvSpPr>
        <p:spPr>
          <a:xfrm>
            <a:off x="8380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orrelazione lineare e pendenza: 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2"/>
          <p:cNvSpPr/>
          <p:nvPr/>
        </p:nvSpPr>
        <p:spPr>
          <a:xfrm>
            <a:off x="2209680" y="762120"/>
            <a:ext cx="396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nsideriamo due altre grandezz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42Z</dcterms:modified>
  <cp:revision>104</cp:revision>
  <dc:subject/>
  <dc:title>GRAFICI CARTESIANI</dc:title>
</cp:coreProperties>
</file>