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21.gif" ContentType="image/gif"/>
  <Override PartName="/ppt/media/image19.png" ContentType="image/png"/>
  <Override PartName="/ppt/media/image16.gif" ContentType="image/gif"/>
  <Override PartName="/ppt/media/image2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5.png" ContentType="image/png"/>
  <Override PartName="/ppt/media/image1.gif" ContentType="image/gi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9F2-F5E0-4F1B-9628-7A62E6C6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3D5-A8DA-4D23-BA28-0B6EF6FA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3F5-D514-4789-A39D-080E2F9E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D20-F098-4C66-A011-72BB1334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D99-ED1A-4171-9185-34FBE32D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EFC-21FD-4FDF-8902-C371EB28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CF5-2757-4ABB-922A-691073F1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1F3-5EA9-482A-837F-1E357B21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9FB-C5FF-44E9-B8F8-F7D955A3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159-AFF6-4BB2-9A73-C9C6723E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585-250E-431F-8B9F-1AF95E8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831-1802-41B9-9548-EFB4BE2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4B04-4B0B-40ED-849B-24A7001F86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FEDERICO\DIDATTICA\animazioni\personaggi\AG00223_.GIF"/>
          <p:cNvPicPr/>
          <p:nvPr/>
        </p:nvPicPr>
        <p:blipFill>
          <a:blip r:embed="rId1"/>
          <a:stretch/>
        </p:blipFill>
        <p:spPr>
          <a:xfrm>
            <a:off x="2819520" y="1828800"/>
            <a:ext cx="3429000" cy="2033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Il metodo scientifico </a:t>
            </a:r>
            <a:br>
              <a:rPr sz="4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o metodo speriment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27"/>
          <p:cNvGrpSpPr/>
          <p:nvPr/>
        </p:nvGrpSpPr>
        <p:grpSpPr>
          <a:xfrm>
            <a:off x="4800600" y="4190760"/>
            <a:ext cx="3598920" cy="1220040"/>
            <a:chOff x="4800600" y="4190760"/>
            <a:chExt cx="3598920" cy="1220040"/>
          </a:xfrm>
        </p:grpSpPr>
        <p:sp>
          <p:nvSpPr>
            <p:cNvPr id="44" name="AutoShape 17"/>
            <p:cNvSpPr/>
            <p:nvPr/>
          </p:nvSpPr>
          <p:spPr>
            <a:xfrm flipV="1">
              <a:off x="4800600" y="4190400"/>
              <a:ext cx="3598920" cy="1143000"/>
            </a:xfrm>
            <a:prstGeom prst="wedgeRoundRectCallout">
              <a:avLst>
                <a:gd name="adj1" fmla="val -45958"/>
                <a:gd name="adj2" fmla="val 70000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1"/>
            <p:cNvSpPr/>
            <p:nvPr/>
          </p:nvSpPr>
          <p:spPr>
            <a:xfrm>
              <a:off x="4870440" y="4343400"/>
              <a:ext cx="3359160" cy="1067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 pensate che sia ridotto così perché ho studiato </a:t>
              </a: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Il metodo scientifico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tutta la notte …..vi sbagliate….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26"/>
          <p:cNvGrpSpPr/>
          <p:nvPr/>
        </p:nvGrpSpPr>
        <p:grpSpPr>
          <a:xfrm>
            <a:off x="4805280" y="4204800"/>
            <a:ext cx="3592440" cy="1143000"/>
            <a:chOff x="4805280" y="4204800"/>
            <a:chExt cx="3592440" cy="1143000"/>
          </a:xfrm>
        </p:grpSpPr>
        <p:sp>
          <p:nvSpPr>
            <p:cNvPr id="47" name="AutoShape 24"/>
            <p:cNvSpPr/>
            <p:nvPr/>
          </p:nvSpPr>
          <p:spPr>
            <a:xfrm flipV="1">
              <a:off x="4805280" y="4204440"/>
              <a:ext cx="3592440" cy="1143000"/>
            </a:xfrm>
            <a:prstGeom prst="wedgeRoundRectCallout">
              <a:avLst>
                <a:gd name="adj1" fmla="val -45671"/>
                <a:gd name="adj2" fmla="val 70000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5"/>
            <p:cNvSpPr/>
            <p:nvPr/>
          </p:nvSpPr>
          <p:spPr>
            <a:xfrm>
              <a:off x="4881600" y="4357440"/>
              <a:ext cx="3352680" cy="580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..ho solo fatto un po’ tardi in discoteca!!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CasellaDiTesto 11"/>
          <p:cNvSpPr/>
          <p:nvPr/>
        </p:nvSpPr>
        <p:spPr>
          <a:xfrm>
            <a:off x="2700360" y="400536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. Barbaros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69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71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1"/>
          <p:cNvSpPr/>
          <p:nvPr/>
        </p:nvSpPr>
        <p:spPr>
          <a:xfrm>
            <a:off x="1066680" y="838080"/>
            <a:ext cx="6858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 sinte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066680" y="1447920"/>
            <a:ext cx="7010640" cy="8240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todo speriment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arte dallo studio di un fenomen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stremamente più semplic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quello che si osserva in natura e soltanto a passi successivi giunge a studiare il fenomeno reale in tutta la sua complessità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066680" y="2514600"/>
            <a:ext cx="25146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osserva un fenome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828800" y="2971800"/>
            <a:ext cx="25146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formula un’ipote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2666880" y="3429000"/>
            <a:ext cx="25146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svolgono  esperimen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1"/>
          <p:cNvGrpSpPr/>
          <p:nvPr/>
        </p:nvGrpSpPr>
        <p:grpSpPr>
          <a:xfrm>
            <a:off x="609480" y="3657600"/>
            <a:ext cx="2514600" cy="794520"/>
            <a:chOff x="609480" y="3657600"/>
            <a:chExt cx="2514600" cy="794520"/>
          </a:xfrm>
        </p:grpSpPr>
        <p:sp>
          <p:nvSpPr>
            <p:cNvPr id="180" name="Text Box 17"/>
            <p:cNvSpPr/>
            <p:nvPr/>
          </p:nvSpPr>
          <p:spPr>
            <a:xfrm>
              <a:off x="609480" y="4114800"/>
              <a:ext cx="2514600" cy="33732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i confermano le ipotes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>
              <a:off x="2133720" y="365760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2"/>
          <p:cNvGrpSpPr/>
          <p:nvPr/>
        </p:nvGrpSpPr>
        <p:grpSpPr>
          <a:xfrm>
            <a:off x="5334120" y="3733920"/>
            <a:ext cx="3047760" cy="641880"/>
            <a:chOff x="5334120" y="3733920"/>
            <a:chExt cx="3047760" cy="641880"/>
          </a:xfrm>
        </p:grpSpPr>
        <p:sp>
          <p:nvSpPr>
            <p:cNvPr id="183" name="Text Box 18"/>
            <p:cNvSpPr/>
            <p:nvPr/>
          </p:nvSpPr>
          <p:spPr>
            <a:xfrm>
              <a:off x="5410080" y="4038480"/>
              <a:ext cx="297180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n si confermano le ipotes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5334120" y="3733920"/>
              <a:ext cx="6094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22"/>
          <p:cNvSpPr/>
          <p:nvPr/>
        </p:nvSpPr>
        <p:spPr>
          <a:xfrm>
            <a:off x="609480" y="4800600"/>
            <a:ext cx="2514600" cy="3373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formula una leg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09480" y="5638680"/>
            <a:ext cx="3048120" cy="580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a legge si prevedono altri fenomeni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5410080" y="4724280"/>
            <a:ext cx="2819520" cy="580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abbandona o si modifica l’ipote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0"/>
          <p:cNvSpPr/>
          <p:nvPr/>
        </p:nvSpPr>
        <p:spPr>
          <a:xfrm>
            <a:off x="4648320" y="2933640"/>
            <a:ext cx="4572000" cy="3606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3606840"/>
              <a:gd name="textAreaBottom" fmla="*/ 3607200 h 3606840"/>
            </a:gdLst>
            <a:ahLst/>
            <a:rect l="textAreaLeft" t="textAreaTop" r="textAreaRight" b="textAreaBottom"/>
            <a:pathLst>
              <a:path w="2880" h="2272">
                <a:moveTo>
                  <a:pt x="1008" y="1608"/>
                </a:moveTo>
                <a:cubicBezTo>
                  <a:pt x="1044" y="1768"/>
                  <a:pt x="1080" y="1928"/>
                  <a:pt x="1296" y="1992"/>
                </a:cubicBezTo>
                <a:cubicBezTo>
                  <a:pt x="1512" y="2056"/>
                  <a:pt x="2104" y="2272"/>
                  <a:pt x="2304" y="1992"/>
                </a:cubicBezTo>
                <a:cubicBezTo>
                  <a:pt x="2504" y="1712"/>
                  <a:pt x="2880" y="624"/>
                  <a:pt x="2496" y="312"/>
                </a:cubicBezTo>
                <a:cubicBezTo>
                  <a:pt x="2112" y="0"/>
                  <a:pt x="1056" y="60"/>
                  <a:pt x="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…c’era una volta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91" name="Text Box 3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4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93" name="Picture 5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6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7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96" name="Object 0"/>
          <p:cNvGraphicFramePr/>
          <p:nvPr/>
        </p:nvGraphicFramePr>
        <p:xfrm>
          <a:off x="457200" y="1371600"/>
          <a:ext cx="2924280" cy="17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29242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25"/>
          <p:cNvSpPr/>
          <p:nvPr/>
        </p:nvSpPr>
        <p:spPr>
          <a:xfrm>
            <a:off x="1752480" y="1600200"/>
            <a:ext cx="6400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lileo Galile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(1564 – 1642),osservando i corpi che cadono, si convince che tutti corpi, indipendentemente dal loro peso, cadono con la stessa velocità, e che tale velocità cresce in modo uniforme durante il tempo di caduta…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609480" y="3429000"/>
            <a:ext cx="76201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Decide perciò di dimostrare la validità della sua idea (ipotesi) portando come </a:t>
            </a:r>
            <a:r>
              <a:rPr b="0" lang="it-IT" sz="2400" spc="-1" strike="noStrike" u="sng">
                <a:solidFill>
                  <a:srgbClr val="3333cc"/>
                </a:solidFill>
                <a:uFillTx/>
                <a:latin typeface="Arial"/>
              </a:rPr>
              <a:t>prova risultati di esperimenti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57200" y="4876920"/>
            <a:ext cx="3733920" cy="131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Ma la caduta di un corpo si dimostra </a:t>
            </a:r>
            <a:r>
              <a:rPr b="0" lang="it-IT" sz="2000" spc="-1" strike="noStrike" u="sng">
                <a:solidFill>
                  <a:srgbClr val="cc3300"/>
                </a:solidFill>
                <a:uFillTx/>
                <a:latin typeface="Arial"/>
              </a:rPr>
              <a:t>troppo rapida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per essere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misurata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durante un esperimento……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800600" y="4876920"/>
            <a:ext cx="3733920" cy="100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Così, Galileo, deve cercare un modo per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semplificare il problema…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7" descr="D:\FEDERICO\DIDATTICA\animazioni\personaggi\AG00362_.GIF"/>
          <p:cNvPicPr/>
          <p:nvPr/>
        </p:nvPicPr>
        <p:blipFill>
          <a:blip r:embed="rId5"/>
          <a:stretch/>
        </p:blipFill>
        <p:spPr>
          <a:xfrm>
            <a:off x="6934320" y="2209680"/>
            <a:ext cx="1303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un esempi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205" name="Text Box 4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207" name="Picture 6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Picture 7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 Box 8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10" name="Object 9"/>
          <p:cNvGraphicFramePr/>
          <p:nvPr/>
        </p:nvGraphicFramePr>
        <p:xfrm>
          <a:off x="6019920" y="1371600"/>
          <a:ext cx="2923920" cy="17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371600"/>
                    <a:ext cx="292392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12"/>
          <p:cNvSpPr/>
          <p:nvPr/>
        </p:nvSpPr>
        <p:spPr>
          <a:xfrm>
            <a:off x="685800" y="1523880"/>
            <a:ext cx="51814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Inventa, per questo, un esperimento più semplice: </a:t>
            </a:r>
            <a:r>
              <a:rPr b="0" i="1" lang="it-IT" sz="2400" spc="-1" strike="noStrike">
                <a:solidFill>
                  <a:srgbClr val="cc3300"/>
                </a:solidFill>
                <a:latin typeface="Arial"/>
              </a:rPr>
              <a:t>la “caduta” di un corpo lungo un piano inclinato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685800" y="3048120"/>
            <a:ext cx="7467480" cy="131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In fondo - pensa Galileo - un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“piano verticale”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non è altro che un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“piano molto inclinato”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ed il comportamento di un corpo che scende lungo un piano inclinato deve osservare le stesse regole di un corpo che cade verticalmente………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861840" y="5213160"/>
            <a:ext cx="1705320" cy="69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117240" y="4609440"/>
            <a:ext cx="130932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2"/>
          <p:cNvSpPr/>
          <p:nvPr/>
        </p:nvSpPr>
        <p:spPr>
          <a:xfrm>
            <a:off x="6172200" y="4572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4"/>
          <p:cNvGrpSpPr/>
          <p:nvPr/>
        </p:nvGrpSpPr>
        <p:grpSpPr>
          <a:xfrm>
            <a:off x="914400" y="5029200"/>
            <a:ext cx="457200" cy="304920"/>
            <a:chOff x="914400" y="5029200"/>
            <a:chExt cx="457200" cy="304920"/>
          </a:xfrm>
        </p:grpSpPr>
        <p:sp>
          <p:nvSpPr>
            <p:cNvPr id="218" name="Oval 17"/>
            <p:cNvSpPr/>
            <p:nvPr/>
          </p:nvSpPr>
          <p:spPr>
            <a:xfrm>
              <a:off x="914400" y="5029200"/>
              <a:ext cx="270000" cy="2649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>
              <a:off x="1066680" y="5181480"/>
              <a:ext cx="3049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5"/>
          <p:cNvGrpSpPr/>
          <p:nvPr/>
        </p:nvGrpSpPr>
        <p:grpSpPr>
          <a:xfrm>
            <a:off x="1828800" y="5410080"/>
            <a:ext cx="457200" cy="304920"/>
            <a:chOff x="1828800" y="5410080"/>
            <a:chExt cx="457200" cy="304920"/>
          </a:xfrm>
        </p:grpSpPr>
        <p:sp>
          <p:nvSpPr>
            <p:cNvPr id="221" name="Oval 19"/>
            <p:cNvSpPr/>
            <p:nvPr/>
          </p:nvSpPr>
          <p:spPr>
            <a:xfrm>
              <a:off x="1828800" y="54100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8"/>
            <p:cNvSpPr/>
            <p:nvPr/>
          </p:nvSpPr>
          <p:spPr>
            <a:xfrm>
              <a:off x="1981080" y="5562720"/>
              <a:ext cx="3049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6"/>
          <p:cNvGrpSpPr/>
          <p:nvPr/>
        </p:nvGrpSpPr>
        <p:grpSpPr>
          <a:xfrm>
            <a:off x="3276720" y="4572000"/>
            <a:ext cx="380880" cy="380880"/>
            <a:chOff x="3276720" y="4572000"/>
            <a:chExt cx="380880" cy="380880"/>
          </a:xfrm>
        </p:grpSpPr>
        <p:sp>
          <p:nvSpPr>
            <p:cNvPr id="224" name="Oval 23"/>
            <p:cNvSpPr/>
            <p:nvPr/>
          </p:nvSpPr>
          <p:spPr>
            <a:xfrm>
              <a:off x="3276720" y="4572000"/>
              <a:ext cx="269640" cy="2649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0"/>
            <p:cNvSpPr/>
            <p:nvPr/>
          </p:nvSpPr>
          <p:spPr>
            <a:xfrm>
              <a:off x="3429000" y="472428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37"/>
          <p:cNvGrpSpPr/>
          <p:nvPr/>
        </p:nvGrpSpPr>
        <p:grpSpPr>
          <a:xfrm>
            <a:off x="3886200" y="5181480"/>
            <a:ext cx="380880" cy="381240"/>
            <a:chOff x="3886200" y="5181480"/>
            <a:chExt cx="380880" cy="381240"/>
          </a:xfrm>
        </p:grpSpPr>
        <p:sp>
          <p:nvSpPr>
            <p:cNvPr id="227" name="Oval 24"/>
            <p:cNvSpPr/>
            <p:nvPr/>
          </p:nvSpPr>
          <p:spPr>
            <a:xfrm>
              <a:off x="3886200" y="51814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1"/>
            <p:cNvSpPr/>
            <p:nvPr/>
          </p:nvSpPr>
          <p:spPr>
            <a:xfrm>
              <a:off x="4038480" y="533412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38"/>
          <p:cNvGrpSpPr/>
          <p:nvPr/>
        </p:nvGrpSpPr>
        <p:grpSpPr>
          <a:xfrm>
            <a:off x="6172200" y="4495680"/>
            <a:ext cx="270000" cy="457200"/>
            <a:chOff x="6172200" y="4495680"/>
            <a:chExt cx="270000" cy="457200"/>
          </a:xfrm>
        </p:grpSpPr>
        <p:sp>
          <p:nvSpPr>
            <p:cNvPr id="230" name="Oval 25"/>
            <p:cNvSpPr/>
            <p:nvPr/>
          </p:nvSpPr>
          <p:spPr>
            <a:xfrm>
              <a:off x="6172200" y="44956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6324480" y="46483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39"/>
          <p:cNvGrpSpPr/>
          <p:nvPr/>
        </p:nvGrpSpPr>
        <p:grpSpPr>
          <a:xfrm>
            <a:off x="6172200" y="5410080"/>
            <a:ext cx="270000" cy="457200"/>
            <a:chOff x="6172200" y="5410080"/>
            <a:chExt cx="270000" cy="457200"/>
          </a:xfrm>
        </p:grpSpPr>
        <p:sp>
          <p:nvSpPr>
            <p:cNvPr id="233" name="Oval 26"/>
            <p:cNvSpPr/>
            <p:nvPr/>
          </p:nvSpPr>
          <p:spPr>
            <a:xfrm>
              <a:off x="6172200" y="54100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>
              <a:off x="6324480" y="55627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c’era una volta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237" name="Text Box 4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239" name="Picture 6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7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Text Box 8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42" name="Object 0"/>
          <p:cNvGraphicFramePr/>
          <p:nvPr/>
        </p:nvGraphicFramePr>
        <p:xfrm>
          <a:off x="3352680" y="1371600"/>
          <a:ext cx="2924280" cy="17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371600"/>
                    <a:ext cx="29242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AutoShape 10"/>
          <p:cNvSpPr/>
          <p:nvPr/>
        </p:nvSpPr>
        <p:spPr>
          <a:xfrm>
            <a:off x="533520" y="2514600"/>
            <a:ext cx="7696080" cy="1066680"/>
          </a:xfrm>
          <a:prstGeom prst="rtTriangl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8"/>
          <p:cNvGrpSpPr/>
          <p:nvPr/>
        </p:nvGrpSpPr>
        <p:grpSpPr>
          <a:xfrm>
            <a:off x="762120" y="2209680"/>
            <a:ext cx="304560" cy="1371600"/>
            <a:chOff x="762120" y="2209680"/>
            <a:chExt cx="304560" cy="1371600"/>
          </a:xfrm>
        </p:grpSpPr>
        <p:sp>
          <p:nvSpPr>
            <p:cNvPr id="246" name="Oval 12"/>
            <p:cNvSpPr/>
            <p:nvPr/>
          </p:nvSpPr>
          <p:spPr>
            <a:xfrm>
              <a:off x="762120" y="22096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914400" y="2666880"/>
              <a:ext cx="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9"/>
          <p:cNvGrpSpPr/>
          <p:nvPr/>
        </p:nvGrpSpPr>
        <p:grpSpPr>
          <a:xfrm>
            <a:off x="1219320" y="2286000"/>
            <a:ext cx="304560" cy="1295280"/>
            <a:chOff x="1219320" y="2286000"/>
            <a:chExt cx="304560" cy="1295280"/>
          </a:xfrm>
        </p:grpSpPr>
        <p:sp>
          <p:nvSpPr>
            <p:cNvPr id="249" name="Line 15"/>
            <p:cNvSpPr/>
            <p:nvPr/>
          </p:nvSpPr>
          <p:spPr>
            <a:xfrm>
              <a:off x="1371600" y="28195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6"/>
            <p:cNvSpPr/>
            <p:nvPr/>
          </p:nvSpPr>
          <p:spPr>
            <a:xfrm>
              <a:off x="1219320" y="22860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0"/>
          <p:cNvGrpSpPr/>
          <p:nvPr/>
        </p:nvGrpSpPr>
        <p:grpSpPr>
          <a:xfrm>
            <a:off x="2590920" y="2514600"/>
            <a:ext cx="304560" cy="1066680"/>
            <a:chOff x="2590920" y="2514600"/>
            <a:chExt cx="304560" cy="1066680"/>
          </a:xfrm>
        </p:grpSpPr>
        <p:sp>
          <p:nvSpPr>
            <p:cNvPr id="252" name="Line 18"/>
            <p:cNvSpPr/>
            <p:nvPr/>
          </p:nvSpPr>
          <p:spPr>
            <a:xfrm>
              <a:off x="2743200" y="297180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9"/>
            <p:cNvSpPr/>
            <p:nvPr/>
          </p:nvSpPr>
          <p:spPr>
            <a:xfrm>
              <a:off x="2590920" y="25146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1"/>
          <p:cNvGrpSpPr/>
          <p:nvPr/>
        </p:nvGrpSpPr>
        <p:grpSpPr>
          <a:xfrm>
            <a:off x="4648320" y="2743200"/>
            <a:ext cx="304560" cy="838080"/>
            <a:chOff x="4648320" y="2743200"/>
            <a:chExt cx="304560" cy="838080"/>
          </a:xfrm>
        </p:grpSpPr>
        <p:sp>
          <p:nvSpPr>
            <p:cNvPr id="255" name="Line 21"/>
            <p:cNvSpPr/>
            <p:nvPr/>
          </p:nvSpPr>
          <p:spPr>
            <a:xfrm>
              <a:off x="4800600" y="312408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2"/>
            <p:cNvSpPr/>
            <p:nvPr/>
          </p:nvSpPr>
          <p:spPr>
            <a:xfrm>
              <a:off x="4648320" y="27432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2"/>
          <p:cNvGrpSpPr/>
          <p:nvPr/>
        </p:nvGrpSpPr>
        <p:grpSpPr>
          <a:xfrm>
            <a:off x="7086600" y="3048120"/>
            <a:ext cx="304920" cy="533160"/>
            <a:chOff x="7086600" y="3048120"/>
            <a:chExt cx="304920" cy="533160"/>
          </a:xfrm>
        </p:grpSpPr>
        <p:sp>
          <p:nvSpPr>
            <p:cNvPr id="258" name="Line 24"/>
            <p:cNvSpPr/>
            <p:nvPr/>
          </p:nvSpPr>
          <p:spPr>
            <a:xfrm>
              <a:off x="7239240" y="3429000"/>
              <a:ext cx="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5"/>
            <p:cNvSpPr/>
            <p:nvPr/>
          </p:nvSpPr>
          <p:spPr>
            <a:xfrm>
              <a:off x="7086600" y="3048120"/>
              <a:ext cx="304920" cy="304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26"/>
          <p:cNvSpPr/>
          <p:nvPr/>
        </p:nvSpPr>
        <p:spPr>
          <a:xfrm>
            <a:off x="609480" y="3809880"/>
            <a:ext cx="792504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’aiuto di u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rologio ad acqu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appositamente costruito per questo esperimento, Galileo dimostra, attraverso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misur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spazio e di tempo, che 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paz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rcorso dalla sfera lungo il piano inclinato, cresce in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modo direttamente proporzion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l quadrato 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emp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mpiegato a scende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7"/>
          <p:cNvSpPr/>
          <p:nvPr/>
        </p:nvSpPr>
        <p:spPr>
          <a:xfrm>
            <a:off x="609480" y="5257800"/>
            <a:ext cx="7925040" cy="91692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lileo compie questi esperimenti utilizzand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ani con diverse inclinazioni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tutte le volte ottie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misure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che confermano la sua ipotes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…c’era una volta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264" name="Text Box 4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5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266" name="Picture 6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7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8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51"/>
          <p:cNvSpPr/>
          <p:nvPr/>
        </p:nvSpPr>
        <p:spPr>
          <a:xfrm>
            <a:off x="533520" y="1752480"/>
            <a:ext cx="7924680" cy="11912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Galileo dimostra così, che le leggi fisiche possono essere formulate </a:t>
            </a: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</a:rPr>
              <a:t>in modo matematico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 e </a:t>
            </a: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</a:rPr>
              <a:t>comprovate sperimental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4" descr="E:\PFILES\MSOFFICE\CLIPART\HOMEANIM\AG00316_.GIF"/>
          <p:cNvPicPr/>
          <p:nvPr/>
        </p:nvPicPr>
        <p:blipFill>
          <a:blip r:embed="rId3"/>
          <a:stretch/>
        </p:blipFill>
        <p:spPr>
          <a:xfrm>
            <a:off x="685800" y="3809880"/>
            <a:ext cx="1566720" cy="25146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55"/>
          <p:cNvSpPr/>
          <p:nvPr/>
        </p:nvSpPr>
        <p:spPr>
          <a:xfrm>
            <a:off x="2971800" y="3124080"/>
            <a:ext cx="5715000" cy="1447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Tutto questo è molto bello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Ma……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7"/>
          <p:cNvSpPr/>
          <p:nvPr/>
        </p:nvSpPr>
        <p:spPr>
          <a:xfrm>
            <a:off x="3048120" y="3124080"/>
            <a:ext cx="5715000" cy="1447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"/>
              </a:rPr>
              <a:t>Quando suona l’intervall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52"/>
          <p:cNvGraphicFramePr/>
          <p:nvPr/>
        </p:nvGraphicFramePr>
        <p:xfrm>
          <a:off x="7696080" y="609480"/>
          <a:ext cx="129060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609480"/>
                    <a:ext cx="12906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49"/>
          <p:cNvGraphicFramePr/>
          <p:nvPr/>
        </p:nvGraphicFramePr>
        <p:xfrm>
          <a:off x="2971800" y="1371600"/>
          <a:ext cx="205740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371600"/>
                    <a:ext cx="2057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48"/>
          <p:cNvGraphicFramePr/>
          <p:nvPr/>
        </p:nvGraphicFramePr>
        <p:xfrm>
          <a:off x="5257800" y="380880"/>
          <a:ext cx="205740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380880"/>
                    <a:ext cx="20574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26"/>
          <p:cNvGraphicFramePr/>
          <p:nvPr/>
        </p:nvGraphicFramePr>
        <p:xfrm>
          <a:off x="0" y="0"/>
          <a:ext cx="2286000" cy="21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228600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2"/>
          <p:cNvSpPr/>
          <p:nvPr/>
        </p:nvSpPr>
        <p:spPr>
          <a:xfrm>
            <a:off x="4343400" y="1219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7"/>
          <p:cNvGrpSpPr/>
          <p:nvPr/>
        </p:nvGrpSpPr>
        <p:grpSpPr>
          <a:xfrm>
            <a:off x="1143000" y="457200"/>
            <a:ext cx="5943240" cy="1380960"/>
            <a:chOff x="1143000" y="457200"/>
            <a:chExt cx="5943240" cy="1380960"/>
          </a:xfrm>
        </p:grpSpPr>
        <p:grpSp>
          <p:nvGrpSpPr>
            <p:cNvPr id="60" name="Group 31"/>
            <p:cNvGrpSpPr/>
            <p:nvPr/>
          </p:nvGrpSpPr>
          <p:grpSpPr>
            <a:xfrm>
              <a:off x="1143000" y="457200"/>
              <a:ext cx="5943240" cy="1380960"/>
              <a:chOff x="1143000" y="457200"/>
              <a:chExt cx="5943240" cy="1380960"/>
            </a:xfrm>
          </p:grpSpPr>
          <p:pic>
            <p:nvPicPr>
              <p:cNvPr id="61" name="Picture 30" descr="D:\FEDERICO\DIDATTICA\animazioni\AG00346_.GIF"/>
              <p:cNvPicPr/>
              <p:nvPr/>
            </p:nvPicPr>
            <p:blipFill>
              <a:blip r:embed="rId9"/>
              <a:stretch/>
            </p:blipFill>
            <p:spPr>
              <a:xfrm>
                <a:off x="2999880" y="685800"/>
                <a:ext cx="408636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6" descr="D:\FEDERICO\DIDATTICA\animazioni\vetture\BD13659_.GIF"/>
              <p:cNvPicPr/>
              <p:nvPr/>
            </p:nvPicPr>
            <p:blipFill>
              <a:blip r:embed="rId10"/>
              <a:stretch/>
            </p:blipFill>
            <p:spPr>
              <a:xfrm>
                <a:off x="1143000" y="457200"/>
                <a:ext cx="3121560" cy="1380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Text Box 33"/>
            <p:cNvSpPr/>
            <p:nvPr/>
          </p:nvSpPr>
          <p:spPr>
            <a:xfrm>
              <a:off x="4419360" y="914400"/>
              <a:ext cx="259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ff3300"/>
                  </a:solidFill>
                  <a:latin typeface="Arial"/>
                </a:rPr>
                <a:t>Metodo scientifico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" name="Object 50"/>
          <p:cNvGraphicFramePr/>
          <p:nvPr/>
        </p:nvGraphicFramePr>
        <p:xfrm>
          <a:off x="457200" y="1905120"/>
          <a:ext cx="205740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905120"/>
                    <a:ext cx="2057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53"/>
          <p:cNvSpPr/>
          <p:nvPr/>
        </p:nvSpPr>
        <p:spPr>
          <a:xfrm>
            <a:off x="4419720" y="2514600"/>
            <a:ext cx="4267080" cy="82404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osserveremmo da u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unto di vista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cui non siamo abituati…ma che potrebbe risultare interessan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4"/>
          <p:cNvSpPr/>
          <p:nvPr/>
        </p:nvSpPr>
        <p:spPr>
          <a:xfrm>
            <a:off x="380880" y="2438280"/>
            <a:ext cx="38862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i siete mai chiesti come sarebbero, viste dall’alto, molte delle cose che osserviamo quotidianament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7"/>
          <p:cNvSpPr/>
          <p:nvPr/>
        </p:nvSpPr>
        <p:spPr>
          <a:xfrm>
            <a:off x="304920" y="3429000"/>
            <a:ext cx="8381880" cy="141012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SCIENZE (come la fisica, la chimica, la biologia, ecc) ci offrono nuov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“punti di vista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i quale guardare molte delle cose che già pensiamo di conoscere bene e ci danno l’opportunità di comprendere i piccoli e grandi “misteri” che accompagnano gli eventi naturali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8"/>
          <p:cNvSpPr/>
          <p:nvPr/>
        </p:nvSpPr>
        <p:spPr>
          <a:xfrm>
            <a:off x="380880" y="4929120"/>
            <a:ext cx="8305920" cy="5806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iaggeremo, con il nostro </a:t>
            </a:r>
            <a:r>
              <a:rPr b="1" i="1" lang="it-IT" sz="1600" spc="-1" strike="noStrike">
                <a:solidFill>
                  <a:srgbClr val="3333cc"/>
                </a:solidFill>
                <a:latin typeface="Arial"/>
              </a:rPr>
              <a:t>autobus tra le nuvole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l mondo che ci circonda, tentando di comprendere i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fenomeni natura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cercando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e leggi genera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he li governano.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1447920" y="5648400"/>
            <a:ext cx="64767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nostro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utobus tra le nuvo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 sarà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l’aula laborator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ma attenzione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ale solo chi è curioso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D:\FEDERICO\DIDATTICA\animazioni\AG00432_.GIF"/>
          <p:cNvPicPr/>
          <p:nvPr/>
        </p:nvPicPr>
        <p:blipFill>
          <a:blip r:embed="rId1"/>
          <a:stretch/>
        </p:blipFill>
        <p:spPr>
          <a:xfrm>
            <a:off x="5029200" y="4952880"/>
            <a:ext cx="136044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D:\FEDERICO\DIDATTICA\animazioni\AG00005_.GIF"/>
          <p:cNvPicPr/>
          <p:nvPr/>
        </p:nvPicPr>
        <p:blipFill>
          <a:blip r:embed="rId2"/>
          <a:stretch/>
        </p:blipFill>
        <p:spPr>
          <a:xfrm>
            <a:off x="4876920" y="2743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:\FEDERICO\DIDATTICA\animazioni\AG00435_.GIF"/>
          <p:cNvPicPr/>
          <p:nvPr/>
        </p:nvPicPr>
        <p:blipFill>
          <a:blip r:embed="rId3"/>
          <a:stretch/>
        </p:blipFill>
        <p:spPr>
          <a:xfrm>
            <a:off x="7238880" y="1981080"/>
            <a:ext cx="1406520" cy="133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:\FEDERICO\DIDATTICA\animazioni\varie\rubinetto.gif"/>
          <p:cNvPicPr/>
          <p:nvPr/>
        </p:nvPicPr>
        <p:blipFill>
          <a:blip r:embed="rId4"/>
          <a:stretch/>
        </p:blipFill>
        <p:spPr>
          <a:xfrm>
            <a:off x="6248520" y="3886200"/>
            <a:ext cx="777600" cy="712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:\FEDERICO\DIDATTICA\animazioni\personaggi\AG00362_.GIF"/>
          <p:cNvPicPr/>
          <p:nvPr/>
        </p:nvPicPr>
        <p:blipFill>
          <a:blip r:embed="rId5"/>
          <a:stretch/>
        </p:blipFill>
        <p:spPr>
          <a:xfrm>
            <a:off x="3200400" y="838080"/>
            <a:ext cx="1303200" cy="1200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533520" y="1447920"/>
            <a:ext cx="25905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Perché i corpi cadon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114800" y="2133720"/>
            <a:ext cx="3048120" cy="33732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Come si formano le nuvol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33520" y="2971800"/>
            <a:ext cx="42670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Arial"/>
              </a:rPr>
              <a:t>Come fa la lampadina ad accendersi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276720" y="3886200"/>
            <a:ext cx="259056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e fa l’acqua ad uscire dal rubinett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286000" y="5105520"/>
            <a:ext cx="25909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Perché la luna non cade sulla terr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6"/>
          <p:cNvGrpSpPr/>
          <p:nvPr/>
        </p:nvGrpSpPr>
        <p:grpSpPr>
          <a:xfrm>
            <a:off x="1066680" y="228600"/>
            <a:ext cx="6934320" cy="783720"/>
            <a:chOff x="1066680" y="228600"/>
            <a:chExt cx="6934320" cy="783720"/>
          </a:xfrm>
        </p:grpSpPr>
        <p:sp>
          <p:nvSpPr>
            <p:cNvPr id="82" name="Text Box 5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22"/>
            <p:cNvGrpSpPr/>
            <p:nvPr/>
          </p:nvGrpSpPr>
          <p:grpSpPr>
            <a:xfrm>
              <a:off x="2819520" y="228600"/>
              <a:ext cx="3504960" cy="783720"/>
              <a:chOff x="2819520" y="228600"/>
              <a:chExt cx="3504960" cy="783720"/>
            </a:xfrm>
          </p:grpSpPr>
          <p:pic>
            <p:nvPicPr>
              <p:cNvPr id="84" name="Picture 23" descr="D:\FEDERICO\DIDATTICA\animazioni\AG00346_.GIF"/>
              <p:cNvPicPr/>
              <p:nvPr/>
            </p:nvPicPr>
            <p:blipFill>
              <a:blip r:embed="rId6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24" descr="D:\FEDERICO\DIDATTICA\animazioni\vetture\BD13659_.GIF"/>
              <p:cNvPicPr/>
              <p:nvPr/>
            </p:nvPicPr>
            <p:blipFill>
              <a:blip r:embed="rId7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Text Box 25"/>
              <p:cNvSpPr/>
              <p:nvPr/>
            </p:nvSpPr>
            <p:spPr>
              <a:xfrm>
                <a:off x="4419720" y="380880"/>
                <a:ext cx="1904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1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88" name="Text Box 12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3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90" name="Picture 14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15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Text Box 16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Text Box 18"/>
          <p:cNvSpPr/>
          <p:nvPr/>
        </p:nvSpPr>
        <p:spPr>
          <a:xfrm>
            <a:off x="685800" y="1143000"/>
            <a:ext cx="77724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ante domande ancora, come quelle che abbiamo appena visto, potremmo porci? E quali risposte ci sentiremmo di dare, oggi, con le conoscenze che abbiamo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685800" y="2057400"/>
            <a:ext cx="6629400" cy="58068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utti i fenomeni naturali possono essere studiati: prendiamone in considerazione uno qualsiasi, ad esempio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i="1" lang="it-IT" sz="1600" spc="-1" strike="noStrike">
                <a:solidFill>
                  <a:srgbClr val="3333cc"/>
                </a:solidFill>
                <a:latin typeface="Arial"/>
              </a:rPr>
              <a:t>pioggia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2" descr="E:\PFILES\MSOFFICE\CLIPART\HOMEANIM\AG00503_.GIF"/>
          <p:cNvPicPr/>
          <p:nvPr/>
        </p:nvPicPr>
        <p:blipFill>
          <a:blip r:embed="rId3"/>
          <a:stretch/>
        </p:blipFill>
        <p:spPr>
          <a:xfrm>
            <a:off x="6553080" y="1905120"/>
            <a:ext cx="1749600" cy="13366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4"/>
          <p:cNvSpPr/>
          <p:nvPr/>
        </p:nvSpPr>
        <p:spPr>
          <a:xfrm>
            <a:off x="762120" y="2895480"/>
            <a:ext cx="2971800" cy="8240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pioggia è un fenomeno naturale molto comune e, quindi,facilmente osservabi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4114800" y="3048120"/>
            <a:ext cx="2743200" cy="82404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utti sanno cos’è la pioggia e sono in grado di riconoscer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914400" y="4114800"/>
            <a:ext cx="59436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uomo ha sfruttato le proprie conoscenze tecniche ed ha inventato l’ ombrello per ripararsi dalla pioggi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914400" y="5105520"/>
            <a:ext cx="7162920" cy="82548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Tuttavia, se vogliamo “studiare” un fenomeno, non possiamo limitarci ad “aprire l’ombrello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01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03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Rectangle 12"/>
          <p:cNvSpPr/>
          <p:nvPr/>
        </p:nvSpPr>
        <p:spPr>
          <a:xfrm>
            <a:off x="838080" y="990720"/>
            <a:ext cx="7239240" cy="58068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udiare un fenomeno signific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sservarlo attentamen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quindi porsi delle domande e cercare delle ripos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457200" y="1828800"/>
            <a:ext cx="2743200" cy="3373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cade proprio acqu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457200" y="2286000"/>
            <a:ext cx="22096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l’acqua cade sotto forma di gocc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457200" y="2971800"/>
            <a:ext cx="19051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ale velocità scende l’ acqu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457200" y="3733920"/>
            <a:ext cx="213372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 dove provien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2895480" y="2666880"/>
            <a:ext cx="2743200" cy="33732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 quale altezza scend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5943600" y="2666880"/>
            <a:ext cx="2514600" cy="58068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non piove quando il cielo è seren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2971800" y="3200400"/>
            <a:ext cx="2743200" cy="58068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talvolta la pioggia si trasforma in nev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3505320" y="1828800"/>
            <a:ext cx="2743200" cy="58068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ove va la pioggia che cade sulla terr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6095880" y="3429000"/>
            <a:ext cx="1752840" cy="3373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380880" y="4495680"/>
            <a:ext cx="48006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i accorgiamo che il fenomeno, anche se naturale e molto comune, è tutt’altro che semplice: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non possiamo rispondere contemporaneamente a tutte le domand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6"/>
          <p:cNvGrpSpPr/>
          <p:nvPr/>
        </p:nvGrpSpPr>
        <p:grpSpPr>
          <a:xfrm>
            <a:off x="4800600" y="4724280"/>
            <a:ext cx="2895480" cy="1216080"/>
            <a:chOff x="4800600" y="4724280"/>
            <a:chExt cx="2895480" cy="1216080"/>
          </a:xfrm>
        </p:grpSpPr>
        <p:pic>
          <p:nvPicPr>
            <p:cNvPr id="118" name="Picture 24" descr="E:\PFILES\MSOFFICE\CLIPART\HOMEANIM\AG00013_.GIF"/>
            <p:cNvPicPr/>
            <p:nvPr/>
          </p:nvPicPr>
          <p:blipFill>
            <a:blip r:embed="rId3"/>
            <a:stretch/>
          </p:blipFill>
          <p:spPr>
            <a:xfrm>
              <a:off x="4800600" y="4724280"/>
              <a:ext cx="144792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25"/>
            <p:cNvSpPr/>
            <p:nvPr/>
          </p:nvSpPr>
          <p:spPr>
            <a:xfrm>
              <a:off x="6095880" y="4952880"/>
              <a:ext cx="16002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3300"/>
                  </a:solidFill>
                  <a:latin typeface="Arial"/>
                </a:rPr>
                <a:t>Che fare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21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23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Picture 12" descr="E:\PFILES\MSOFFICE\CLIPART\HOMEANIM\AG00317_.GIF"/>
          <p:cNvPicPr/>
          <p:nvPr/>
        </p:nvPicPr>
        <p:blipFill>
          <a:blip r:embed="rId3"/>
          <a:stretch/>
        </p:blipFill>
        <p:spPr>
          <a:xfrm>
            <a:off x="1371600" y="1523880"/>
            <a:ext cx="919080" cy="1333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3"/>
          <p:cNvSpPr/>
          <p:nvPr/>
        </p:nvSpPr>
        <p:spPr>
          <a:xfrm>
            <a:off x="1523880" y="1143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6"/>
          <p:cNvGrpSpPr/>
          <p:nvPr/>
        </p:nvGrpSpPr>
        <p:grpSpPr>
          <a:xfrm>
            <a:off x="2819520" y="914400"/>
            <a:ext cx="4876560" cy="762120"/>
            <a:chOff x="2819520" y="914400"/>
            <a:chExt cx="4876560" cy="762120"/>
          </a:xfrm>
        </p:grpSpPr>
        <p:sp>
          <p:nvSpPr>
            <p:cNvPr id="129" name="AutoShape 15"/>
            <p:cNvSpPr/>
            <p:nvPr/>
          </p:nvSpPr>
          <p:spPr>
            <a:xfrm>
              <a:off x="2819520" y="914400"/>
              <a:ext cx="4876560" cy="762120"/>
            </a:xfrm>
            <a:prstGeom prst="wedgeRoundRectCallout">
              <a:avLst>
                <a:gd name="adj1" fmla="val -41407"/>
                <a:gd name="adj2" fmla="val 7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2971800" y="990720"/>
              <a:ext cx="4572000" cy="58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Potremmo semplificare le cose scomponendo il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Arial"/>
                </a:rPr>
                <a:t>problema pioggia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 in tanti problemi più semplici…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2819520" y="914400"/>
            <a:ext cx="4876560" cy="762120"/>
            <a:chOff x="2819520" y="914400"/>
            <a:chExt cx="4876560" cy="762120"/>
          </a:xfrm>
        </p:grpSpPr>
        <p:sp>
          <p:nvSpPr>
            <p:cNvPr id="132" name="AutoShape 18"/>
            <p:cNvSpPr/>
            <p:nvPr/>
          </p:nvSpPr>
          <p:spPr>
            <a:xfrm>
              <a:off x="2819520" y="914400"/>
              <a:ext cx="4876560" cy="762120"/>
            </a:xfrm>
            <a:prstGeom prst="wedgeRoundRectCallout">
              <a:avLst>
                <a:gd name="adj1" fmla="val -41407"/>
                <a:gd name="adj2" fmla="val 7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9"/>
            <p:cNvSpPr/>
            <p:nvPr/>
          </p:nvSpPr>
          <p:spPr>
            <a:xfrm>
              <a:off x="2971800" y="990720"/>
              <a:ext cx="4572000" cy="58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tentando così di affrontare uno alla volta i singoli problemi che si presentan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20"/>
          <p:cNvSpPr/>
          <p:nvPr/>
        </p:nvSpPr>
        <p:spPr>
          <a:xfrm>
            <a:off x="2209680" y="914400"/>
            <a:ext cx="563904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egando la pioggia alla presenza delle nuvole nel cielo (e trascurando per ora le altre domande) potremmo fare l’ipotesi che l’acqua provenga dalle nuvo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2209680" y="2286000"/>
            <a:ext cx="5257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ovremmo, però, cercare di spiegare perché non piove anche se  spesso il cielo è pieno di  nuvole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33520" y="3048120"/>
            <a:ext cx="800100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amo cioè tentare di affrontare uno alla volta i singoli problemi che si presentano, accantonando per il momento tutti gli altri, in modo che l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 anche se imperfetta e molto parziale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a più semplice da raggiung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533520" y="4419720"/>
            <a:ext cx="7086600" cy="5806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sì facendo potrà succedere che alcune ipotesi fatte risulteranno errate o contraddittorie ed allora verranno scartat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457200" y="5257800"/>
            <a:ext cx="8305920" cy="1435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Si faranno allora nuove ipotesi fino a che, mettendo insieme 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le risposte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 che sembrano dare una spiegazione anche parziale del fenomeno, si otterrà un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eoria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più generale in grado di rispondere a tutti i </a:t>
            </a:r>
            <a:r>
              <a:rPr b="1" i="1" lang="it-IT" sz="2000" spc="-1" strike="noStrike">
                <a:solidFill>
                  <a:srgbClr val="3333cc"/>
                </a:solidFill>
                <a:latin typeface="Arial"/>
              </a:rPr>
              <a:t>perché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 che prima ci eravamo posti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40" name="Text Box 3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42" name="Picture 5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6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7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5" name="Picture 8" descr="E:\PFILES\MSOFFICE\CLIPART\HOMEANIM\AG00317_.GIF"/>
          <p:cNvPicPr/>
          <p:nvPr/>
        </p:nvPicPr>
        <p:blipFill>
          <a:blip r:embed="rId3"/>
          <a:stretch/>
        </p:blipFill>
        <p:spPr>
          <a:xfrm>
            <a:off x="1371600" y="2895480"/>
            <a:ext cx="136512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13"/>
          <p:cNvGrpSpPr/>
          <p:nvPr/>
        </p:nvGrpSpPr>
        <p:grpSpPr>
          <a:xfrm>
            <a:off x="2819520" y="2057400"/>
            <a:ext cx="4876560" cy="1315800"/>
            <a:chOff x="2819520" y="2057400"/>
            <a:chExt cx="4876560" cy="1315800"/>
          </a:xfrm>
        </p:grpSpPr>
        <p:sp>
          <p:nvSpPr>
            <p:cNvPr id="147" name="AutoShape 14"/>
            <p:cNvSpPr/>
            <p:nvPr/>
          </p:nvSpPr>
          <p:spPr>
            <a:xfrm>
              <a:off x="2819520" y="2057400"/>
              <a:ext cx="4876560" cy="1315800"/>
            </a:xfrm>
            <a:prstGeom prst="wedgeRoundRectCallout">
              <a:avLst>
                <a:gd name="adj1" fmla="val -41407"/>
                <a:gd name="adj2" fmla="val 7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2971800" y="2189160"/>
              <a:ext cx="457200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Arial"/>
                </a:rPr>
                <a:t>Ma….come cercare le risposte?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50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52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Text Box 11"/>
          <p:cNvSpPr/>
          <p:nvPr/>
        </p:nvSpPr>
        <p:spPr>
          <a:xfrm>
            <a:off x="1066680" y="838080"/>
            <a:ext cx="6858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metodo speriment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09480" y="2057400"/>
            <a:ext cx="8229600" cy="1557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’ il metodo proprio delle SCIENZE SPERIMENTALI che, partendo dall’osservazione dei fenomeni naturali, </a:t>
            </a: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si serve di esperienz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per chiarire aspetti essenziali dei fenomeni stessi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457200" y="4572000"/>
            <a:ext cx="830592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ndatore del </a:t>
            </a: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metodo speriment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fu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Galileo Galilei (1564 – 164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868680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84582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8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62" name="Text Box 9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0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64" name="Picture 11" descr="D:\FEDERICO\DIDATTICA\animazioni\AG00346_.GIF"/>
              <p:cNvPicPr/>
              <p:nvPr/>
            </p:nvPicPr>
            <p:blipFill>
              <a:blip r:embed="rId4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12" descr="D:\FEDERICO\DIDATTICA\animazioni\vetture\BD13659_.GIF"/>
              <p:cNvPicPr/>
              <p:nvPr/>
            </p:nvPicPr>
            <p:blipFill>
              <a:blip r:embed="rId5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13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4"/>
          <p:cNvSpPr/>
          <p:nvPr/>
        </p:nvSpPr>
        <p:spPr>
          <a:xfrm>
            <a:off x="1066680" y="838080"/>
            <a:ext cx="6858000" cy="39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metodo sperimentale si articola in due fas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5:07:28Z</dcterms:created>
  <dc:creator>federico barbarossa</dc:creator>
  <dc:description/>
  <dc:language>en-US</dc:language>
  <cp:lastModifiedBy>luca</cp:lastModifiedBy>
  <dcterms:modified xsi:type="dcterms:W3CDTF">2018-01-27T08:34:24Z</dcterms:modified>
  <cp:revision>36</cp:revision>
  <dc:subject/>
  <dc:title>Che cos’è la Fisica ?</dc:title>
</cp:coreProperties>
</file>