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9B9-FA80-4C16-AFDC-47CAB2D9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996-E145-4789-BE9B-3DFBDC0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E0D-C827-4488-9E76-0A8E332B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E9D-2FF1-45CB-BB21-8619A6ED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166-4E68-45DE-9B8F-4F6923D0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E9A-09C3-4577-8EA8-EC8ABF5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A2A-36FE-42BA-AE8F-2D3676C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471-00EB-4C2D-A16C-C82FDEA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B55-9AE4-4350-8045-56ED342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12C-EEA7-4874-BF22-E773849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67E-93FF-472F-ACE9-0567B39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0C9-70AF-480A-84A5-B13CA97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78F-7D2C-4BC6-8246-A82766FA77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819520" y="91440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Federico Barbarossa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666520"/>
            <a:ext cx="4496040" cy="5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Rappresentare dati e fenomeni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1</a:t>
            </a:r>
            <a:br>
              <a:rPr sz="3600"/>
            </a:br>
            <a:r>
              <a:rPr b="1" lang="it-IT" sz="3600" spc="-1" strike="noStrike">
                <a:solidFill>
                  <a:srgbClr val="00cc99"/>
                </a:solidFill>
                <a:latin typeface="Arial"/>
              </a:rPr>
              <a:t>proporzionalità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proporzionalità diretta e linguaggi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80880" y="1752480"/>
            <a:ext cx="3810240" cy="1798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  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0880" y="4572000"/>
            <a:ext cx="3810240" cy="16869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2  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 Due grandezze sono tra loro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in proporzion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ff0066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33520" y="990720"/>
            <a:ext cx="8076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Rivediamo le definizioni ed il </a:t>
            </a:r>
            <a:r>
              <a:rPr b="1" lang="it-IT" sz="1800" spc="-1" strike="noStrike" u="sng">
                <a:solidFill>
                  <a:srgbClr val="3333cc"/>
                </a:solidFill>
                <a:uFillTx/>
                <a:latin typeface="Arial"/>
              </a:rPr>
              <a:t>linguaggio matematico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1600200" y="2666880"/>
                <a:ext cx="1600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7"/>
          <p:cNvSpPr/>
          <p:nvPr/>
        </p:nvSpPr>
        <p:spPr>
          <a:xfrm>
            <a:off x="1676520" y="57913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828800" y="3886200"/>
            <a:ext cx="10666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257800" y="1752480"/>
            <a:ext cx="2895480" cy="33732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definizioni………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257800" y="2209680"/>
            <a:ext cx="2514600" cy="580680"/>
          </a:xfrm>
          <a:prstGeom prst="rect">
            <a:avLst/>
          </a:prstGeom>
          <a:solidFill>
            <a:srgbClr val="ffa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..e le due relazioni matematich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3124080" y="2666880"/>
            <a:ext cx="4038840" cy="3276720"/>
            <a:chOff x="3124080" y="2666880"/>
            <a:chExt cx="4038840" cy="3276720"/>
          </a:xfrm>
        </p:grpSpPr>
        <p:sp>
          <p:nvSpPr>
            <p:cNvPr id="237" name="Freeform 12"/>
            <p:cNvSpPr/>
            <p:nvPr/>
          </p:nvSpPr>
          <p:spPr>
            <a:xfrm>
              <a:off x="3124080" y="2666880"/>
              <a:ext cx="4038840" cy="76212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584" h="480">
                  <a:moveTo>
                    <a:pt x="2256" y="0"/>
                  </a:moveTo>
                  <a:cubicBezTo>
                    <a:pt x="2420" y="192"/>
                    <a:pt x="2584" y="384"/>
                    <a:pt x="2208" y="432"/>
                  </a:cubicBezTo>
                  <a:cubicBezTo>
                    <a:pt x="1832" y="480"/>
                    <a:pt x="916" y="384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3352680" y="2666880"/>
              <a:ext cx="3784680" cy="3276720"/>
            </a:xfrm>
            <a:custGeom>
              <a:avLst/>
              <a:gdLst>
                <a:gd name="textAreaLeft" fmla="*/ 0 w 3784680"/>
                <a:gd name="textAreaRight" fmla="*/ 3785040 w 3784680"/>
                <a:gd name="textAreaTop" fmla="*/ 0 h 3276720"/>
                <a:gd name="textAreaBottom" fmla="*/ 3277080 h 3276720"/>
              </a:gdLst>
              <a:ahLst/>
              <a:rect l="textAreaLeft" t="textAreaTop" r="textAreaRight" b="textAreaBottom"/>
              <a:pathLst>
                <a:path w="2384" h="2064">
                  <a:moveTo>
                    <a:pt x="2064" y="0"/>
                  </a:moveTo>
                  <a:cubicBezTo>
                    <a:pt x="2160" y="40"/>
                    <a:pt x="2256" y="80"/>
                    <a:pt x="2304" y="144"/>
                  </a:cubicBezTo>
                  <a:cubicBezTo>
                    <a:pt x="2352" y="208"/>
                    <a:pt x="2384" y="312"/>
                    <a:pt x="2352" y="384"/>
                  </a:cubicBezTo>
                  <a:cubicBezTo>
                    <a:pt x="2320" y="456"/>
                    <a:pt x="2256" y="536"/>
                    <a:pt x="2112" y="576"/>
                  </a:cubicBezTo>
                  <a:cubicBezTo>
                    <a:pt x="1968" y="616"/>
                    <a:pt x="1672" y="592"/>
                    <a:pt x="1488" y="624"/>
                  </a:cubicBezTo>
                  <a:cubicBezTo>
                    <a:pt x="1304" y="656"/>
                    <a:pt x="1128" y="664"/>
                    <a:pt x="1008" y="768"/>
                  </a:cubicBezTo>
                  <a:cubicBezTo>
                    <a:pt x="888" y="872"/>
                    <a:pt x="808" y="1064"/>
                    <a:pt x="768" y="1248"/>
                  </a:cubicBezTo>
                  <a:cubicBezTo>
                    <a:pt x="728" y="1432"/>
                    <a:pt x="896" y="1736"/>
                    <a:pt x="768" y="1872"/>
                  </a:cubicBezTo>
                  <a:cubicBezTo>
                    <a:pt x="640" y="2008"/>
                    <a:pt x="320" y="2036"/>
                    <a:pt x="0" y="206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39" name="Text Box 14"/>
          <p:cNvSpPr/>
          <p:nvPr/>
        </p:nvSpPr>
        <p:spPr>
          <a:xfrm>
            <a:off x="5638680" y="3886200"/>
            <a:ext cx="243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Sono equivalenti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5638680" y="4876920"/>
            <a:ext cx="1535400" cy="809640"/>
            <a:chOff x="5638680" y="4876920"/>
            <a:chExt cx="1535400" cy="809640"/>
          </a:xfrm>
        </p:grpSpPr>
        <mc:AlternateContent>
          <mc:Choice xmlns:a14="http://schemas.microsoft.com/office/drawing/2010/main" Requires="a14">
            <p:sp>
              <p:nvSpPr>
                <p:cNvPr id="241" name="Object 16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7"/>
                <p:cNvSpPr txBox="1"/>
                <p:nvPr/>
              </p:nvSpPr>
              <p:spPr>
                <a:xfrm>
                  <a:off x="6172200" y="5181480"/>
                  <a:ext cx="10018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Group 18"/>
          <p:cNvGrpSpPr/>
          <p:nvPr/>
        </p:nvGrpSpPr>
        <p:grpSpPr>
          <a:xfrm>
            <a:off x="5638680" y="4876920"/>
            <a:ext cx="990720" cy="809640"/>
            <a:chOff x="5638680" y="4876920"/>
            <a:chExt cx="990720" cy="809640"/>
          </a:xfrm>
        </p:grpSpPr>
        <p:sp>
          <p:nvSpPr>
            <p:cNvPr id="244" name="Text Box 19"/>
            <p:cNvSpPr/>
            <p:nvPr/>
          </p:nvSpPr>
          <p:spPr>
            <a:xfrm>
              <a:off x="617220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 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20"/>
                <p:cNvSpPr txBox="1"/>
                <p:nvPr/>
              </p:nvSpPr>
              <p:spPr>
                <a:xfrm>
                  <a:off x="5638680" y="4876920"/>
                  <a:ext cx="6508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21"/>
          <p:cNvGrpSpPr/>
          <p:nvPr/>
        </p:nvGrpSpPr>
        <p:grpSpPr>
          <a:xfrm>
            <a:off x="6629400" y="5105520"/>
            <a:ext cx="1219320" cy="368280"/>
            <a:chOff x="6629400" y="5105520"/>
            <a:chExt cx="1219320" cy="368280"/>
          </a:xfrm>
        </p:grpSpPr>
        <mc:AlternateContent>
          <mc:Choice xmlns:a14="http://schemas.microsoft.com/office/drawing/2010/main" Requires="a14">
            <p:sp>
              <p:nvSpPr>
                <p:cNvPr id="247" name="Object 22"/>
                <p:cNvSpPr txBox="1"/>
                <p:nvPr/>
              </p:nvSpPr>
              <p:spPr>
                <a:xfrm>
                  <a:off x="6629400" y="5105520"/>
                  <a:ext cx="10018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Text Box 23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it-IT" sz="16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49" name="Group 24"/>
          <p:cNvGrpSpPr/>
          <p:nvPr/>
        </p:nvGrpSpPr>
        <p:grpSpPr>
          <a:xfrm>
            <a:off x="5715000" y="5181120"/>
            <a:ext cx="914400" cy="457200"/>
            <a:chOff x="5715000" y="5181120"/>
            <a:chExt cx="914400" cy="457200"/>
          </a:xfrm>
        </p:grpSpPr>
        <p:sp>
          <p:nvSpPr>
            <p:cNvPr id="250" name="Line 25"/>
            <p:cNvSpPr/>
            <p:nvPr/>
          </p:nvSpPr>
          <p:spPr>
            <a:xfrm flipV="1">
              <a:off x="5715000" y="54097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V="1">
              <a:off x="6248520" y="5181120"/>
              <a:ext cx="3808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2895480" y="3352680"/>
            <a:ext cx="2667240" cy="1524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H="1">
            <a:off x="3733920" y="5486400"/>
            <a:ext cx="18288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774720" y="1981080"/>
            <a:ext cx="1663560" cy="914400"/>
            <a:chOff x="774720" y="1981080"/>
            <a:chExt cx="1663560" cy="914400"/>
          </a:xfrm>
        </p:grpSpPr>
        <p:sp>
          <p:nvSpPr>
            <p:cNvPr id="255" name="Text Box 30"/>
            <p:cNvSpPr/>
            <p:nvPr/>
          </p:nvSpPr>
          <p:spPr>
            <a:xfrm>
              <a:off x="838080" y="19810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1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774720" y="2362320"/>
              <a:ext cx="977760" cy="533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16" h="336">
                  <a:moveTo>
                    <a:pt x="88" y="0"/>
                  </a:moveTo>
                  <a:cubicBezTo>
                    <a:pt x="44" y="92"/>
                    <a:pt x="0" y="184"/>
                    <a:pt x="88" y="240"/>
                  </a:cubicBezTo>
                  <a:cubicBezTo>
                    <a:pt x="176" y="296"/>
                    <a:pt x="396" y="316"/>
                    <a:pt x="616" y="3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304920" y="3137040"/>
            <a:ext cx="1600200" cy="888840"/>
            <a:chOff x="304920" y="3137040"/>
            <a:chExt cx="1600200" cy="888840"/>
          </a:xfrm>
        </p:grpSpPr>
        <p:sp>
          <p:nvSpPr>
            <p:cNvPr id="258" name="Text Box 33"/>
            <p:cNvSpPr/>
            <p:nvPr/>
          </p:nvSpPr>
          <p:spPr>
            <a:xfrm>
              <a:off x="304920" y="365760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Grandezza 2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43080" y="3137040"/>
              <a:ext cx="1333440" cy="52056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840" h="328">
                  <a:moveTo>
                    <a:pt x="120" y="328"/>
                  </a:moveTo>
                  <a:cubicBezTo>
                    <a:pt x="60" y="204"/>
                    <a:pt x="0" y="80"/>
                    <a:pt x="120" y="40"/>
                  </a:cubicBezTo>
                  <a:cubicBezTo>
                    <a:pt x="240" y="0"/>
                    <a:pt x="720" y="72"/>
                    <a:pt x="840" y="8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2971800" y="2666880"/>
            <a:ext cx="2438280" cy="368280"/>
            <a:chOff x="2971800" y="2666880"/>
            <a:chExt cx="2438280" cy="368280"/>
          </a:xfrm>
        </p:grpSpPr>
        <p:sp>
          <p:nvSpPr>
            <p:cNvPr id="261" name="Text Box 36"/>
            <p:cNvSpPr/>
            <p:nvPr/>
          </p:nvSpPr>
          <p:spPr>
            <a:xfrm>
              <a:off x="3809880" y="266688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66"/>
                  </a:solidFill>
                  <a:latin typeface="Arial"/>
                </a:rPr>
                <a:t>Costante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>
              <a:off x="2971800" y="2705040"/>
              <a:ext cx="838080" cy="266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28" h="168">
                  <a:moveTo>
                    <a:pt x="528" y="24"/>
                  </a:moveTo>
                  <a:cubicBezTo>
                    <a:pt x="452" y="12"/>
                    <a:pt x="376" y="0"/>
                    <a:pt x="288" y="24"/>
                  </a:cubicBezTo>
                  <a:cubicBezTo>
                    <a:pt x="200" y="48"/>
                    <a:pt x="100" y="108"/>
                    <a:pt x="0" y="16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63" name="Group 38"/>
          <p:cNvGrpSpPr/>
          <p:nvPr/>
        </p:nvGrpSpPr>
        <p:grpSpPr>
          <a:xfrm>
            <a:off x="2057400" y="3124080"/>
            <a:ext cx="2209680" cy="749520"/>
            <a:chOff x="2057400" y="3124080"/>
            <a:chExt cx="2209680" cy="749520"/>
          </a:xfrm>
        </p:grpSpPr>
        <p:sp>
          <p:nvSpPr>
            <p:cNvPr id="264" name="Text Box 39"/>
            <p:cNvSpPr/>
            <p:nvPr/>
          </p:nvSpPr>
          <p:spPr>
            <a:xfrm>
              <a:off x="2666880" y="3505320"/>
              <a:ext cx="16002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cc"/>
                  </a:solidFill>
                  <a:latin typeface="Arial"/>
                </a:rPr>
                <a:t>rapporto</a:t>
              </a: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>
              <a:off x="2057400" y="312408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328" y="212"/>
                    <a:pt x="176" y="184"/>
                    <a:pt x="96" y="144"/>
                  </a:cubicBezTo>
                  <a:cubicBezTo>
                    <a:pt x="16" y="104"/>
                    <a:pt x="8" y="52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0"/>
          <p:cNvGraphicFramePr/>
          <p:nvPr/>
        </p:nvGraphicFramePr>
        <p:xfrm>
          <a:off x="228600" y="2743200"/>
          <a:ext cx="3652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3652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3"/>
          <p:cNvGrpSpPr/>
          <p:nvPr/>
        </p:nvGrpSpPr>
        <p:grpSpPr>
          <a:xfrm>
            <a:off x="1066680" y="3200400"/>
            <a:ext cx="457200" cy="1800360"/>
            <a:chOff x="1066680" y="3200400"/>
            <a:chExt cx="457200" cy="1800360"/>
          </a:xfrm>
        </p:grpSpPr>
        <p:sp>
          <p:nvSpPr>
            <p:cNvPr id="269" name="Text Box 4"/>
            <p:cNvSpPr/>
            <p:nvPr/>
          </p:nvSpPr>
          <p:spPr>
            <a:xfrm>
              <a:off x="1066680" y="3962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70" name="Group 5"/>
            <p:cNvGrpSpPr/>
            <p:nvPr/>
          </p:nvGrpSpPr>
          <p:grpSpPr>
            <a:xfrm>
              <a:off x="1066680" y="3200400"/>
              <a:ext cx="457200" cy="1800360"/>
              <a:chOff x="1066680" y="3200400"/>
              <a:chExt cx="457200" cy="1800360"/>
            </a:xfrm>
          </p:grpSpPr>
          <p:sp>
            <p:nvSpPr>
              <p:cNvPr id="271" name="Text Box 6"/>
              <p:cNvSpPr/>
              <p:nvPr/>
            </p:nvSpPr>
            <p:spPr>
              <a:xfrm>
                <a:off x="1066680" y="4724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2" name="Text Box 7"/>
              <p:cNvSpPr/>
              <p:nvPr/>
            </p:nvSpPr>
            <p:spPr>
              <a:xfrm>
                <a:off x="1066680" y="4343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3" name="Text Box 8"/>
              <p:cNvSpPr/>
              <p:nvPr/>
            </p:nvSpPr>
            <p:spPr>
              <a:xfrm>
                <a:off x="1066680" y="35812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1,6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74" name="Text Box 9"/>
              <p:cNvSpPr/>
              <p:nvPr/>
            </p:nvSpPr>
            <p:spPr>
              <a:xfrm>
                <a:off x="1066680" y="320040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appresentazione grafica e linguaggio matematico: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rovaci tu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505320" y="586728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914400" y="27432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0880" y="1371600"/>
            <a:ext cx="25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tudia i dati in tabella</a:t>
            </a:r>
            <a:r>
              <a:rPr b="0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905120"/>
          <a:ext cx="3581640" cy="6602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7240"/>
                <a:gridCol w="596880"/>
                <a:gridCol w="596880"/>
                <a:gridCol w="59688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37"/>
          <p:cNvSpPr/>
          <p:nvPr/>
        </p:nvSpPr>
        <p:spPr>
          <a:xfrm>
            <a:off x="4952880" y="1143000"/>
            <a:ext cx="3810240" cy="951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manda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grandezze Y ed X sono tra loro direttamente proporzional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4952880" y="2286000"/>
            <a:ext cx="38862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le due grandezze sono direttamente proporzionali, il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rapporto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tra ogni coppia (Y;X) di valori sarà </a:t>
            </a:r>
            <a:r>
              <a:rPr b="1" lang="it-IT" sz="1400" spc="-1" strike="noStrike">
                <a:solidFill>
                  <a:srgbClr val="ff0066"/>
                </a:solidFill>
                <a:latin typeface="Arial"/>
              </a:rPr>
              <a:t>cos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952880" y="3200400"/>
            <a:ext cx="3886200" cy="34106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volgiamo qualche calcolo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670572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4" name="Oval 41"/>
          <p:cNvSpPr/>
          <p:nvPr/>
        </p:nvSpPr>
        <p:spPr>
          <a:xfrm>
            <a:off x="6705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Oval 42"/>
          <p:cNvSpPr/>
          <p:nvPr/>
        </p:nvSpPr>
        <p:spPr>
          <a:xfrm>
            <a:off x="7924680" y="35812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5486400" y="41911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Oval 44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1219320" y="5257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9" name="Group 46"/>
          <p:cNvGrpSpPr/>
          <p:nvPr/>
        </p:nvGrpSpPr>
        <p:grpSpPr>
          <a:xfrm>
            <a:off x="1600200" y="5334120"/>
            <a:ext cx="2362320" cy="306360"/>
            <a:chOff x="1600200" y="5334120"/>
            <a:chExt cx="2362320" cy="306360"/>
          </a:xfrm>
        </p:grpSpPr>
        <p:sp>
          <p:nvSpPr>
            <p:cNvPr id="290" name="Text Box 47"/>
            <p:cNvSpPr/>
            <p:nvPr/>
          </p:nvSpPr>
          <p:spPr>
            <a:xfrm>
              <a:off x="160020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Text Box 48"/>
            <p:cNvSpPr/>
            <p:nvPr/>
          </p:nvSpPr>
          <p:spPr>
            <a:xfrm>
              <a:off x="1981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2" name="Text Box 49"/>
            <p:cNvSpPr/>
            <p:nvPr/>
          </p:nvSpPr>
          <p:spPr>
            <a:xfrm>
              <a:off x="236232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3" name="Text Box 50"/>
            <p:cNvSpPr/>
            <p:nvPr/>
          </p:nvSpPr>
          <p:spPr>
            <a:xfrm>
              <a:off x="2743200" y="5364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2,4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4" name="Text Box 51"/>
            <p:cNvSpPr/>
            <p:nvPr/>
          </p:nvSpPr>
          <p:spPr>
            <a:xfrm>
              <a:off x="312408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5" name="Text Box 52"/>
            <p:cNvSpPr/>
            <p:nvPr/>
          </p:nvSpPr>
          <p:spPr>
            <a:xfrm>
              <a:off x="3505320" y="5334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6" name="Group 53"/>
          <p:cNvGrpSpPr/>
          <p:nvPr/>
        </p:nvGrpSpPr>
        <p:grpSpPr>
          <a:xfrm>
            <a:off x="1600200" y="3581280"/>
            <a:ext cx="4305240" cy="1600200"/>
            <a:chOff x="1600200" y="3581280"/>
            <a:chExt cx="4305240" cy="1600200"/>
          </a:xfrm>
        </p:grpSpPr>
        <mc:AlternateContent>
          <mc:Choice xmlns:a14="http://schemas.microsoft.com/office/drawing/2010/main" Requires="a14">
            <p:sp>
              <p:nvSpPr>
                <p:cNvPr id="297" name="Object 5"/>
                <p:cNvSpPr txBox="1"/>
                <p:nvPr/>
              </p:nvSpPr>
              <p:spPr>
                <a:xfrm>
                  <a:off x="5181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0,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Oval 55"/>
            <p:cNvSpPr/>
            <p:nvPr/>
          </p:nvSpPr>
          <p:spPr>
            <a:xfrm>
              <a:off x="1600200" y="51055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99" name="Group 56"/>
          <p:cNvGrpSpPr/>
          <p:nvPr/>
        </p:nvGrpSpPr>
        <p:grpSpPr>
          <a:xfrm>
            <a:off x="2514600" y="3581280"/>
            <a:ext cx="4533840" cy="838440"/>
            <a:chOff x="2514600" y="3581280"/>
            <a:chExt cx="4533840" cy="838440"/>
          </a:xfrm>
        </p:grpSpPr>
        <mc:AlternateContent>
          <mc:Choice xmlns:a14="http://schemas.microsoft.com/office/drawing/2010/main" Requires="a14">
            <p:sp>
              <p:nvSpPr>
                <p:cNvPr id="300" name="Object 4"/>
                <p:cNvSpPr txBox="1"/>
                <p:nvPr/>
              </p:nvSpPr>
              <p:spPr>
                <a:xfrm>
                  <a:off x="6324480" y="3581280"/>
                  <a:ext cx="7239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num>
                        <m:den>
                          <m:r>
                            <m:t xml:space="preserve">1,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Oval 58"/>
            <p:cNvSpPr/>
            <p:nvPr/>
          </p:nvSpPr>
          <p:spPr>
            <a:xfrm>
              <a:off x="2514600" y="434340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2" name="Group 59"/>
          <p:cNvGrpSpPr/>
          <p:nvPr/>
        </p:nvGrpSpPr>
        <p:grpSpPr>
          <a:xfrm>
            <a:off x="2666880" y="3581280"/>
            <a:ext cx="5588280" cy="685800"/>
            <a:chOff x="2666880" y="3581280"/>
            <a:chExt cx="5588280" cy="685800"/>
          </a:xfrm>
        </p:grpSpPr>
        <mc:AlternateContent>
          <mc:Choice xmlns:a14="http://schemas.microsoft.com/office/drawing/2010/main" Requires="a14">
            <p:sp>
              <p:nvSpPr>
                <p:cNvPr id="303" name="Object 3"/>
                <p:cNvSpPr txBox="1"/>
                <p:nvPr/>
              </p:nvSpPr>
              <p:spPr>
                <a:xfrm>
                  <a:off x="7556400" y="3581280"/>
                  <a:ext cx="69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num>
                        <m:den>
                          <m:r>
                            <m:t xml:space="preserve">2,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Oval 61"/>
            <p:cNvSpPr/>
            <p:nvPr/>
          </p:nvSpPr>
          <p:spPr>
            <a:xfrm>
              <a:off x="2666880" y="4191120"/>
              <a:ext cx="7632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5" name="Group 62"/>
          <p:cNvGrpSpPr/>
          <p:nvPr/>
        </p:nvGrpSpPr>
        <p:grpSpPr>
          <a:xfrm>
            <a:off x="3276720" y="3733920"/>
            <a:ext cx="2514600" cy="863640"/>
            <a:chOff x="3276720" y="3733920"/>
            <a:chExt cx="2514600" cy="863640"/>
          </a:xfrm>
        </p:grpSpPr>
        <mc:AlternateContent>
          <mc:Choice xmlns:a14="http://schemas.microsoft.com/office/drawing/2010/main" Requires="a14">
            <p:sp>
              <p:nvSpPr>
                <p:cNvPr id="306" name="Object 2"/>
                <p:cNvSpPr txBox="1"/>
                <p:nvPr/>
              </p:nvSpPr>
              <p:spPr>
                <a:xfrm>
                  <a:off x="5181480" y="4191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7" name="Oval 64"/>
            <p:cNvSpPr/>
            <p:nvPr/>
          </p:nvSpPr>
          <p:spPr>
            <a:xfrm>
              <a:off x="3276720" y="3733920"/>
              <a:ext cx="75960" cy="759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8" name="Group 65"/>
          <p:cNvGrpSpPr/>
          <p:nvPr/>
        </p:nvGrpSpPr>
        <p:grpSpPr>
          <a:xfrm>
            <a:off x="3657600" y="3352680"/>
            <a:ext cx="3378240" cy="1270080"/>
            <a:chOff x="3657600" y="3352680"/>
            <a:chExt cx="3378240" cy="1270080"/>
          </a:xfrm>
        </p:grpSpPr>
        <mc:AlternateContent>
          <mc:Choice xmlns:a14="http://schemas.microsoft.com/office/drawing/2010/main" Requires="a14">
            <p:sp>
              <p:nvSpPr>
                <p:cNvPr id="309" name="Object 1"/>
                <p:cNvSpPr txBox="1"/>
                <p:nvPr/>
              </p:nvSpPr>
              <p:spPr>
                <a:xfrm>
                  <a:off x="6400800" y="4191120"/>
                  <a:ext cx="63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,8</m:t>
                          </m:r>
                        </m:num>
                        <m:den>
                          <m:r>
                            <m:t xml:space="preserve">3,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Oval 67"/>
            <p:cNvSpPr/>
            <p:nvPr/>
          </p:nvSpPr>
          <p:spPr>
            <a:xfrm>
              <a:off x="3657600" y="3352680"/>
              <a:ext cx="76320" cy="76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11" name="Text Box 69"/>
          <p:cNvSpPr/>
          <p:nvPr/>
        </p:nvSpPr>
        <p:spPr>
          <a:xfrm>
            <a:off x="5105520" y="4648320"/>
            <a:ext cx="3581280" cy="16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sta: 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e due grandezze sono direttamente proporzionali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Text Box 70"/>
          <p:cNvSpPr/>
          <p:nvPr/>
        </p:nvSpPr>
        <p:spPr>
          <a:xfrm>
            <a:off x="5486400" y="5562720"/>
            <a:ext cx="28954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loro rapporto è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costan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5486400" y="5943600"/>
            <a:ext cx="28954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cc"/>
                </a:solidFill>
                <a:uFillTx/>
                <a:latin typeface="Arial"/>
              </a:rPr>
              <a:t>Il grafico è una </a:t>
            </a:r>
            <a:r>
              <a:rPr b="1" lang="it-IT" sz="1600" spc="-1" strike="noStrike" u="sng">
                <a:solidFill>
                  <a:srgbClr val="ff0066"/>
                </a:solidFill>
                <a:uFillTx/>
                <a:latin typeface="Arial"/>
              </a:rPr>
              <a:t>retta che passa per l’origin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5791320" y="3886200"/>
            <a:ext cx="2768400" cy="2120760"/>
            <a:chOff x="5791320" y="3886200"/>
            <a:chExt cx="2768400" cy="2120760"/>
          </a:xfrm>
        </p:grpSpPr>
        <p:sp>
          <p:nvSpPr>
            <p:cNvPr id="315" name="Freeform 73"/>
            <p:cNvSpPr/>
            <p:nvPr/>
          </p:nvSpPr>
          <p:spPr>
            <a:xfrm>
              <a:off x="8077320" y="4038480"/>
              <a:ext cx="482400" cy="19684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304" h="1240">
                  <a:moveTo>
                    <a:pt x="0" y="1104"/>
                  </a:moveTo>
                  <a:cubicBezTo>
                    <a:pt x="136" y="1172"/>
                    <a:pt x="272" y="1240"/>
                    <a:pt x="288" y="1056"/>
                  </a:cubicBezTo>
                  <a:cubicBezTo>
                    <a:pt x="304" y="872"/>
                    <a:pt x="200" y="436"/>
                    <a:pt x="96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6" name="Line 74"/>
            <p:cNvSpPr/>
            <p:nvPr/>
          </p:nvSpPr>
          <p:spPr>
            <a:xfrm flipH="1" flipV="1">
              <a:off x="7086240" y="3962520"/>
              <a:ext cx="121932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5943600" y="3886200"/>
              <a:ext cx="2362320" cy="53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8" name="Line 76"/>
            <p:cNvSpPr/>
            <p:nvPr/>
          </p:nvSpPr>
          <p:spPr>
            <a:xfrm flipH="1">
              <a:off x="7086240" y="4419720"/>
              <a:ext cx="1219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9" name="Freeform 77"/>
            <p:cNvSpPr/>
            <p:nvPr/>
          </p:nvSpPr>
          <p:spPr>
            <a:xfrm>
              <a:off x="5791320" y="4000680"/>
              <a:ext cx="2514600" cy="41904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84" h="264">
                  <a:moveTo>
                    <a:pt x="1584" y="264"/>
                  </a:moveTo>
                  <a:cubicBezTo>
                    <a:pt x="1068" y="156"/>
                    <a:pt x="552" y="48"/>
                    <a:pt x="288" y="24"/>
                  </a:cubicBezTo>
                  <a:cubicBezTo>
                    <a:pt x="24" y="0"/>
                    <a:pt x="12" y="60"/>
                    <a:pt x="0" y="12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20" name="Line 78"/>
          <p:cNvSpPr/>
          <p:nvPr/>
        </p:nvSpPr>
        <p:spPr>
          <a:xfrm flipH="1" flipV="1">
            <a:off x="3200400" y="4190760"/>
            <a:ext cx="228600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Text Box 79"/>
          <p:cNvSpPr/>
          <p:nvPr/>
        </p:nvSpPr>
        <p:spPr>
          <a:xfrm>
            <a:off x="3733920" y="6477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22" name="Group 82"/>
          <p:cNvGrpSpPr/>
          <p:nvPr/>
        </p:nvGrpSpPr>
        <p:grpSpPr>
          <a:xfrm>
            <a:off x="939960" y="2895120"/>
            <a:ext cx="3403440" cy="2781720"/>
            <a:chOff x="939960" y="2895120"/>
            <a:chExt cx="3403440" cy="2781720"/>
          </a:xfrm>
        </p:grpSpPr>
        <p:sp>
          <p:nvSpPr>
            <p:cNvPr id="323" name="Line 68"/>
            <p:cNvSpPr/>
            <p:nvPr/>
          </p:nvSpPr>
          <p:spPr>
            <a:xfrm flipV="1">
              <a:off x="1447920" y="3276360"/>
              <a:ext cx="2438280" cy="19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 flipH="1">
              <a:off x="939960" y="5295960"/>
              <a:ext cx="457200" cy="3808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 flipV="1">
              <a:off x="3886200" y="2895120"/>
              <a:ext cx="457200" cy="381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9"/>
          <p:cNvGrpSpPr/>
          <p:nvPr/>
        </p:nvGrpSpPr>
        <p:grpSpPr>
          <a:xfrm>
            <a:off x="533520" y="1066680"/>
            <a:ext cx="3949560" cy="3981600"/>
            <a:chOff x="533520" y="1066680"/>
            <a:chExt cx="3949560" cy="3981600"/>
          </a:xfrm>
        </p:grpSpPr>
        <p:grpSp>
          <p:nvGrpSpPr>
            <p:cNvPr id="44" name="Group 118"/>
            <p:cNvGrpSpPr/>
            <p:nvPr/>
          </p:nvGrpSpPr>
          <p:grpSpPr>
            <a:xfrm>
              <a:off x="533520" y="1066680"/>
              <a:ext cx="3657600" cy="3981600"/>
              <a:chOff x="533520" y="1066680"/>
              <a:chExt cx="3657600" cy="3981600"/>
            </a:xfrm>
          </p:grpSpPr>
          <p:grpSp>
            <p:nvGrpSpPr>
              <p:cNvPr id="45" name="Group 53"/>
              <p:cNvGrpSpPr/>
              <p:nvPr/>
            </p:nvGrpSpPr>
            <p:grpSpPr>
              <a:xfrm>
                <a:off x="533520" y="1104840"/>
                <a:ext cx="3657600" cy="3943440"/>
                <a:chOff x="533520" y="1104840"/>
                <a:chExt cx="3657600" cy="3943440"/>
              </a:xfrm>
            </p:grpSpPr>
            <p:graphicFrame>
              <p:nvGraphicFramePr>
                <p:cNvPr id="46" name="Object 8"/>
                <p:cNvGraphicFramePr/>
                <p:nvPr/>
              </p:nvGraphicFramePr>
              <p:xfrm>
                <a:off x="533520" y="1257120"/>
                <a:ext cx="3508200" cy="3791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1257120"/>
                          <a:ext cx="3508200" cy="3791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" name="Text Box 30"/>
                <p:cNvSpPr/>
                <p:nvPr/>
              </p:nvSpPr>
              <p:spPr>
                <a:xfrm>
                  <a:off x="3886200" y="392436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31"/>
                <p:cNvSpPr/>
                <p:nvPr/>
              </p:nvSpPr>
              <p:spPr>
                <a:xfrm>
                  <a:off x="1295280" y="1104840"/>
                  <a:ext cx="304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3333cc"/>
                      </a:solidFill>
                      <a:latin typeface="Arial"/>
                    </a:rPr>
                    <a:t>m</a:t>
                  </a:r>
                  <a:endParaRPr b="0" lang="en-US" sz="14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Text Box 116"/>
              <p:cNvSpPr/>
              <p:nvPr/>
            </p:nvSpPr>
            <p:spPr>
              <a:xfrm>
                <a:off x="1447920" y="106668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cc"/>
                    </a:solidFill>
                    <a:latin typeface="Arial"/>
                  </a:rPr>
                  <a:t>(g)</a:t>
                </a: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51" name="Text Box 117"/>
            <p:cNvSpPr/>
            <p:nvPr/>
          </p:nvSpPr>
          <p:spPr>
            <a:xfrm>
              <a:off x="4025880" y="3924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" name="Freeform 104"/>
          <p:cNvSpPr/>
          <p:nvPr/>
        </p:nvSpPr>
        <p:spPr>
          <a:xfrm>
            <a:off x="3124080" y="2286000"/>
            <a:ext cx="12960" cy="1511280"/>
          </a:xfrm>
          <a:custGeom>
            <a:avLst/>
            <a:gdLst>
              <a:gd name="textAreaLeft" fmla="*/ 0 w 12960"/>
              <a:gd name="textAreaRight" fmla="*/ 13320 w 129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60440" y="838080"/>
            <a:ext cx="4496040" cy="33732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nsideriamo i dati sperimentali in tabell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Relazione tra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457880" y="4572000"/>
            <a:ext cx="4190760" cy="106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ando i punti rappresentati sul piano cartesiano sono tutti allineati fra loro, la curva che si ottiene prende il nome di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retta (o semiretta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2400480" y="30481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2019240" y="3416400"/>
            <a:ext cx="12600" cy="380880"/>
          </a:xfrm>
          <a:custGeom>
            <a:avLst/>
            <a:gdLst>
              <a:gd name="textAreaLeft" fmla="*/ 0 w 12600"/>
              <a:gd name="textAreaRight" fmla="*/ 12960 w 12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8" h="240">
                <a:moveTo>
                  <a:pt x="0" y="0"/>
                </a:moveTo>
                <a:lnTo>
                  <a:pt x="8" y="24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4038120" y="2666880"/>
            <a:ext cx="3734280" cy="307080"/>
            <a:chOff x="4038120" y="2666880"/>
            <a:chExt cx="3734280" cy="307080"/>
          </a:xfrm>
        </p:grpSpPr>
        <p:sp>
          <p:nvSpPr>
            <p:cNvPr id="59" name="Text Box 26"/>
            <p:cNvSpPr/>
            <p:nvPr/>
          </p:nvSpPr>
          <p:spPr>
            <a:xfrm>
              <a:off x="4876560" y="2666880"/>
              <a:ext cx="289584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Osservate il piano cartesiano: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0" name="Line 27"/>
            <p:cNvSpPr/>
            <p:nvPr/>
          </p:nvSpPr>
          <p:spPr>
            <a:xfrm flipH="1">
              <a:off x="4038120" y="281916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61" name="Text Box 29"/>
          <p:cNvSpPr/>
          <p:nvPr/>
        </p:nvSpPr>
        <p:spPr>
          <a:xfrm>
            <a:off x="4419720" y="3200400"/>
            <a:ext cx="3962160" cy="520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Per ottenere la retta sono state utilizzate quattro coppie di valori , ma…………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4432320" y="3886200"/>
            <a:ext cx="4330800" cy="520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.alla retta, una volta tracciata, appartengono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tutti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i punti del piano che la compongono…..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1523880" y="5943600"/>
            <a:ext cx="5029200" cy="520200"/>
          </a:xfrm>
          <a:prstGeom prst="rect">
            <a:avLst/>
          </a:prstGeom>
          <a:solidFill>
            <a:srgbClr val="66ff33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ed ognuno di questi punti è generato da una coppia di valori (x e y), “leggibili” sugli assi cartesiani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Freeform 51"/>
          <p:cNvSpPr/>
          <p:nvPr/>
        </p:nvSpPr>
        <p:spPr>
          <a:xfrm>
            <a:off x="63360" y="1523880"/>
            <a:ext cx="1536840" cy="50292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872" h="3088">
                <a:moveTo>
                  <a:pt x="872" y="2992"/>
                </a:moveTo>
                <a:cubicBezTo>
                  <a:pt x="624" y="3020"/>
                  <a:pt x="376" y="3048"/>
                  <a:pt x="248" y="2992"/>
                </a:cubicBezTo>
                <a:cubicBezTo>
                  <a:pt x="120" y="2936"/>
                  <a:pt x="128" y="3088"/>
                  <a:pt x="104" y="2656"/>
                </a:cubicBezTo>
                <a:cubicBezTo>
                  <a:pt x="80" y="2224"/>
                  <a:pt x="0" y="800"/>
                  <a:pt x="104" y="400"/>
                </a:cubicBezTo>
                <a:cubicBezTo>
                  <a:pt x="208" y="0"/>
                  <a:pt x="468" y="128"/>
                  <a:pt x="728" y="256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Freeform 52"/>
          <p:cNvSpPr/>
          <p:nvPr/>
        </p:nvSpPr>
        <p:spPr>
          <a:xfrm>
            <a:off x="698400" y="4038480"/>
            <a:ext cx="2654280" cy="2349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1576" h="1384">
                <a:moveTo>
                  <a:pt x="472" y="1344"/>
                </a:moveTo>
                <a:cubicBezTo>
                  <a:pt x="276" y="1364"/>
                  <a:pt x="80" y="1384"/>
                  <a:pt x="40" y="1296"/>
                </a:cubicBezTo>
                <a:cubicBezTo>
                  <a:pt x="0" y="1208"/>
                  <a:pt x="64" y="904"/>
                  <a:pt x="232" y="816"/>
                </a:cubicBezTo>
                <a:cubicBezTo>
                  <a:pt x="400" y="728"/>
                  <a:pt x="824" y="904"/>
                  <a:pt x="1048" y="768"/>
                </a:cubicBezTo>
                <a:cubicBezTo>
                  <a:pt x="1272" y="632"/>
                  <a:pt x="1424" y="316"/>
                  <a:pt x="1576" y="0"/>
                </a:cubicBezTo>
              </a:path>
            </a:pathLst>
          </a:custGeom>
          <a:noFill/>
          <a:ln w="28440">
            <a:solidFill>
              <a:srgbClr val="377d5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343400" y="1447920"/>
          <a:ext cx="4343400" cy="105084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ssa (g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9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olume (ml)</a:t>
                      </a:r>
                      <a:endParaRPr b="0" lang="en-US" sz="14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69" name="Freeform 101"/>
          <p:cNvSpPr/>
          <p:nvPr/>
        </p:nvSpPr>
        <p:spPr>
          <a:xfrm>
            <a:off x="27446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Oval 102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Oval 103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Freeform 106"/>
          <p:cNvSpPr/>
          <p:nvPr/>
        </p:nvSpPr>
        <p:spPr>
          <a:xfrm>
            <a:off x="1612800" y="3022560"/>
            <a:ext cx="698760" cy="1800"/>
          </a:xfrm>
          <a:custGeom>
            <a:avLst/>
            <a:gdLst>
              <a:gd name="textAreaLeft" fmla="*/ 0 w 698760"/>
              <a:gd name="textAreaRight" fmla="*/ 699120 w 698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Freeform 107"/>
          <p:cNvSpPr/>
          <p:nvPr/>
        </p:nvSpPr>
        <p:spPr>
          <a:xfrm>
            <a:off x="1600200" y="26798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Freeform 108"/>
          <p:cNvSpPr/>
          <p:nvPr/>
        </p:nvSpPr>
        <p:spPr>
          <a:xfrm>
            <a:off x="1638360" y="2286000"/>
            <a:ext cx="1485720" cy="1260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Freeform 109"/>
          <p:cNvSpPr/>
          <p:nvPr/>
        </p:nvSpPr>
        <p:spPr>
          <a:xfrm>
            <a:off x="1612800" y="34545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6" name="Group 127"/>
          <p:cNvGrpSpPr/>
          <p:nvPr/>
        </p:nvGrpSpPr>
        <p:grpSpPr>
          <a:xfrm>
            <a:off x="1676520" y="1981080"/>
            <a:ext cx="1752480" cy="1866960"/>
            <a:chOff x="1676520" y="1981080"/>
            <a:chExt cx="1752480" cy="1866960"/>
          </a:xfrm>
        </p:grpSpPr>
        <p:sp>
          <p:nvSpPr>
            <p:cNvPr id="77" name="Oval 110"/>
            <p:cNvSpPr/>
            <p:nvPr/>
          </p:nvSpPr>
          <p:spPr>
            <a:xfrm>
              <a:off x="3352680" y="1981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8" name="Freeform 112"/>
            <p:cNvSpPr/>
            <p:nvPr/>
          </p:nvSpPr>
          <p:spPr>
            <a:xfrm>
              <a:off x="3378240" y="2057400"/>
              <a:ext cx="12600" cy="1790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90640"/>
                <a:gd name="textAreaBottom" fmla="*/ 1791000 h 1790640"/>
              </a:gdLst>
              <a:ahLst/>
              <a:rect l="textAreaLeft" t="textAreaTop" r="textAreaRight" b="textAreaBottom"/>
              <a:pathLst>
                <a:path w="8" h="1128">
                  <a:moveTo>
                    <a:pt x="0" y="0"/>
                  </a:moveTo>
                  <a:lnTo>
                    <a:pt x="8" y="1128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9" name="Freeform 113"/>
            <p:cNvSpPr/>
            <p:nvPr/>
          </p:nvSpPr>
          <p:spPr>
            <a:xfrm>
              <a:off x="1676520" y="2017800"/>
              <a:ext cx="1701720" cy="1440"/>
            </a:xfrm>
            <a:custGeom>
              <a:avLst/>
              <a:gdLst>
                <a:gd name="textAreaLeft" fmla="*/ 0 w 1701720"/>
                <a:gd name="textAreaRight" fmla="*/ 1702080 w 1701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72" h="1">
                  <a:moveTo>
                    <a:pt x="1072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80" name="Group 125"/>
          <p:cNvGrpSpPr/>
          <p:nvPr/>
        </p:nvGrpSpPr>
        <p:grpSpPr>
          <a:xfrm>
            <a:off x="1676520" y="3263760"/>
            <a:ext cx="520560" cy="609840"/>
            <a:chOff x="1676520" y="3263760"/>
            <a:chExt cx="520560" cy="609840"/>
          </a:xfrm>
        </p:grpSpPr>
        <p:sp>
          <p:nvSpPr>
            <p:cNvPr id="81" name="Freeform 114"/>
            <p:cNvSpPr/>
            <p:nvPr/>
          </p:nvSpPr>
          <p:spPr>
            <a:xfrm>
              <a:off x="2158920" y="3314880"/>
              <a:ext cx="1800" cy="558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" h="352">
                  <a:moveTo>
                    <a:pt x="0" y="0"/>
                  </a:moveTo>
                  <a:lnTo>
                    <a:pt x="0" y="352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82" name="Group 124"/>
            <p:cNvGrpSpPr/>
            <p:nvPr/>
          </p:nvGrpSpPr>
          <p:grpSpPr>
            <a:xfrm>
              <a:off x="1676520" y="3263760"/>
              <a:ext cx="520560" cy="76320"/>
              <a:chOff x="1676520" y="3263760"/>
              <a:chExt cx="520560" cy="76320"/>
            </a:xfrm>
          </p:grpSpPr>
          <p:sp>
            <p:nvSpPr>
              <p:cNvPr id="83" name="Oval 111"/>
              <p:cNvSpPr/>
              <p:nvPr/>
            </p:nvSpPr>
            <p:spPr>
              <a:xfrm>
                <a:off x="2120760" y="326376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84" name="Freeform 115"/>
              <p:cNvSpPr/>
              <p:nvPr/>
            </p:nvSpPr>
            <p:spPr>
              <a:xfrm>
                <a:off x="1676520" y="3314880"/>
                <a:ext cx="406440" cy="144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56" h="1">
                    <a:moveTo>
                      <a:pt x="256" y="0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130"/>
          <p:cNvGrpSpPr/>
          <p:nvPr/>
        </p:nvGrpSpPr>
        <p:grpSpPr>
          <a:xfrm>
            <a:off x="1282680" y="1600200"/>
            <a:ext cx="2476440" cy="2666880"/>
            <a:chOff x="1282680" y="1600200"/>
            <a:chExt cx="2476440" cy="2666880"/>
          </a:xfrm>
        </p:grpSpPr>
        <p:sp>
          <p:nvSpPr>
            <p:cNvPr id="86" name="Line 105"/>
            <p:cNvSpPr/>
            <p:nvPr/>
          </p:nvSpPr>
          <p:spPr>
            <a:xfrm flipV="1">
              <a:off x="1676520" y="1981080"/>
              <a:ext cx="175248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7" name="Line 128"/>
            <p:cNvSpPr/>
            <p:nvPr/>
          </p:nvSpPr>
          <p:spPr>
            <a:xfrm flipH="1">
              <a:off x="1282680" y="380988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8" name="Line 129"/>
            <p:cNvSpPr/>
            <p:nvPr/>
          </p:nvSpPr>
          <p:spPr>
            <a:xfrm flipH="1">
              <a:off x="3378240" y="1600200"/>
              <a:ext cx="380880" cy="4572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14400" y="2133720"/>
            <a:ext cx="7391160" cy="2971080"/>
            <a:chOff x="914400" y="2133720"/>
            <a:chExt cx="7391160" cy="2971080"/>
          </a:xfrm>
        </p:grpSpPr>
        <p:sp>
          <p:nvSpPr>
            <p:cNvPr id="90" name="Oval 3"/>
            <p:cNvSpPr/>
            <p:nvPr/>
          </p:nvSpPr>
          <p:spPr>
            <a:xfrm>
              <a:off x="914400" y="2133720"/>
              <a:ext cx="7391160" cy="297108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1849680" y="2832840"/>
              <a:ext cx="5333040" cy="147708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PENDENZA DELLA 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1"/>
          <p:cNvGrpSpPr/>
          <p:nvPr/>
        </p:nvGrpSpPr>
        <p:grpSpPr>
          <a:xfrm>
            <a:off x="520560" y="1117440"/>
            <a:ext cx="3949560" cy="3981600"/>
            <a:chOff x="520560" y="1117440"/>
            <a:chExt cx="3949560" cy="3981600"/>
          </a:xfrm>
        </p:grpSpPr>
        <p:grpSp>
          <p:nvGrpSpPr>
            <p:cNvPr id="94" name="Group 2"/>
            <p:cNvGrpSpPr/>
            <p:nvPr/>
          </p:nvGrpSpPr>
          <p:grpSpPr>
            <a:xfrm>
              <a:off x="520560" y="1155600"/>
              <a:ext cx="3657600" cy="3943440"/>
              <a:chOff x="520560" y="1155600"/>
              <a:chExt cx="3657600" cy="3943440"/>
            </a:xfrm>
          </p:grpSpPr>
          <p:graphicFrame>
            <p:nvGraphicFramePr>
              <p:cNvPr id="95" name="Object 3"/>
              <p:cNvGraphicFramePr/>
              <p:nvPr/>
            </p:nvGraphicFramePr>
            <p:xfrm>
              <a:off x="520560" y="1307880"/>
              <a:ext cx="3508200" cy="3791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0560" y="1307880"/>
                        <a:ext cx="3508200" cy="379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7" name="Text Box 4"/>
              <p:cNvSpPr/>
              <p:nvPr/>
            </p:nvSpPr>
            <p:spPr>
              <a:xfrm>
                <a:off x="3873240" y="39751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98" name="Text Box 5"/>
              <p:cNvSpPr/>
              <p:nvPr/>
            </p:nvSpPr>
            <p:spPr>
              <a:xfrm>
                <a:off x="1282320" y="1155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cc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99" name="Text Box 59"/>
            <p:cNvSpPr/>
            <p:nvPr/>
          </p:nvSpPr>
          <p:spPr>
            <a:xfrm>
              <a:off x="4012920" y="3975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ml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1434960" y="1117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cc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La pendenza della retta nella relazione tra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massa</a:t>
            </a:r>
            <a:r>
              <a:rPr b="1" lang="it-IT" sz="22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it-IT" sz="2200" spc="-1" strike="noStrike">
                <a:solidFill>
                  <a:srgbClr val="ff0066"/>
                </a:solidFill>
                <a:latin typeface="Arial"/>
              </a:rPr>
              <a:t>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2374920" y="3060720"/>
            <a:ext cx="1440" cy="825480"/>
          </a:xfrm>
          <a:custGeom>
            <a:avLst/>
            <a:gdLst>
              <a:gd name="textAreaLeft" fmla="*/ 0 w 1440"/>
              <a:gd name="textAreaRight" fmla="*/ 1800 w 1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" h="520">
                <a:moveTo>
                  <a:pt x="0" y="0"/>
                </a:moveTo>
                <a:lnTo>
                  <a:pt x="1" y="52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2006640" y="3416400"/>
            <a:ext cx="14400" cy="469800"/>
          </a:xfrm>
          <a:custGeom>
            <a:avLst/>
            <a:gdLst>
              <a:gd name="textAreaLeft" fmla="*/ 0 w 14400"/>
              <a:gd name="textAreaRight" fmla="*/ 14760 w 144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" h="296">
                <a:moveTo>
                  <a:pt x="0" y="0"/>
                </a:moveTo>
                <a:lnTo>
                  <a:pt x="9" y="296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3086280" y="2273400"/>
            <a:ext cx="75960" cy="7596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2717640" y="265428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2732040" y="2629080"/>
            <a:ext cx="11160" cy="1180800"/>
          </a:xfrm>
          <a:custGeom>
            <a:avLst/>
            <a:gdLst>
              <a:gd name="textAreaLeft" fmla="*/ 0 w 11160"/>
              <a:gd name="textAreaRight" fmla="*/ 11520 w 1116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7" h="744">
                <a:moveTo>
                  <a:pt x="7" y="0"/>
                </a:moveTo>
                <a:lnTo>
                  <a:pt x="0" y="744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1994040" y="3429000"/>
            <a:ext cx="7596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2349360" y="3022560"/>
            <a:ext cx="76320" cy="76320"/>
          </a:xfrm>
          <a:prstGeom prst="ellipse">
            <a:avLst/>
          </a:prstGeom>
          <a:solidFill>
            <a:srgbClr val="d2311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3111480" y="2311560"/>
            <a:ext cx="12600" cy="1511280"/>
          </a:xfrm>
          <a:custGeom>
            <a:avLst/>
            <a:gdLst>
              <a:gd name="textAreaLeft" fmla="*/ 0 w 12600"/>
              <a:gd name="textAreaRight" fmla="*/ 12960 w 126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8" h="952">
                <a:moveTo>
                  <a:pt x="8" y="0"/>
                </a:moveTo>
                <a:lnTo>
                  <a:pt x="0" y="952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V="1">
            <a:off x="1663560" y="1994040"/>
            <a:ext cx="175284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Freeform 49"/>
          <p:cNvSpPr/>
          <p:nvPr/>
        </p:nvSpPr>
        <p:spPr>
          <a:xfrm>
            <a:off x="1612800" y="3060720"/>
            <a:ext cx="698760" cy="1440"/>
          </a:xfrm>
          <a:custGeom>
            <a:avLst/>
            <a:gdLst>
              <a:gd name="textAreaLeft" fmla="*/ 0 w 698760"/>
              <a:gd name="textAreaRight" fmla="*/ 699120 w 69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40" h="1">
                <a:moveTo>
                  <a:pt x="440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Freeform 50"/>
          <p:cNvSpPr/>
          <p:nvPr/>
        </p:nvSpPr>
        <p:spPr>
          <a:xfrm>
            <a:off x="1600200" y="2692440"/>
            <a:ext cx="1092240" cy="126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88" h="8">
                <a:moveTo>
                  <a:pt x="688" y="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Freeform 51"/>
          <p:cNvSpPr/>
          <p:nvPr/>
        </p:nvSpPr>
        <p:spPr>
          <a:xfrm>
            <a:off x="1600200" y="2286000"/>
            <a:ext cx="1486080" cy="126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936" h="8">
                <a:moveTo>
                  <a:pt x="936" y="0"/>
                </a:moveTo>
                <a:lnTo>
                  <a:pt x="0" y="8"/>
                </a:lnTo>
              </a:path>
            </a:pathLst>
          </a:custGeom>
          <a:noFill/>
          <a:ln w="1908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Freeform 52"/>
          <p:cNvSpPr/>
          <p:nvPr/>
        </p:nvSpPr>
        <p:spPr>
          <a:xfrm>
            <a:off x="1612800" y="3467160"/>
            <a:ext cx="381240" cy="144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0" h="1">
                <a:moveTo>
                  <a:pt x="240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3962520" y="812880"/>
            <a:ext cx="48765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retta tracciata ha una certa </a:t>
            </a:r>
            <a:r>
              <a:rPr b="1" i="1" lang="it-IT" sz="1400" spc="-1" strike="noStrike">
                <a:solidFill>
                  <a:srgbClr val="3333cc"/>
                </a:solidFill>
                <a:latin typeface="Arial"/>
              </a:rPr>
              <a:t>inclinazione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.Tale inclinazione è detta 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PENDENZA DELLA RET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4038480" y="1498680"/>
            <a:ext cx="48769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pendenza della rett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, rispetto all’asse orizzontale, è una caratteristica importante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Text Box 64"/>
          <p:cNvSpPr/>
          <p:nvPr/>
        </p:nvSpPr>
        <p:spPr>
          <a:xfrm>
            <a:off x="4025880" y="2247840"/>
            <a:ext cx="28195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Se osservate il punto A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Text Box 65"/>
          <p:cNvSpPr/>
          <p:nvPr/>
        </p:nvSpPr>
        <p:spPr>
          <a:xfrm>
            <a:off x="6934320" y="2247840"/>
            <a:ext cx="1904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il punto B (x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ext Box 66"/>
          <p:cNvSpPr/>
          <p:nvPr/>
        </p:nvSpPr>
        <p:spPr>
          <a:xfrm>
            <a:off x="4127400" y="2671920"/>
            <a:ext cx="472464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Si può facilmente vedere che i valori di ascissa,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x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Text Box 67"/>
          <p:cNvSpPr/>
          <p:nvPr/>
        </p:nvSpPr>
        <p:spPr>
          <a:xfrm>
            <a:off x="4140360" y="3124080"/>
            <a:ext cx="1879560" cy="3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e di ordinata,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300" spc="-1" strike="noStrike">
                <a:solidFill>
                  <a:srgbClr val="3333cc"/>
                </a:solidFill>
                <a:latin typeface="Arial"/>
              </a:rPr>
              <a:t> e y</a:t>
            </a:r>
            <a:r>
              <a:rPr b="1" lang="it-IT" sz="1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Text Box 68"/>
          <p:cNvSpPr/>
          <p:nvPr/>
        </p:nvSpPr>
        <p:spPr>
          <a:xfrm>
            <a:off x="4635360" y="3670200"/>
            <a:ext cx="3441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no, in questo caso aumentando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4343400" y="4178160"/>
            <a:ext cx="4572000" cy="240120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Dati due punti qualsiasi della retta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la pendenza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è il rapporto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e la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 variazione dell’ascissa.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d2311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1"/>
              <p:cNvSpPr txBox="1"/>
              <p:nvPr/>
            </p:nvSpPr>
            <p:spPr>
              <a:xfrm>
                <a:off x="4622760" y="4788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 Box 72"/>
          <p:cNvSpPr/>
          <p:nvPr/>
        </p:nvSpPr>
        <p:spPr>
          <a:xfrm>
            <a:off x="4394160" y="5397480"/>
            <a:ext cx="4267080" cy="733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 pendenza di una retta è </a:t>
            </a:r>
            <a:r>
              <a:rPr b="1" lang="it-IT" sz="1400" spc="-1" strike="noStrike" u="sng">
                <a:solidFill>
                  <a:srgbClr val="d23116"/>
                </a:solidFill>
                <a:uFillTx/>
                <a:latin typeface="Arial"/>
              </a:rPr>
              <a:t>costante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qualsiasi siano i punti della retta scelti,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il rapport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fra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ordinat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1752480" y="32306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10666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Text Box 75"/>
          <p:cNvSpPr/>
          <p:nvPr/>
        </p:nvSpPr>
        <p:spPr>
          <a:xfrm>
            <a:off x="1066680" y="253224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ext Box 76"/>
          <p:cNvSpPr/>
          <p:nvPr/>
        </p:nvSpPr>
        <p:spPr>
          <a:xfrm>
            <a:off x="1600200" y="380196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2336760" y="3772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it-IT" sz="1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2476440" y="24512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Text Box 79"/>
          <p:cNvSpPr/>
          <p:nvPr/>
        </p:nvSpPr>
        <p:spPr>
          <a:xfrm>
            <a:off x="5867280" y="6095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 Black"/>
              </a:rPr>
              <a:t>non cambia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6438960" y="58165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lang="it-IT" sz="1400" spc="-1" strike="noStrike">
                <a:solidFill>
                  <a:srgbClr val="d23116"/>
                </a:solidFill>
                <a:latin typeface="Arial"/>
              </a:rPr>
              <a:t>variazione dell’asciss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Text Box 81"/>
          <p:cNvSpPr/>
          <p:nvPr/>
        </p:nvSpPr>
        <p:spPr>
          <a:xfrm>
            <a:off x="177840" y="5295960"/>
            <a:ext cx="39625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Nel nostro esperimento la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costante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, rappresentata dalla pendenza della retta, è la 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DENSITA’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della soluzione utilizzata.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2"/>
              <p:cNvSpPr txBox="1"/>
              <p:nvPr/>
            </p:nvSpPr>
            <p:spPr>
              <a:xfrm>
                <a:off x="6629400" y="4851360"/>
                <a:ext cx="2108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9,9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83"/>
          <p:cNvSpPr/>
          <p:nvPr/>
        </p:nvSpPr>
        <p:spPr>
          <a:xfrm>
            <a:off x="6324480" y="3048120"/>
            <a:ext cx="187956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(Le coppia di valori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 e X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; Y</a:t>
            </a:r>
            <a:r>
              <a:rPr b="1" lang="it-IT" sz="10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it-IT" sz="1000" spc="-1" strike="noStrike">
                <a:solidFill>
                  <a:srgbClr val="3333cc"/>
                </a:solidFill>
                <a:latin typeface="Arial"/>
              </a:rPr>
              <a:t> sono dette “coordinate”)</a:t>
            </a: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84"/>
          <p:cNvSpPr/>
          <p:nvPr/>
        </p:nvSpPr>
        <p:spPr>
          <a:xfrm flipV="1">
            <a:off x="3429000" y="1523880"/>
            <a:ext cx="457200" cy="4572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86"/>
          <p:cNvSpPr/>
          <p:nvPr/>
        </p:nvSpPr>
        <p:spPr>
          <a:xfrm flipH="1">
            <a:off x="1143000" y="3809880"/>
            <a:ext cx="533520" cy="53352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447920" y="1523880"/>
            <a:ext cx="7009920" cy="2590560"/>
            <a:chOff x="1447920" y="1523880"/>
            <a:chExt cx="7009920" cy="2590560"/>
          </a:xfrm>
        </p:grpSpPr>
        <p:sp>
          <p:nvSpPr>
            <p:cNvPr id="139" name="Oval 3"/>
            <p:cNvSpPr/>
            <p:nvPr/>
          </p:nvSpPr>
          <p:spPr>
            <a:xfrm>
              <a:off x="1447920" y="1523880"/>
              <a:ext cx="7009920" cy="2590560"/>
            </a:xfrm>
            <a:prstGeom prst="ellipse">
              <a:avLst/>
            </a:prstGeom>
            <a:solidFill>
              <a:srgbClr val="ffa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2334960" y="2133360"/>
              <a:ext cx="5058000" cy="641160"/>
            </a:xfrm>
            <a:prstGeom prst="rect">
              <a:avLst/>
            </a:prstGeom>
            <a:solidFill>
              <a:srgbClr val="ff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2437920"/>
            <a:ext cx="4952880" cy="685800"/>
          </a:xfrm>
          <a:prstGeom prst="rect">
            <a:avLst/>
          </a:prstGeom>
          <a:solidFill>
            <a:srgbClr val="ffa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Arial"/>
              </a:rPr>
              <a:t>PROPORZIONALITA’ DIR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16000"/>
            <a:ext cx="6172200" cy="3175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e proporzionalità diretta: DEFINI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736560"/>
            <a:ext cx="73915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PROPORZIONALI 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il loro rapporto è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costant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80880" y="1295280"/>
            <a:ext cx="8534520" cy="4590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Due grandezze sono tra loro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DIRETTAMENTE PROPORZIONALI </a:t>
            </a: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quando al variare di una l’altra varia </a:t>
            </a:r>
            <a:r>
              <a:rPr b="1" lang="it-IT" sz="1200" spc="-1" strike="noStrike">
                <a:solidFill>
                  <a:srgbClr val="ff0066"/>
                </a:solidFill>
                <a:latin typeface="Arial"/>
              </a:rPr>
              <a:t>in proporzione.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8001000" y="685800"/>
            <a:ext cx="9144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oppur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380880" y="2013120"/>
            <a:ext cx="85345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Immaginiamo un esperimento nel quale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una molla vincolata ad un estremo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 si allunga via via che vengono agganciati ad una sua estremità alcuni pesetti tutti uguali.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he relazione c’è tra l’allungamento della molla ed il numero di pesetti?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Picture 56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87344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8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2030400" cy="3124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60"/>
          <p:cNvGrpSpPr/>
          <p:nvPr/>
        </p:nvGrpSpPr>
        <p:grpSpPr>
          <a:xfrm>
            <a:off x="4419720" y="2819520"/>
            <a:ext cx="1790640" cy="3209760"/>
            <a:chOff x="4419720" y="2819520"/>
            <a:chExt cx="1790640" cy="3209760"/>
          </a:xfrm>
        </p:grpSpPr>
        <p:sp>
          <p:nvSpPr>
            <p:cNvPr id="150" name="Text Box 47"/>
            <p:cNvSpPr/>
            <p:nvPr/>
          </p:nvSpPr>
          <p:spPr>
            <a:xfrm>
              <a:off x="5219640" y="4025880"/>
              <a:ext cx="9907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2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1" name="Picture 59" descr=""/>
            <p:cNvPicPr/>
            <p:nvPr/>
          </p:nvPicPr>
          <p:blipFill>
            <a:blip r:embed="rId3"/>
            <a:stretch/>
          </p:blipFill>
          <p:spPr>
            <a:xfrm>
              <a:off x="4419720" y="2819520"/>
              <a:ext cx="807840" cy="32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62"/>
          <p:cNvGrpSpPr/>
          <p:nvPr/>
        </p:nvGrpSpPr>
        <p:grpSpPr>
          <a:xfrm>
            <a:off x="6578640" y="2895480"/>
            <a:ext cx="1727280" cy="3124440"/>
            <a:chOff x="6578640" y="2895480"/>
            <a:chExt cx="1727280" cy="3124440"/>
          </a:xfrm>
        </p:grpSpPr>
        <p:sp>
          <p:nvSpPr>
            <p:cNvPr id="153" name="Text Box 48"/>
            <p:cNvSpPr/>
            <p:nvPr/>
          </p:nvSpPr>
          <p:spPr>
            <a:xfrm>
              <a:off x="7391520" y="4938840"/>
              <a:ext cx="91440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cc"/>
                  </a:solidFill>
                  <a:latin typeface="Arial"/>
                </a:rPr>
                <a:t>La molla si allunga sotto l’azione di </a:t>
              </a:r>
              <a:r>
                <a:rPr b="1" lang="it-IT" sz="1200" spc="-1" strike="noStrike">
                  <a:solidFill>
                    <a:srgbClr val="ff0066"/>
                  </a:solidFill>
                  <a:latin typeface="Arial"/>
                </a:rPr>
                <a:t>4 pesi</a:t>
              </a: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pic>
          <p:nvPicPr>
            <p:cNvPr id="154" name="Picture 61" descr=""/>
            <p:cNvPicPr/>
            <p:nvPr/>
          </p:nvPicPr>
          <p:blipFill>
            <a:blip r:embed="rId4"/>
            <a:stretch/>
          </p:blipFill>
          <p:spPr>
            <a:xfrm>
              <a:off x="6578640" y="2895480"/>
              <a:ext cx="824040" cy="312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895480" y="1422360"/>
          <a:ext cx="4343400" cy="987480"/>
        </p:xfrm>
        <a:graphic>
          <a:graphicData uri="http://schemas.openxmlformats.org/drawingml/2006/table">
            <a:tbl>
              <a:tblPr/>
              <a:tblGrid>
                <a:gridCol w="838440"/>
                <a:gridCol w="609480"/>
                <a:gridCol w="723960"/>
                <a:gridCol w="723960"/>
                <a:gridCol w="723960"/>
                <a:gridCol w="7236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97" descr=""/>
          <p:cNvPicPr/>
          <p:nvPr/>
        </p:nvPicPr>
        <p:blipFill>
          <a:blip r:embed="rId1"/>
          <a:stretch/>
        </p:blipFill>
        <p:spPr>
          <a:xfrm>
            <a:off x="258840" y="256536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4565520" y="3470400"/>
                <a:ext cx="133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1523880" y="3352680"/>
            <a:ext cx="4647960" cy="1524240"/>
            <a:chOff x="1523880" y="3352680"/>
            <a:chExt cx="4647960" cy="1524240"/>
          </a:xfrm>
        </p:grpSpPr>
        <p:sp>
          <p:nvSpPr>
            <p:cNvPr id="160" name="Oval 12"/>
            <p:cNvSpPr/>
            <p:nvPr/>
          </p:nvSpPr>
          <p:spPr>
            <a:xfrm>
              <a:off x="3989880" y="3352680"/>
              <a:ext cx="2181960" cy="914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523880" y="3352680"/>
              <a:ext cx="2621160" cy="152424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1672" h="1048">
                  <a:moveTo>
                    <a:pt x="1672" y="184"/>
                  </a:moveTo>
                  <a:cubicBezTo>
                    <a:pt x="1592" y="124"/>
                    <a:pt x="1512" y="64"/>
                    <a:pt x="1384" y="40"/>
                  </a:cubicBezTo>
                  <a:cubicBezTo>
                    <a:pt x="1256" y="16"/>
                    <a:pt x="1072" y="0"/>
                    <a:pt x="904" y="40"/>
                  </a:cubicBezTo>
                  <a:cubicBezTo>
                    <a:pt x="736" y="80"/>
                    <a:pt x="520" y="152"/>
                    <a:pt x="376" y="280"/>
                  </a:cubicBezTo>
                  <a:cubicBezTo>
                    <a:pt x="232" y="408"/>
                    <a:pt x="80" y="680"/>
                    <a:pt x="40" y="808"/>
                  </a:cubicBezTo>
                  <a:cubicBezTo>
                    <a:pt x="0" y="936"/>
                    <a:pt x="68" y="992"/>
                    <a:pt x="136" y="10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6784920" y="3375000"/>
                <a:ext cx="1647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15"/>
          <p:cNvGrpSpPr/>
          <p:nvPr/>
        </p:nvGrpSpPr>
        <p:grpSpPr>
          <a:xfrm>
            <a:off x="3276720" y="3276720"/>
            <a:ext cx="5333400" cy="1600200"/>
            <a:chOff x="3276720" y="3276720"/>
            <a:chExt cx="5333400" cy="1600200"/>
          </a:xfrm>
        </p:grpSpPr>
        <p:sp>
          <p:nvSpPr>
            <p:cNvPr id="164" name="Oval 16"/>
            <p:cNvSpPr/>
            <p:nvPr/>
          </p:nvSpPr>
          <p:spPr>
            <a:xfrm>
              <a:off x="6553080" y="3276720"/>
              <a:ext cx="2057040" cy="9903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3276720" y="3809880"/>
              <a:ext cx="3276360" cy="106704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064" h="672">
                  <a:moveTo>
                    <a:pt x="2064" y="0"/>
                  </a:moveTo>
                  <a:cubicBezTo>
                    <a:pt x="2048" y="96"/>
                    <a:pt x="2032" y="192"/>
                    <a:pt x="1920" y="288"/>
                  </a:cubicBezTo>
                  <a:cubicBezTo>
                    <a:pt x="1808" y="384"/>
                    <a:pt x="1616" y="520"/>
                    <a:pt x="1392" y="576"/>
                  </a:cubicBezTo>
                  <a:cubicBezTo>
                    <a:pt x="1168" y="632"/>
                    <a:pt x="808" y="672"/>
                    <a:pt x="576" y="624"/>
                  </a:cubicBezTo>
                  <a:cubicBezTo>
                    <a:pt x="344" y="576"/>
                    <a:pt x="172" y="432"/>
                    <a:pt x="0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4343400" y="2438280"/>
            <a:ext cx="3276720" cy="2821680"/>
            <a:chOff x="4343400" y="2438280"/>
            <a:chExt cx="3276720" cy="2821680"/>
          </a:xfrm>
        </p:grpSpPr>
        <p:sp>
          <p:nvSpPr>
            <p:cNvPr id="167" name="Oval 19"/>
            <p:cNvSpPr/>
            <p:nvPr/>
          </p:nvSpPr>
          <p:spPr>
            <a:xfrm>
              <a:off x="43434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6858000" y="3809880"/>
              <a:ext cx="685800" cy="45720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cxnSp>
          <p:nvCxnSpPr>
            <p:cNvPr id="169" name="AutoShape 21"/>
            <p:cNvCxnSpPr/>
            <p:nvPr/>
          </p:nvCxnSpPr>
          <p:spPr>
            <a:xfrm flipH="1" rot="16200000">
              <a:off x="5979960" y="3010320"/>
              <a:ext cx="2520" cy="2515320"/>
            </a:xfrm>
            <a:prstGeom prst="curvedConnector5">
              <a:avLst>
                <a:gd name="adj1" fmla="val 42983333"/>
                <a:gd name="adj2" fmla="val 50000"/>
                <a:gd name="adj3" fmla="val 42983333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70" name="Group 22"/>
            <p:cNvGrpSpPr/>
            <p:nvPr/>
          </p:nvGrpSpPr>
          <p:grpSpPr>
            <a:xfrm>
              <a:off x="4419720" y="2438280"/>
              <a:ext cx="3200400" cy="1371600"/>
              <a:chOff x="4419720" y="2438280"/>
              <a:chExt cx="3200400" cy="1371600"/>
            </a:xfrm>
          </p:grpSpPr>
          <p:sp>
            <p:nvSpPr>
              <p:cNvPr id="171" name="Oval 23"/>
              <p:cNvSpPr/>
              <p:nvPr/>
            </p:nvSpPr>
            <p:spPr>
              <a:xfrm>
                <a:off x="4419720" y="3352680"/>
                <a:ext cx="68580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2" name="Oval 24"/>
              <p:cNvSpPr/>
              <p:nvPr/>
            </p:nvSpPr>
            <p:spPr>
              <a:xfrm>
                <a:off x="6782040" y="3352680"/>
                <a:ext cx="838080" cy="45720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cxnSp>
            <p:nvCxnSpPr>
              <p:cNvPr id="173" name="AutoShape 25"/>
              <p:cNvCxnSpPr/>
              <p:nvPr/>
            </p:nvCxnSpPr>
            <p:spPr>
              <a:xfrm flipH="1" rot="16200000">
                <a:off x="6055920" y="2095920"/>
                <a:ext cx="2520" cy="2515320"/>
              </a:xfrm>
              <a:prstGeom prst="curvedConnector5">
                <a:avLst>
                  <a:gd name="adj1" fmla="val -41900000"/>
                  <a:gd name="adj2" fmla="val 50000"/>
                  <a:gd name="adj3" fmla="val -41900000"/>
                </a:avLst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74" name="Text Box 26"/>
              <p:cNvSpPr/>
              <p:nvPr/>
            </p:nvSpPr>
            <p:spPr>
              <a:xfrm>
                <a:off x="5181840" y="243828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5 volte più grande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175" name="Text Box 27"/>
            <p:cNvSpPr/>
            <p:nvPr/>
          </p:nvSpPr>
          <p:spPr>
            <a:xfrm>
              <a:off x="5181840" y="4952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66"/>
                  </a:solidFill>
                  <a:latin typeface="Arial"/>
                </a:rPr>
                <a:t>5 volte più grande</a:t>
              </a:r>
              <a:endParaRPr b="0" lang="en-US" sz="1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4038480" y="2743200"/>
            <a:ext cx="4889520" cy="3258360"/>
            <a:chOff x="4038480" y="2743200"/>
            <a:chExt cx="4889520" cy="3258360"/>
          </a:xfrm>
        </p:grpSpPr>
        <p:grpSp>
          <p:nvGrpSpPr>
            <p:cNvPr id="177" name="Group 30"/>
            <p:cNvGrpSpPr/>
            <p:nvPr/>
          </p:nvGrpSpPr>
          <p:grpSpPr>
            <a:xfrm>
              <a:off x="5486400" y="3911760"/>
              <a:ext cx="2286000" cy="2089800"/>
              <a:chOff x="5486400" y="3911760"/>
              <a:chExt cx="2286000" cy="2089800"/>
            </a:xfrm>
          </p:grpSpPr>
          <p:sp>
            <p:nvSpPr>
              <p:cNvPr id="178" name="Line 31"/>
              <p:cNvSpPr/>
              <p:nvPr/>
            </p:nvSpPr>
            <p:spPr>
              <a:xfrm>
                <a:off x="5486400" y="3911760"/>
                <a:ext cx="83808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 flipH="1">
                <a:off x="6858000" y="3911760"/>
                <a:ext cx="914400" cy="1752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0" name="Text Box 33"/>
              <p:cNvSpPr/>
              <p:nvPr/>
            </p:nvSpPr>
            <p:spPr>
              <a:xfrm>
                <a:off x="5943600" y="5664240"/>
                <a:ext cx="13716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0066"/>
                    </a:solidFill>
                    <a:latin typeface="Arial"/>
                  </a:rPr>
                  <a:t>costante</a:t>
                </a:r>
                <a:endParaRPr b="0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34"/>
            <p:cNvGrpSpPr/>
            <p:nvPr/>
          </p:nvGrpSpPr>
          <p:grpSpPr>
            <a:xfrm>
              <a:off x="4038480" y="2743200"/>
              <a:ext cx="4889520" cy="1015920"/>
              <a:chOff x="4038480" y="2743200"/>
              <a:chExt cx="4889520" cy="1015920"/>
            </a:xfrm>
          </p:grpSpPr>
          <p:sp>
            <p:nvSpPr>
              <p:cNvPr id="182" name="Text Box 35"/>
              <p:cNvSpPr/>
              <p:nvPr/>
            </p:nvSpPr>
            <p:spPr>
              <a:xfrm>
                <a:off x="5791320" y="2768760"/>
                <a:ext cx="129528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0066"/>
                    </a:solidFill>
                    <a:latin typeface="Arial"/>
                  </a:rPr>
                  <a:t>rapporto</a:t>
                </a:r>
                <a:endParaRPr b="0" lang="en-US" sz="14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4038480" y="2857680"/>
                <a:ext cx="1676520" cy="90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901440"/>
                  <a:gd name="textAreaBottom" fmla="*/ 901800 h 901440"/>
                </a:gdLst>
                <a:ahLst/>
                <a:rect l="textAreaLeft" t="textAreaTop" r="textAreaRight" b="textAreaBottom"/>
                <a:pathLst>
                  <a:path w="1104" h="520">
                    <a:moveTo>
                      <a:pt x="1104" y="40"/>
                    </a:moveTo>
                    <a:cubicBezTo>
                      <a:pt x="764" y="20"/>
                      <a:pt x="424" y="0"/>
                      <a:pt x="240" y="40"/>
                    </a:cubicBezTo>
                    <a:cubicBezTo>
                      <a:pt x="56" y="80"/>
                      <a:pt x="0" y="200"/>
                      <a:pt x="0" y="280"/>
                    </a:cubicBezTo>
                    <a:cubicBezTo>
                      <a:pt x="0" y="360"/>
                      <a:pt x="120" y="440"/>
                      <a:pt x="240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84" name="Freeform 37"/>
              <p:cNvSpPr/>
              <p:nvPr/>
            </p:nvSpPr>
            <p:spPr>
              <a:xfrm>
                <a:off x="7162920" y="2743200"/>
                <a:ext cx="1765080" cy="1015920"/>
              </a:xfrm>
              <a:custGeom>
                <a:avLst/>
                <a:gdLst>
                  <a:gd name="textAreaLeft" fmla="*/ 0 w 1765080"/>
                  <a:gd name="textAreaRight" fmla="*/ 1765440 w 176508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112" h="640">
                    <a:moveTo>
                      <a:pt x="0" y="64"/>
                    </a:moveTo>
                    <a:cubicBezTo>
                      <a:pt x="316" y="32"/>
                      <a:pt x="632" y="0"/>
                      <a:pt x="816" y="64"/>
                    </a:cubicBezTo>
                    <a:cubicBezTo>
                      <a:pt x="1000" y="128"/>
                      <a:pt x="1096" y="352"/>
                      <a:pt x="1104" y="448"/>
                    </a:cubicBezTo>
                    <a:cubicBezTo>
                      <a:pt x="1112" y="544"/>
                      <a:pt x="988" y="592"/>
                      <a:pt x="864" y="64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45"/>
          <p:cNvSpPr/>
          <p:nvPr/>
        </p:nvSpPr>
        <p:spPr>
          <a:xfrm>
            <a:off x="2895480" y="762120"/>
            <a:ext cx="5410440" cy="55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Rappresentiamo graficamente le grandezz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“allungamento della molla”</a:t>
            </a: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 e “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° di pesetti applicati”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6" name="Picture 49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sp>
        <p:nvSpPr>
          <p:cNvPr id="187" name="Oval 101"/>
          <p:cNvSpPr/>
          <p:nvPr/>
        </p:nvSpPr>
        <p:spPr>
          <a:xfrm>
            <a:off x="1752480" y="483876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Oval 102"/>
          <p:cNvSpPr/>
          <p:nvPr/>
        </p:nvSpPr>
        <p:spPr>
          <a:xfrm>
            <a:off x="3251160" y="42670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4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360036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8"/>
              <p:cNvSpPr txBox="1"/>
              <p:nvPr/>
            </p:nvSpPr>
            <p:spPr>
              <a:xfrm>
                <a:off x="4032360" y="25146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5834160" y="2495520"/>
                <a:ext cx="1493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3" name="Picture 3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82880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2514600" y="838080"/>
          <a:ext cx="5067360" cy="72576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723960"/>
                <a:gridCol w="723600"/>
                <a:gridCol w="723960"/>
                <a:gridCol w="723960"/>
                <a:gridCol w="7239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llungamento molla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cm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° pesetti</a:t>
                      </a:r>
                      <a:endParaRPr b="0" lang="en-US" sz="10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63"/>
          <p:cNvSpPr/>
          <p:nvPr/>
        </p:nvSpPr>
        <p:spPr>
          <a:xfrm>
            <a:off x="2514600" y="1676520"/>
            <a:ext cx="5181480" cy="580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Anche il rapporto tra le </a:t>
            </a:r>
            <a:r>
              <a:rPr b="1" lang="it-IT" sz="1600" spc="-1" strike="noStrike">
                <a:solidFill>
                  <a:srgbClr val="ff0066"/>
                </a:solidFill>
                <a:latin typeface="Arial"/>
              </a:rPr>
              <a:t>variazioni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 delle due grandezze rimane costant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Oval 67"/>
          <p:cNvSpPr/>
          <p:nvPr/>
        </p:nvSpPr>
        <p:spPr>
          <a:xfrm>
            <a:off x="3251160" y="422928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Oval 68"/>
          <p:cNvSpPr/>
          <p:nvPr/>
        </p:nvSpPr>
        <p:spPr>
          <a:xfrm>
            <a:off x="1752480" y="4826160"/>
            <a:ext cx="76320" cy="759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Freeform 69"/>
          <p:cNvSpPr/>
          <p:nvPr/>
        </p:nvSpPr>
        <p:spPr>
          <a:xfrm>
            <a:off x="1752480" y="281952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440" h="1248">
                <a:moveTo>
                  <a:pt x="0" y="1248"/>
                </a:moveTo>
                <a:cubicBezTo>
                  <a:pt x="48" y="1112"/>
                  <a:pt x="96" y="976"/>
                  <a:pt x="336" y="768"/>
                </a:cubicBezTo>
                <a:cubicBezTo>
                  <a:pt x="576" y="560"/>
                  <a:pt x="1008" y="280"/>
                  <a:pt x="144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Freeform 71"/>
          <p:cNvSpPr/>
          <p:nvPr/>
        </p:nvSpPr>
        <p:spPr>
          <a:xfrm>
            <a:off x="3276720" y="2971800"/>
            <a:ext cx="2463840" cy="175248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552" h="1104">
                <a:moveTo>
                  <a:pt x="16" y="864"/>
                </a:moveTo>
                <a:cubicBezTo>
                  <a:pt x="8" y="984"/>
                  <a:pt x="0" y="1104"/>
                  <a:pt x="256" y="960"/>
                </a:cubicBezTo>
                <a:cubicBezTo>
                  <a:pt x="512" y="816"/>
                  <a:pt x="1032" y="408"/>
                  <a:pt x="155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AutoShape 72"/>
          <p:cNvSpPr/>
          <p:nvPr/>
        </p:nvSpPr>
        <p:spPr>
          <a:xfrm>
            <a:off x="1066680" y="4267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3"/>
              <p:cNvSpPr txBox="1"/>
              <p:nvPr/>
            </p:nvSpPr>
            <p:spPr>
              <a:xfrm>
                <a:off x="54100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Freeform 77"/>
          <p:cNvSpPr/>
          <p:nvPr/>
        </p:nvSpPr>
        <p:spPr>
          <a:xfrm>
            <a:off x="673200" y="3886200"/>
            <a:ext cx="4736880" cy="2044800"/>
          </a:xfrm>
          <a:custGeom>
            <a:avLst/>
            <a:gdLst>
              <a:gd name="textAreaLeft" fmla="*/ 0 w 4736880"/>
              <a:gd name="textAreaRight" fmla="*/ 4737240 w 47368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84" h="1288">
                <a:moveTo>
                  <a:pt x="200" y="432"/>
                </a:moveTo>
                <a:cubicBezTo>
                  <a:pt x="136" y="392"/>
                  <a:pt x="72" y="352"/>
                  <a:pt x="56" y="432"/>
                </a:cubicBezTo>
                <a:cubicBezTo>
                  <a:pt x="40" y="512"/>
                  <a:pt x="0" y="800"/>
                  <a:pt x="104" y="912"/>
                </a:cubicBezTo>
                <a:cubicBezTo>
                  <a:pt x="208" y="1024"/>
                  <a:pt x="352" y="1072"/>
                  <a:pt x="680" y="1104"/>
                </a:cubicBezTo>
                <a:cubicBezTo>
                  <a:pt x="1008" y="1136"/>
                  <a:pt x="1688" y="1288"/>
                  <a:pt x="2072" y="1104"/>
                </a:cubicBezTo>
                <a:cubicBezTo>
                  <a:pt x="2456" y="920"/>
                  <a:pt x="2720" y="460"/>
                  <a:pt x="298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Text Box 78"/>
          <p:cNvSpPr/>
          <p:nvPr/>
        </p:nvSpPr>
        <p:spPr>
          <a:xfrm>
            <a:off x="4419720" y="4267080"/>
            <a:ext cx="4343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In generale potremo scrivere che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9"/>
              <p:cNvSpPr txBox="1"/>
              <p:nvPr/>
            </p:nvSpPr>
            <p:spPr>
              <a:xfrm>
                <a:off x="5715000" y="5105520"/>
                <a:ext cx="12952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54160" y="2438280"/>
            <a:ext cx="3600360" cy="373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16000"/>
            <a:ext cx="6477120" cy="4572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Grafici cartesi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 proporzionalità di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3962520" y="1600200"/>
                <a:ext cx="13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715000" y="1600200"/>
                <a:ext cx="1494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Oval 34"/>
          <p:cNvSpPr/>
          <p:nvPr/>
        </p:nvSpPr>
        <p:spPr>
          <a:xfrm>
            <a:off x="3251160" y="412740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Oval 35"/>
          <p:cNvSpPr/>
          <p:nvPr/>
        </p:nvSpPr>
        <p:spPr>
          <a:xfrm>
            <a:off x="1752480" y="4711680"/>
            <a:ext cx="76320" cy="76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854680" y="3429000"/>
                <a:ext cx="294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2"/>
              <p:cNvSpPr txBox="1"/>
              <p:nvPr/>
            </p:nvSpPr>
            <p:spPr>
              <a:xfrm>
                <a:off x="3809880" y="3352680"/>
                <a:ext cx="1295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43"/>
          <p:cNvSpPr/>
          <p:nvPr/>
        </p:nvSpPr>
        <p:spPr>
          <a:xfrm>
            <a:off x="457200" y="825480"/>
            <a:ext cx="8001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Quindi nelle relazioni di proporzionalità diretta tra grandezze devono essere rispettate le due condizioni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4"/>
              <p:cNvSpPr txBox="1"/>
              <p:nvPr/>
            </p:nvSpPr>
            <p:spPr>
              <a:xfrm>
                <a:off x="2209680" y="1600200"/>
                <a:ext cx="763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45"/>
          <p:cNvSpPr/>
          <p:nvPr/>
        </p:nvSpPr>
        <p:spPr>
          <a:xfrm>
            <a:off x="3048120" y="1752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Text Box 46"/>
          <p:cNvSpPr/>
          <p:nvPr/>
        </p:nvSpPr>
        <p:spPr>
          <a:xfrm>
            <a:off x="5130720" y="1778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4991040" y="3632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esempio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8" name="Group 51"/>
          <p:cNvGrpSpPr/>
          <p:nvPr/>
        </p:nvGrpSpPr>
        <p:grpSpPr>
          <a:xfrm>
            <a:off x="1828800" y="2437920"/>
            <a:ext cx="1397160" cy="2133720"/>
            <a:chOff x="1828800" y="2437920"/>
            <a:chExt cx="1397160" cy="2133720"/>
          </a:xfrm>
        </p:grpSpPr>
        <p:sp>
          <p:nvSpPr>
            <p:cNvPr id="219" name="Line 49"/>
            <p:cNvSpPr/>
            <p:nvPr/>
          </p:nvSpPr>
          <p:spPr>
            <a:xfrm flipV="1">
              <a:off x="1828800" y="2437920"/>
              <a:ext cx="609480" cy="2133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50"/>
            <p:cNvSpPr/>
            <p:nvPr/>
          </p:nvSpPr>
          <p:spPr>
            <a:xfrm flipH="1" flipV="1">
              <a:off x="2692440" y="2450880"/>
              <a:ext cx="533520" cy="1600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1" name="Group 57"/>
          <p:cNvGrpSpPr/>
          <p:nvPr/>
        </p:nvGrpSpPr>
        <p:grpSpPr>
          <a:xfrm>
            <a:off x="1117440" y="4178160"/>
            <a:ext cx="2171520" cy="1003320"/>
            <a:chOff x="1117440" y="4178160"/>
            <a:chExt cx="2171520" cy="1003320"/>
          </a:xfrm>
        </p:grpSpPr>
        <p:sp>
          <p:nvSpPr>
            <p:cNvPr id="222" name="AutoShape 38"/>
            <p:cNvSpPr/>
            <p:nvPr/>
          </p:nvSpPr>
          <p:spPr>
            <a:xfrm>
              <a:off x="1117440" y="4178160"/>
              <a:ext cx="152640" cy="6098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AutoShape 53"/>
            <p:cNvSpPr/>
            <p:nvPr/>
          </p:nvSpPr>
          <p:spPr>
            <a:xfrm flipV="1" rot="16200000">
              <a:off x="2476080" y="4368600"/>
              <a:ext cx="126720" cy="149868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224" name="Group 56"/>
          <p:cNvGrpSpPr/>
          <p:nvPr/>
        </p:nvGrpSpPr>
        <p:grpSpPr>
          <a:xfrm>
            <a:off x="711360" y="4267080"/>
            <a:ext cx="3975120" cy="1498680"/>
            <a:chOff x="711360" y="4267080"/>
            <a:chExt cx="3975120" cy="1498680"/>
          </a:xfrm>
        </p:grpSpPr>
        <p:sp>
          <p:nvSpPr>
            <p:cNvPr id="225" name="Freeform 52"/>
            <p:cNvSpPr/>
            <p:nvPr/>
          </p:nvSpPr>
          <p:spPr>
            <a:xfrm>
              <a:off x="711360" y="4267080"/>
              <a:ext cx="3962160" cy="149868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2496" h="944">
                  <a:moveTo>
                    <a:pt x="176" y="144"/>
                  </a:moveTo>
                  <a:cubicBezTo>
                    <a:pt x="88" y="140"/>
                    <a:pt x="0" y="136"/>
                    <a:pt x="32" y="240"/>
                  </a:cubicBezTo>
                  <a:cubicBezTo>
                    <a:pt x="64" y="344"/>
                    <a:pt x="16" y="672"/>
                    <a:pt x="368" y="768"/>
                  </a:cubicBezTo>
                  <a:cubicBezTo>
                    <a:pt x="720" y="864"/>
                    <a:pt x="1792" y="944"/>
                    <a:pt x="2144" y="816"/>
                  </a:cubicBezTo>
                  <a:cubicBezTo>
                    <a:pt x="2496" y="688"/>
                    <a:pt x="2488" y="344"/>
                    <a:pt x="248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6" name="Freeform 55"/>
            <p:cNvSpPr/>
            <p:nvPr/>
          </p:nvSpPr>
          <p:spPr>
            <a:xfrm>
              <a:off x="3276720" y="4419720"/>
              <a:ext cx="1409760" cy="6602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88" h="416">
                  <a:moveTo>
                    <a:pt x="0" y="384"/>
                  </a:moveTo>
                  <a:cubicBezTo>
                    <a:pt x="148" y="400"/>
                    <a:pt x="296" y="416"/>
                    <a:pt x="432" y="384"/>
                  </a:cubicBezTo>
                  <a:cubicBezTo>
                    <a:pt x="568" y="352"/>
                    <a:pt x="744" y="256"/>
                    <a:pt x="816" y="192"/>
                  </a:cubicBezTo>
                  <a:cubicBezTo>
                    <a:pt x="888" y="128"/>
                    <a:pt x="876" y="64"/>
                    <a:pt x="864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FEDERICO BARBAROSSA</dc:creator>
  <dc:description/>
  <dc:language>en-US</dc:language>
  <cp:lastModifiedBy>cliemt</cp:lastModifiedBy>
  <dcterms:modified xsi:type="dcterms:W3CDTF">2018-06-05T10:25:01Z</dcterms:modified>
  <cp:revision>103</cp:revision>
  <dc:subject/>
  <dc:title>GRAFICI CARTESIANI</dc:title>
</cp:coreProperties>
</file>