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27FB-AAA9-4B06-A31E-129357CD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9DA5-58CC-4233-9484-C0A3533A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DE15-325D-41E8-B312-9ADDAFEE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92CF-29D4-4B92-9AEB-6D9B3025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D8DC-660F-49AC-A2E4-3F9EB44D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C317-940A-404D-B3D7-0E13E601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F54D-6D91-48E0-AF7A-8CBF4C8E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DC68-F66C-43D2-9585-C8056FF8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1F8-4191-4885-B011-30A25575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B998-73DD-48C6-A6A5-0ECC49E8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02EE-B254-4362-ABF3-C2676247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2C3A-4952-4347-B13B-3F953BB5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1B9D-5045-46E3-8F82-1588F4C6D96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l Moto Circolare Uniforme è un moto accelera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21337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l MCU il “modulo” della velocità è cos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2560" y="29718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’ presente però l’accelerazione centrip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39625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ind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53352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l punto di vista qualitativo si può fare riferimento alla definizione dei “grandezza vettoria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8108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 l’applichiamo alla velocità periferica del MCU allor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2244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714840" y="2857680"/>
            <a:ext cx="3961440" cy="3124080"/>
            <a:chOff x="3714840" y="2857680"/>
            <a:chExt cx="3961440" cy="3124080"/>
          </a:xfrm>
        </p:grpSpPr>
        <p:sp>
          <p:nvSpPr>
            <p:cNvPr id="49" name=""/>
            <p:cNvSpPr/>
            <p:nvPr/>
          </p:nvSpPr>
          <p:spPr>
            <a:xfrm>
              <a:off x="3714840" y="3238560"/>
              <a:ext cx="3047760" cy="2743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5162400" y="2857680"/>
              <a:ext cx="2513880" cy="2819160"/>
              <a:chOff x="5162400" y="2857680"/>
              <a:chExt cx="2513880" cy="2819160"/>
            </a:xfrm>
          </p:grpSpPr>
          <p:sp>
            <p:nvSpPr>
              <p:cNvPr id="51" name=""/>
              <p:cNvSpPr/>
              <p:nvPr/>
            </p:nvSpPr>
            <p:spPr>
              <a:xfrm>
                <a:off x="5238360" y="3238560"/>
                <a:ext cx="144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228720" y="3543480"/>
                <a:ext cx="99036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62240" y="4533840"/>
                <a:ext cx="7596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162400" y="3162240"/>
                <a:ext cx="15192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228720" y="354348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685920" y="445788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76440" y="285768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v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067160" y="384804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v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990840" y="521964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v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152760" y="291960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43120" y="384804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067160" y="522468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6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ntitativamente con il metodo delle componenti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mostriamo l’esistenza dell’accele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2133720"/>
            <a:ext cx="4114800" cy="3886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800600" y="1724040"/>
            <a:ext cx="2133720" cy="459720"/>
            <a:chOff x="4800600" y="1724040"/>
            <a:chExt cx="2133720" cy="459720"/>
          </a:xfrm>
        </p:grpSpPr>
        <p:sp>
          <p:nvSpPr>
            <p:cNvPr id="66" name=""/>
            <p:cNvSpPr/>
            <p:nvPr/>
          </p:nvSpPr>
          <p:spPr>
            <a:xfrm>
              <a:off x="4800600" y="2133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24480" y="17240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858000" y="4038480"/>
            <a:ext cx="762120" cy="2059920"/>
            <a:chOff x="6858000" y="4038480"/>
            <a:chExt cx="762120" cy="2059920"/>
          </a:xfrm>
        </p:grpSpPr>
        <p:sp>
          <p:nvSpPr>
            <p:cNvPr id="69" name=""/>
            <p:cNvSpPr/>
            <p:nvPr/>
          </p:nvSpPr>
          <p:spPr>
            <a:xfrm>
              <a:off x="6858000" y="403848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10280" y="56386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v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343400" y="2152800"/>
            <a:ext cx="609480" cy="1981080"/>
            <a:chOff x="4343400" y="2152800"/>
            <a:chExt cx="609480" cy="1981080"/>
          </a:xfrm>
        </p:grpSpPr>
        <p:sp>
          <p:nvSpPr>
            <p:cNvPr id="72" name=""/>
            <p:cNvSpPr/>
            <p:nvPr/>
          </p:nvSpPr>
          <p:spPr>
            <a:xfrm>
              <a:off x="4795920" y="21528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343400" y="3352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v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800240" y="2133720"/>
            <a:ext cx="2133720" cy="1981080"/>
            <a:chOff x="4800240" y="2133720"/>
            <a:chExt cx="2133720" cy="1981080"/>
          </a:xfrm>
        </p:grpSpPr>
        <p:sp>
          <p:nvSpPr>
            <p:cNvPr id="75" name=""/>
            <p:cNvSpPr/>
            <p:nvPr/>
          </p:nvSpPr>
          <p:spPr>
            <a:xfrm flipH="1">
              <a:off x="4800240" y="2133720"/>
              <a:ext cx="2133720" cy="19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38680" y="32004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733920" y="990720"/>
            <a:ext cx="4114800" cy="3886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791320" y="581040"/>
            <a:ext cx="2133360" cy="459720"/>
            <a:chOff x="5791320" y="581040"/>
            <a:chExt cx="2133360" cy="459720"/>
          </a:xfrm>
        </p:grpSpPr>
        <p:sp>
          <p:nvSpPr>
            <p:cNvPr id="79" name=""/>
            <p:cNvSpPr/>
            <p:nvPr/>
          </p:nvSpPr>
          <p:spPr>
            <a:xfrm>
              <a:off x="5791320" y="99072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14840" y="5810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334120" y="1009800"/>
            <a:ext cx="609480" cy="1981080"/>
            <a:chOff x="5334120" y="1009800"/>
            <a:chExt cx="609480" cy="1981080"/>
          </a:xfrm>
        </p:grpSpPr>
        <p:sp>
          <p:nvSpPr>
            <p:cNvPr id="82" name=""/>
            <p:cNvSpPr/>
            <p:nvPr/>
          </p:nvSpPr>
          <p:spPr>
            <a:xfrm>
              <a:off x="5786640" y="10098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3412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v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791320" y="990720"/>
            <a:ext cx="2133360" cy="1981080"/>
            <a:chOff x="5791320" y="990720"/>
            <a:chExt cx="2133360" cy="1981080"/>
          </a:xfrm>
        </p:grpSpPr>
        <p:sp>
          <p:nvSpPr>
            <p:cNvPr id="85" name=""/>
            <p:cNvSpPr/>
            <p:nvPr/>
          </p:nvSpPr>
          <p:spPr>
            <a:xfrm flipH="1">
              <a:off x="5791320" y="990720"/>
              <a:ext cx="2133360" cy="19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040" y="2057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57200" y="609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ix =    modulo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1600" y="113364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fy =  - modulo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62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v = - vfy - v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486400" y="685800"/>
            <a:ext cx="609480" cy="609480"/>
            <a:chOff x="5486400" y="685800"/>
            <a:chExt cx="609480" cy="609480"/>
          </a:xfrm>
        </p:grpSpPr>
        <p:sp>
          <p:nvSpPr>
            <p:cNvPr id="91" name=""/>
            <p:cNvSpPr/>
            <p:nvPr/>
          </p:nvSpPr>
          <p:spPr>
            <a:xfrm>
              <a:off x="5790960" y="685800"/>
              <a:ext cx="0" cy="609480"/>
            </a:xfrm>
            <a:prstGeom prst="line">
              <a:avLst/>
            </a:prstGeom>
            <a:ln w="572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86400" y="990720"/>
              <a:ext cx="609480" cy="0"/>
            </a:xfrm>
            <a:prstGeom prst="line">
              <a:avLst/>
            </a:prstGeom>
            <a:ln w="572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95" name=""/>
          <p:cNvGraphicFramePr/>
          <p:nvPr/>
        </p:nvGraphicFramePr>
        <p:xfrm>
          <a:off x="380880" y="3352680"/>
          <a:ext cx="533412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352680"/>
                    <a:ext cx="53341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48320" y="2865600"/>
            <a:ext cx="3603600" cy="3336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50120" y="2514600"/>
            <a:ext cx="1868400" cy="459720"/>
            <a:chOff x="6450120" y="2514600"/>
            <a:chExt cx="1868400" cy="459720"/>
          </a:xfrm>
        </p:grpSpPr>
        <p:sp>
          <p:nvSpPr>
            <p:cNvPr id="99" name=""/>
            <p:cNvSpPr/>
            <p:nvPr/>
          </p:nvSpPr>
          <p:spPr>
            <a:xfrm>
              <a:off x="6450120" y="2866680"/>
              <a:ext cx="186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84280" y="2514600"/>
              <a:ext cx="5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049800" y="2882880"/>
            <a:ext cx="533520" cy="1700280"/>
            <a:chOff x="6049800" y="2882880"/>
            <a:chExt cx="533520" cy="1700280"/>
          </a:xfrm>
        </p:grpSpPr>
        <p:sp>
          <p:nvSpPr>
            <p:cNvPr id="102" name=""/>
            <p:cNvSpPr/>
            <p:nvPr/>
          </p:nvSpPr>
          <p:spPr>
            <a:xfrm>
              <a:off x="6445800" y="2882880"/>
              <a:ext cx="0" cy="170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49800" y="3912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v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450120" y="2865600"/>
            <a:ext cx="1868400" cy="1701720"/>
            <a:chOff x="6450120" y="2865600"/>
            <a:chExt cx="1868400" cy="1701720"/>
          </a:xfrm>
        </p:grpSpPr>
        <p:sp>
          <p:nvSpPr>
            <p:cNvPr id="105" name=""/>
            <p:cNvSpPr/>
            <p:nvPr/>
          </p:nvSpPr>
          <p:spPr>
            <a:xfrm flipH="1">
              <a:off x="6450120" y="2865600"/>
              <a:ext cx="1868400" cy="1701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83800" y="3782880"/>
              <a:ext cx="5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332320" y="4867200"/>
                <a:ext cx="1000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332320" y="4867200"/>
                <a:ext cx="1000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09" name=""/>
          <p:cNvGraphicFramePr/>
          <p:nvPr/>
        </p:nvGraphicFramePr>
        <p:xfrm>
          <a:off x="609480" y="457200"/>
          <a:ext cx="556272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57200"/>
                    <a:ext cx="556272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09480" y="2057400"/>
          <a:ext cx="3657600" cy="11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057400"/>
                    <a:ext cx="36576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" name=""/>
          <p:cNvGrpSpPr/>
          <p:nvPr/>
        </p:nvGrpSpPr>
        <p:grpSpPr>
          <a:xfrm>
            <a:off x="685800" y="3886200"/>
            <a:ext cx="6540480" cy="2108160"/>
            <a:chOff x="685800" y="3886200"/>
            <a:chExt cx="6540480" cy="2108160"/>
          </a:xfrm>
        </p:grpSpPr>
        <p:sp>
          <p:nvSpPr>
            <p:cNvPr id="114" name=""/>
            <p:cNvSpPr/>
            <p:nvPr/>
          </p:nvSpPr>
          <p:spPr>
            <a:xfrm>
              <a:off x="6443640" y="3886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85800" y="3886200"/>
              <a:ext cx="2152440" cy="1060560"/>
              <a:chOff x="685800" y="3886200"/>
              <a:chExt cx="2152440" cy="1060560"/>
            </a:xfrm>
          </p:grpSpPr>
          <p:sp>
            <p:nvSpPr>
              <p:cNvPr id="116" name=""/>
              <p:cNvSpPr/>
              <p:nvPr/>
            </p:nvSpPr>
            <p:spPr>
              <a:xfrm>
                <a:off x="685800" y="419112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</a:t>
                </a:r>
                <a:r>
                  <a:rPr b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371600" y="3886200"/>
                <a:ext cx="1466640" cy="1060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990720" y="4343400"/>
              <a:ext cx="6235560" cy="1650960"/>
            </a:xfrm>
            <a:custGeom>
              <a:avLst/>
              <a:gdLst/>
              <a:ahLst/>
              <a:rect l="l" t="t" r="r" b="b"/>
              <a:pathLst>
                <a:path w="3928" h="1040">
                  <a:moveTo>
                    <a:pt x="0" y="288"/>
                  </a:moveTo>
                  <a:cubicBezTo>
                    <a:pt x="120" y="420"/>
                    <a:pt x="240" y="552"/>
                    <a:pt x="528" y="672"/>
                  </a:cubicBezTo>
                  <a:cubicBezTo>
                    <a:pt x="816" y="792"/>
                    <a:pt x="1336" y="976"/>
                    <a:pt x="1728" y="1008"/>
                  </a:cubicBezTo>
                  <a:cubicBezTo>
                    <a:pt x="2120" y="1040"/>
                    <a:pt x="2536" y="976"/>
                    <a:pt x="2880" y="864"/>
                  </a:cubicBezTo>
                  <a:cubicBezTo>
                    <a:pt x="3224" y="752"/>
                    <a:pt x="3656" y="480"/>
                    <a:pt x="3792" y="336"/>
                  </a:cubicBezTo>
                  <a:cubicBezTo>
                    <a:pt x="3928" y="192"/>
                    <a:pt x="3712" y="56"/>
                    <a:pt x="3696" y="0"/>
                  </a:cubicBezTo>
                </a:path>
              </a:pathLst>
            </a:custGeom>
            <a:noFill/>
            <a:ln w="28440">
              <a:solidFill>
                <a:srgbClr val="0066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0T14:29:42Z</dcterms:created>
  <dc:creator>fede</dc:creator>
  <dc:description/>
  <dc:language>en-US</dc:language>
  <cp:lastModifiedBy>fede</cp:lastModifiedBy>
  <dcterms:modified xsi:type="dcterms:W3CDTF">2018-03-24T13:53:04Z</dcterms:modified>
  <cp:revision>15</cp:revision>
  <dc:subject/>
  <dc:title>Il Moto Circolare Uniforme è un moto accelerato?</dc:title>
</cp:coreProperties>
</file>