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4.png" ContentType="image/png"/>
  <Override PartName="/ppt/media/image9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8.png" ContentType="image/png"/>
  <Override PartName="/ppt/media/image7.wmf" ContentType="image/x-wmf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7A0F-EB05-4819-B44B-5DC4703A1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7E7D-1F28-449E-8010-DF3DED26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CD47-A9CE-48A6-B69A-1B1EA32C8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C52B-8817-4324-AA0A-50E7D687E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4A99-C2A8-4F93-B136-067BA680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DF72-C4EE-4F4F-B68C-1C462E4F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BC90-3CA5-44FA-8856-6608D98E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5447-3520-4FC3-B8B6-70D7FDCD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D451-BA5D-47F6-8E52-F50CAA2D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B601-4867-494F-9EF6-9A39F20C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34A2-3D6F-4A91-9604-2BCE6200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99A7-789F-47D8-AEF9-EC87724B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E167-F7C1-44FC-B7C3-0F6F49E45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ng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png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.png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9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png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8.png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9.png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8.png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8.png"/><Relationship Id="rId20" Type="http://schemas.openxmlformats.org/officeDocument/2006/relationships/oleObject" Target="../embeddings/oleObject9.bin"/><Relationship Id="rId21" Type="http://schemas.openxmlformats.org/officeDocument/2006/relationships/image" Target="../media/image9.png"/><Relationship Id="rId22" Type="http://schemas.openxmlformats.org/officeDocument/2006/relationships/oleObject" Target="../embeddings/oleObject10.bin"/><Relationship Id="rId23" Type="http://schemas.openxmlformats.org/officeDocument/2006/relationships/image" Target="../media/image9.png"/><Relationship Id="rId24" Type="http://schemas.openxmlformats.org/officeDocument/2006/relationships/oleObject" Target="../embeddings/oleObject11.bin"/><Relationship Id="rId25" Type="http://schemas.openxmlformats.org/officeDocument/2006/relationships/image" Target="../media/image8.png"/><Relationship Id="rId26" Type="http://schemas.openxmlformats.org/officeDocument/2006/relationships/oleObject" Target="../embeddings/oleObject12.bin"/><Relationship Id="rId27" Type="http://schemas.openxmlformats.org/officeDocument/2006/relationships/image" Target="../media/image9.png"/><Relationship Id="rId28" Type="http://schemas.openxmlformats.org/officeDocument/2006/relationships/oleObject" Target="../embeddings/oleObject13.bin"/><Relationship Id="rId29" Type="http://schemas.openxmlformats.org/officeDocument/2006/relationships/image" Target="../media/image8.png"/><Relationship Id="rId30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image" Target="../media/image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0.png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0.png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0.png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1.png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12.png"/><Relationship Id="rId2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14400" y="2419200"/>
            <a:ext cx="7162920" cy="11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l moto vario</a:t>
            </a:r>
            <a:endParaRPr b="0" i="1" lang="en-US" sz="2400" spc="1" strike="noStrike">
              <a:ln w="9360">
                <a:solidFill>
                  <a:srgbClr val="003366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685800"/>
            <a:ext cx="4191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Per lo schermo intero, “clic” su tasto destro e scegli.            Per avanzare con la presentazione, “frecce”.                                       Per chiudere, “esc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AG00222_" descr=""/>
          <p:cNvPicPr/>
          <p:nvPr/>
        </p:nvPicPr>
        <p:blipFill>
          <a:blip r:embed="rId1"/>
          <a:stretch/>
        </p:blipFill>
        <p:spPr>
          <a:xfrm>
            <a:off x="1600200" y="3914640"/>
            <a:ext cx="914400" cy="863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95280" y="464832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Federico Barbaros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6094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Il moto vario e la velocità medi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0880" y="1828800"/>
            <a:ext cx="7086600" cy="353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Analizziamo il suo moto tramite la velocità media in ogni tratto…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7200" y="1066680"/>
            <a:ext cx="1981080" cy="64260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Questa volta a correre è Re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BD13656_" descr=""/>
          <p:cNvPicPr/>
          <p:nvPr/>
        </p:nvPicPr>
        <p:blipFill>
          <a:blip r:embed="rId1"/>
          <a:stretch/>
        </p:blipFill>
        <p:spPr>
          <a:xfrm>
            <a:off x="2666880" y="609480"/>
            <a:ext cx="1143000" cy="106704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380880" y="2286000"/>
            <a:ext cx="7086600" cy="353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…</a:t>
            </a: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e determiniamo poi la velocità media dell’intero percors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09880" y="1062000"/>
            <a:ext cx="4572000" cy="64260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l suo moto, lungo una retta, è rappresentato dal grafico spazio/t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228600" y="2714760"/>
            <a:ext cx="4038480" cy="3657600"/>
            <a:chOff x="228600" y="2714760"/>
            <a:chExt cx="4038480" cy="3657600"/>
          </a:xfrm>
        </p:grpSpPr>
        <p:grpSp>
          <p:nvGrpSpPr>
            <p:cNvPr id="403" name=""/>
            <p:cNvGrpSpPr/>
            <p:nvPr/>
          </p:nvGrpSpPr>
          <p:grpSpPr>
            <a:xfrm>
              <a:off x="380880" y="2714760"/>
              <a:ext cx="3886200" cy="3657600"/>
              <a:chOff x="380880" y="2714760"/>
              <a:chExt cx="3886200" cy="3657600"/>
            </a:xfrm>
          </p:grpSpPr>
          <p:grpSp>
            <p:nvGrpSpPr>
              <p:cNvPr id="404" name=""/>
              <p:cNvGrpSpPr/>
              <p:nvPr/>
            </p:nvGrpSpPr>
            <p:grpSpPr>
              <a:xfrm>
                <a:off x="380880" y="2714760"/>
                <a:ext cx="3886200" cy="3657600"/>
                <a:chOff x="380880" y="2714760"/>
                <a:chExt cx="3886200" cy="3657600"/>
              </a:xfrm>
            </p:grpSpPr>
            <p:graphicFrame>
              <p:nvGraphicFramePr>
                <p:cNvPr id="405" name=""/>
                <p:cNvGraphicFramePr/>
                <p:nvPr/>
              </p:nvGraphicFramePr>
              <p:xfrm>
                <a:off x="533520" y="2714760"/>
                <a:ext cx="3581280" cy="365760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406" name="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533520" y="2714760"/>
                          <a:ext cx="3581280" cy="3657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07" name=""/>
                <p:cNvSpPr/>
                <p:nvPr/>
              </p:nvSpPr>
              <p:spPr>
                <a:xfrm>
                  <a:off x="838080" y="2791080"/>
                  <a:ext cx="6858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 (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066680" y="606744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1447920" y="6067440"/>
                  <a:ext cx="3045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1752480" y="606744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133720" y="6067440"/>
                  <a:ext cx="3045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514600" y="606744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819520" y="6067440"/>
                  <a:ext cx="3045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57200" y="5457960"/>
                  <a:ext cx="457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533520" y="5077080"/>
                  <a:ext cx="3808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457200" y="4695840"/>
                  <a:ext cx="533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7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33520" y="4391280"/>
                  <a:ext cx="3808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380880" y="4010040"/>
                  <a:ext cx="6858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2.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609480" y="599148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581280" y="6067440"/>
                  <a:ext cx="6858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 (s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1" name=""/>
              <p:cNvSpPr/>
              <p:nvPr/>
            </p:nvSpPr>
            <p:spPr>
              <a:xfrm flipV="1">
                <a:off x="928800" y="4924440"/>
                <a:ext cx="685800" cy="1067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1600200" y="4619880"/>
                <a:ext cx="76212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2362320" y="3857400"/>
                <a:ext cx="30456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666880" y="3857760"/>
                <a:ext cx="762120" cy="1828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228600" y="58388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43000" y="47768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9200" y="43912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2080" y="37054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0400" y="54532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4419720" y="2819520"/>
            <a:ext cx="761760" cy="3682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-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5460840" y="2728800"/>
                <a:ext cx="31384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,5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,5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2" name=""/>
          <p:cNvSpPr/>
          <p:nvPr/>
        </p:nvSpPr>
        <p:spPr>
          <a:xfrm>
            <a:off x="4438800" y="3486240"/>
            <a:ext cx="7617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-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5425920" y="3395520"/>
                <a:ext cx="320832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7,5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,5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4" name=""/>
          <p:cNvSpPr/>
          <p:nvPr/>
        </p:nvSpPr>
        <p:spPr>
          <a:xfrm>
            <a:off x="4448160" y="4095720"/>
            <a:ext cx="762120" cy="3682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-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5559480" y="4038480"/>
                <a:ext cx="283824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6" name=""/>
          <p:cNvSpPr/>
          <p:nvPr/>
        </p:nvSpPr>
        <p:spPr>
          <a:xfrm>
            <a:off x="4419720" y="4762440"/>
            <a:ext cx="7617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-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5302080" y="4724280"/>
                <a:ext cx="357696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,5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8" name=""/>
          <p:cNvSpPr/>
          <p:nvPr/>
        </p:nvSpPr>
        <p:spPr>
          <a:xfrm>
            <a:off x="4191120" y="5334120"/>
            <a:ext cx="457200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L’ultima velocità risulta “negativa” perché Remo, nel tratto D – E percorre la strada in senso opposto rispetto a pri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6094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Il moto vario e la velocità medi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BD13656_" descr=""/>
          <p:cNvPicPr/>
          <p:nvPr/>
        </p:nvPicPr>
        <p:blipFill>
          <a:blip r:embed="rId1"/>
          <a:stretch/>
        </p:blipFill>
        <p:spPr>
          <a:xfrm>
            <a:off x="3733920" y="609480"/>
            <a:ext cx="1143000" cy="1067040"/>
          </a:xfrm>
          <a:prstGeom prst="rect">
            <a:avLst/>
          </a:prstGeom>
          <a:ln w="0">
            <a:noFill/>
          </a:ln>
        </p:spPr>
      </p:pic>
      <p:grpSp>
        <p:nvGrpSpPr>
          <p:cNvPr id="441" name=""/>
          <p:cNvGrpSpPr/>
          <p:nvPr/>
        </p:nvGrpSpPr>
        <p:grpSpPr>
          <a:xfrm>
            <a:off x="142920" y="1523880"/>
            <a:ext cx="4038480" cy="3657600"/>
            <a:chOff x="142920" y="1523880"/>
            <a:chExt cx="4038480" cy="3657600"/>
          </a:xfrm>
        </p:grpSpPr>
        <p:grpSp>
          <p:nvGrpSpPr>
            <p:cNvPr id="442" name=""/>
            <p:cNvGrpSpPr/>
            <p:nvPr/>
          </p:nvGrpSpPr>
          <p:grpSpPr>
            <a:xfrm>
              <a:off x="295200" y="1523880"/>
              <a:ext cx="3886200" cy="3657600"/>
              <a:chOff x="295200" y="1523880"/>
              <a:chExt cx="3886200" cy="36576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295200" y="1523880"/>
                <a:ext cx="3886200" cy="3657600"/>
                <a:chOff x="295200" y="1523880"/>
                <a:chExt cx="3886200" cy="3657600"/>
              </a:xfrm>
            </p:grpSpPr>
            <p:graphicFrame>
              <p:nvGraphicFramePr>
                <p:cNvPr id="444" name=""/>
                <p:cNvGraphicFramePr/>
                <p:nvPr/>
              </p:nvGraphicFramePr>
              <p:xfrm>
                <a:off x="447840" y="1523880"/>
                <a:ext cx="3581280" cy="365760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445" name="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447840" y="1523880"/>
                          <a:ext cx="3581280" cy="3657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46" name=""/>
                <p:cNvSpPr/>
                <p:nvPr/>
              </p:nvSpPr>
              <p:spPr>
                <a:xfrm>
                  <a:off x="752400" y="1600200"/>
                  <a:ext cx="6858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 (m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981000" y="487656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1362240" y="4876560"/>
                  <a:ext cx="3045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1666800" y="487656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2048040" y="4876560"/>
                  <a:ext cx="3045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2428920" y="487656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2733840" y="4876560"/>
                  <a:ext cx="3045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371520" y="4267080"/>
                  <a:ext cx="457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447840" y="3886200"/>
                  <a:ext cx="3808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71520" y="3504960"/>
                  <a:ext cx="533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7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447840" y="3200400"/>
                  <a:ext cx="3808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295200" y="2819160"/>
                  <a:ext cx="6858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2.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523800" y="480060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3495600" y="4876560"/>
                  <a:ext cx="6858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 (s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0" name=""/>
              <p:cNvSpPr/>
              <p:nvPr/>
            </p:nvSpPr>
            <p:spPr>
              <a:xfrm flipV="1">
                <a:off x="843120" y="3733560"/>
                <a:ext cx="685800" cy="1067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1514520" y="3429000"/>
                <a:ext cx="76212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2276640" y="2666520"/>
                <a:ext cx="30456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581200" y="2666880"/>
                <a:ext cx="762120" cy="1828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142920" y="46479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7320" y="35859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73520" y="32004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76400" y="25146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720" y="42624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4114800" y="1676520"/>
            <a:ext cx="457200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alcoliamo ora la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elocità media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dell’intero percorso, ricordando ch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14800" y="4495680"/>
            <a:ext cx="1371600" cy="3682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tto A -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4097160" y="5006880"/>
                <a:ext cx="453240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2,5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,5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2" name=""/>
          <p:cNvSpPr/>
          <p:nvPr/>
        </p:nvSpPr>
        <p:spPr>
          <a:xfrm>
            <a:off x="4114800" y="2438280"/>
            <a:ext cx="457200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la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elocità media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è il rapporto tra lo spazio percorso ed il tempo impiegato a percorrerlo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114800" y="3429000"/>
            <a:ext cx="457200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…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e che lo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pazio percorso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è la differenza tra la posizione finale e quella inizi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" y="5791320"/>
            <a:ext cx="8229600" cy="7038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velocità media può risultare molto diversa dalle velocità parziali di un moto v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6094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Prova t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4419720" y="2728800"/>
            <a:ext cx="4052880" cy="532080"/>
            <a:chOff x="4419720" y="2728800"/>
            <a:chExt cx="4052880" cy="532080"/>
          </a:xfrm>
        </p:grpSpPr>
        <p:sp>
          <p:nvSpPr>
            <p:cNvPr id="477" name=""/>
            <p:cNvSpPr/>
            <p:nvPr/>
          </p:nvSpPr>
          <p:spPr>
            <a:xfrm>
              <a:off x="4419720" y="2819520"/>
              <a:ext cx="761760" cy="36828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 -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8" name=""/>
                <p:cNvSpPr txBox="1"/>
                <p:nvPr/>
              </p:nvSpPr>
              <p:spPr>
                <a:xfrm>
                  <a:off x="5587920" y="2728800"/>
                  <a:ext cx="2884680" cy="53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Δs</m:t>
                          </m:r>
                        </m:num>
                        <m:den>
                          <m:r>
                            <m:t xml:space="preserve">Δ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5</m:t>
                          </m:r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6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t xml:space="preserve">s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5</m:t>
                          </m:r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6</m:t>
                          </m:r>
                          <m:r>
                            <m:t xml:space="preserve">s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83</m:t>
                      </m:r>
                      <m:f>
                        <m:num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79" name=""/>
          <p:cNvGrpSpPr/>
          <p:nvPr/>
        </p:nvGrpSpPr>
        <p:grpSpPr>
          <a:xfrm>
            <a:off x="4438800" y="3395520"/>
            <a:ext cx="3917880" cy="532080"/>
            <a:chOff x="4438800" y="3395520"/>
            <a:chExt cx="3917880" cy="532080"/>
          </a:xfrm>
        </p:grpSpPr>
        <p:sp>
          <p:nvSpPr>
            <p:cNvPr id="480" name=""/>
            <p:cNvSpPr/>
            <p:nvPr/>
          </p:nvSpPr>
          <p:spPr>
            <a:xfrm>
              <a:off x="4438800" y="3486240"/>
              <a:ext cx="76176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 - 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1" name=""/>
                <p:cNvSpPr txBox="1"/>
                <p:nvPr/>
              </p:nvSpPr>
              <p:spPr>
                <a:xfrm>
                  <a:off x="5702400" y="3395520"/>
                  <a:ext cx="2654280" cy="53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Δs</m:t>
                          </m:r>
                        </m:num>
                        <m:den>
                          <m:r>
                            <m:t xml:space="preserve">Δ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5</m:t>
                          </m:r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8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  <m:r>
                            <m:t xml:space="preserve">s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0</m:t>
                          </m:r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s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f>
                        <m:num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82" name=""/>
          <p:cNvGrpSpPr/>
          <p:nvPr/>
        </p:nvGrpSpPr>
        <p:grpSpPr>
          <a:xfrm>
            <a:off x="4448160" y="4038480"/>
            <a:ext cx="4076640" cy="532080"/>
            <a:chOff x="4448160" y="4038480"/>
            <a:chExt cx="4076640" cy="532080"/>
          </a:xfrm>
        </p:grpSpPr>
        <p:sp>
          <p:nvSpPr>
            <p:cNvPr id="483" name=""/>
            <p:cNvSpPr/>
            <p:nvPr/>
          </p:nvSpPr>
          <p:spPr>
            <a:xfrm>
              <a:off x="4448160" y="4095720"/>
              <a:ext cx="762120" cy="36828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 - 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4" name=""/>
                <p:cNvSpPr txBox="1"/>
                <p:nvPr/>
              </p:nvSpPr>
              <p:spPr>
                <a:xfrm>
                  <a:off x="5432400" y="4038480"/>
                  <a:ext cx="3092400" cy="53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Δs</m:t>
                          </m:r>
                        </m:num>
                        <m:den>
                          <m:r>
                            <m:t xml:space="preserve">Δ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  <m:r>
                            <m:t xml:space="preserve">m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8</m:t>
                          </m:r>
                          <m:r>
                            <m:t xml:space="preserve">s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s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75</m:t>
                      </m:r>
                      <m:f>
                        <m:num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85" name=""/>
          <p:cNvGrpSpPr/>
          <p:nvPr/>
        </p:nvGrpSpPr>
        <p:grpSpPr>
          <a:xfrm>
            <a:off x="4419720" y="4724280"/>
            <a:ext cx="4205160" cy="532080"/>
            <a:chOff x="4419720" y="4724280"/>
            <a:chExt cx="4205160" cy="532080"/>
          </a:xfrm>
        </p:grpSpPr>
        <p:sp>
          <p:nvSpPr>
            <p:cNvPr id="486" name=""/>
            <p:cNvSpPr/>
            <p:nvPr/>
          </p:nvSpPr>
          <p:spPr>
            <a:xfrm>
              <a:off x="4419720" y="4762440"/>
              <a:ext cx="76176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 - 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7" name=""/>
                <p:cNvSpPr txBox="1"/>
                <p:nvPr/>
              </p:nvSpPr>
              <p:spPr>
                <a:xfrm>
                  <a:off x="5556240" y="4724280"/>
                  <a:ext cx="3068640" cy="53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Δs</m:t>
                          </m:r>
                        </m:num>
                        <m:den>
                          <m:r>
                            <m:t xml:space="preserve">Δ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r>
                            <m:t xml:space="preserve">m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s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5</m:t>
                          </m:r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s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f>
                        <m:num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88" name=""/>
          <p:cNvGrpSpPr/>
          <p:nvPr/>
        </p:nvGrpSpPr>
        <p:grpSpPr>
          <a:xfrm>
            <a:off x="642960" y="1447920"/>
            <a:ext cx="3886200" cy="3994200"/>
            <a:chOff x="642960" y="1447920"/>
            <a:chExt cx="3886200" cy="3994200"/>
          </a:xfrm>
        </p:grpSpPr>
        <p:grpSp>
          <p:nvGrpSpPr>
            <p:cNvPr id="489" name=""/>
            <p:cNvGrpSpPr/>
            <p:nvPr/>
          </p:nvGrpSpPr>
          <p:grpSpPr>
            <a:xfrm>
              <a:off x="642960" y="1447920"/>
              <a:ext cx="3886200" cy="3994200"/>
              <a:chOff x="642960" y="1447920"/>
              <a:chExt cx="3886200" cy="3994200"/>
            </a:xfrm>
          </p:grpSpPr>
          <p:graphicFrame>
            <p:nvGraphicFramePr>
              <p:cNvPr id="490" name=""/>
              <p:cNvGraphicFramePr/>
              <p:nvPr/>
            </p:nvGraphicFramePr>
            <p:xfrm>
              <a:off x="795600" y="1447920"/>
              <a:ext cx="3581280" cy="36576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91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95600" y="1447920"/>
                        <a:ext cx="3581280" cy="3657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92" name=""/>
              <p:cNvSpPr/>
              <p:nvPr/>
            </p:nvSpPr>
            <p:spPr>
              <a:xfrm>
                <a:off x="1100160" y="1524240"/>
                <a:ext cx="685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 (m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328760" y="4800600"/>
                <a:ext cx="304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710000" y="4800600"/>
                <a:ext cx="304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014560" y="4800600"/>
                <a:ext cx="304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395800" y="4800600"/>
                <a:ext cx="304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776680" y="4800600"/>
                <a:ext cx="304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081600" y="4800600"/>
                <a:ext cx="3045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  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19280" y="4191120"/>
                <a:ext cx="457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95600" y="3810240"/>
                <a:ext cx="380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19280" y="3429000"/>
                <a:ext cx="533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95600" y="3124440"/>
                <a:ext cx="380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42960" y="2743200"/>
                <a:ext cx="685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871560" y="4724640"/>
                <a:ext cx="304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843360" y="4800600"/>
                <a:ext cx="685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 (s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1176480" y="4376520"/>
              <a:ext cx="1447920" cy="318600"/>
              <a:chOff x="1176480" y="4376520"/>
              <a:chExt cx="1447920" cy="318600"/>
            </a:xfrm>
          </p:grpSpPr>
          <p:sp>
            <p:nvSpPr>
              <p:cNvPr id="507" name=""/>
              <p:cNvSpPr/>
              <p:nvPr/>
            </p:nvSpPr>
            <p:spPr>
              <a:xfrm flipV="1">
                <a:off x="1176480" y="4390560"/>
                <a:ext cx="106668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243160" y="4376520"/>
                <a:ext cx="381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9" name=""/>
            <p:cNvSpPr/>
            <p:nvPr/>
          </p:nvSpPr>
          <p:spPr>
            <a:xfrm flipV="1">
              <a:off x="2619360" y="3352320"/>
              <a:ext cx="69084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3310200" y="2971440"/>
              <a:ext cx="761760" cy="38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490680" y="419112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14440" y="4576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95360" y="31575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14440" y="2790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549880" y="4224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4419720" y="5410080"/>
            <a:ext cx="4235400" cy="532080"/>
            <a:chOff x="4419720" y="5410080"/>
            <a:chExt cx="4235400" cy="532080"/>
          </a:xfrm>
        </p:grpSpPr>
        <p:sp>
          <p:nvSpPr>
            <p:cNvPr id="517" name=""/>
            <p:cNvSpPr/>
            <p:nvPr/>
          </p:nvSpPr>
          <p:spPr>
            <a:xfrm>
              <a:off x="4419720" y="5486400"/>
              <a:ext cx="761760" cy="3682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 - 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8" name=""/>
                <p:cNvSpPr txBox="1"/>
                <p:nvPr/>
              </p:nvSpPr>
              <p:spPr>
                <a:xfrm>
                  <a:off x="5562720" y="5410080"/>
                  <a:ext cx="3092400" cy="53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Δs</m:t>
                          </m:r>
                        </m:num>
                        <m:den>
                          <m:r>
                            <m:t xml:space="preserve">Δ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t xml:space="preserve">m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t xml:space="preserve">s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  <m:r>
                            <m:t xml:space="preserve">m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  <m:r>
                            <m:t xml:space="preserve">s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56</m:t>
                      </m:r>
                      <m:f>
                        <m:num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914400"/>
            <a:ext cx="8077320" cy="29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movimento dei corp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La traiet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La posi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Lo spostamento e lo spazio percor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La definizione di veloc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La velocità 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La velocità istanta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L’unità di mis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Prova 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3886200" y="1752480"/>
            <a:ext cx="4876920" cy="2590920"/>
            <a:chOff x="3886200" y="1752480"/>
            <a:chExt cx="4876920" cy="2590920"/>
          </a:xfrm>
        </p:grpSpPr>
        <p:sp>
          <p:nvSpPr>
            <p:cNvPr id="49" name=""/>
            <p:cNvSpPr/>
            <p:nvPr/>
          </p:nvSpPr>
          <p:spPr>
            <a:xfrm>
              <a:off x="3886200" y="1752480"/>
              <a:ext cx="4876920" cy="2590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AG00222_" descr=""/>
            <p:cNvPicPr/>
            <p:nvPr/>
          </p:nvPicPr>
          <p:blipFill>
            <a:blip r:embed="rId1"/>
            <a:stretch/>
          </p:blipFill>
          <p:spPr>
            <a:xfrm>
              <a:off x="4114800" y="3200400"/>
              <a:ext cx="838080" cy="79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l movimento dei cor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1143000"/>
            <a:ext cx="2666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traiet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36400" y="1830240"/>
          <a:ext cx="2740320" cy="235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6400" y="1830240"/>
                    <a:ext cx="2740320" cy="23576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189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57200" y="5334120"/>
            <a:ext cx="8381880" cy="82548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raiettoria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di un “punto mobile” è la linea descritta dal punto durante il suo mov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419720"/>
            <a:ext cx="2971800" cy="5202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La traiettoria della terra intorno al sole è una curva detta </a:t>
            </a: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elli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86200" y="4495680"/>
            <a:ext cx="4876920" cy="30708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La traiettoria che compie il signor Rossi  è </a:t>
            </a: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curvilin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23880" y="380880"/>
          <a:ext cx="52884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380880"/>
                    <a:ext cx="5288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AG00222_" descr=""/>
          <p:cNvPicPr/>
          <p:nvPr/>
        </p:nvPicPr>
        <p:blipFill>
          <a:blip r:embed="rId6"/>
          <a:stretch/>
        </p:blipFill>
        <p:spPr>
          <a:xfrm>
            <a:off x="4952880" y="3200400"/>
            <a:ext cx="838440" cy="790560"/>
          </a:xfrm>
          <a:prstGeom prst="rect">
            <a:avLst/>
          </a:prstGeom>
          <a:ln w="0">
            <a:noFill/>
          </a:ln>
        </p:spPr>
      </p:pic>
      <p:pic>
        <p:nvPicPr>
          <p:cNvPr id="61" name="AG00222_" descr=""/>
          <p:cNvPicPr/>
          <p:nvPr/>
        </p:nvPicPr>
        <p:blipFill>
          <a:blip r:embed="rId7"/>
          <a:stretch/>
        </p:blipFill>
        <p:spPr>
          <a:xfrm>
            <a:off x="5486400" y="2438280"/>
            <a:ext cx="838080" cy="790560"/>
          </a:xfrm>
          <a:prstGeom prst="rect">
            <a:avLst/>
          </a:prstGeom>
          <a:ln w="0">
            <a:noFill/>
          </a:ln>
        </p:spPr>
      </p:pic>
      <p:pic>
        <p:nvPicPr>
          <p:cNvPr id="62" name="AG00222_" descr=""/>
          <p:cNvPicPr/>
          <p:nvPr/>
        </p:nvPicPr>
        <p:blipFill>
          <a:blip r:embed="rId8"/>
          <a:stretch/>
        </p:blipFill>
        <p:spPr>
          <a:xfrm>
            <a:off x="6400800" y="2362320"/>
            <a:ext cx="838080" cy="790560"/>
          </a:xfrm>
          <a:prstGeom prst="rect">
            <a:avLst/>
          </a:prstGeom>
          <a:ln w="0">
            <a:noFill/>
          </a:ln>
        </p:spPr>
      </p:pic>
      <p:pic>
        <p:nvPicPr>
          <p:cNvPr id="63" name="AG00222_" descr=""/>
          <p:cNvPicPr/>
          <p:nvPr/>
        </p:nvPicPr>
        <p:blipFill>
          <a:blip r:embed="rId9"/>
          <a:stretch/>
        </p:blipFill>
        <p:spPr>
          <a:xfrm>
            <a:off x="7238880" y="1905120"/>
            <a:ext cx="838440" cy="790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648320" y="2666880"/>
            <a:ext cx="3352680" cy="1371600"/>
          </a:xfrm>
          <a:custGeom>
            <a:avLst/>
            <a:gdLst/>
            <a:ahLst/>
            <a:rect l="l" t="t" r="r" b="b"/>
            <a:pathLst>
              <a:path w="2688" h="1200">
                <a:moveTo>
                  <a:pt x="0" y="1104"/>
                </a:moveTo>
                <a:cubicBezTo>
                  <a:pt x="40" y="1124"/>
                  <a:pt x="80" y="1144"/>
                  <a:pt x="192" y="1152"/>
                </a:cubicBezTo>
                <a:cubicBezTo>
                  <a:pt x="304" y="1160"/>
                  <a:pt x="552" y="1200"/>
                  <a:pt x="672" y="1152"/>
                </a:cubicBezTo>
                <a:cubicBezTo>
                  <a:pt x="792" y="1104"/>
                  <a:pt x="880" y="960"/>
                  <a:pt x="912" y="864"/>
                </a:cubicBezTo>
                <a:cubicBezTo>
                  <a:pt x="944" y="768"/>
                  <a:pt x="824" y="648"/>
                  <a:pt x="864" y="576"/>
                </a:cubicBezTo>
                <a:cubicBezTo>
                  <a:pt x="904" y="504"/>
                  <a:pt x="1016" y="456"/>
                  <a:pt x="1152" y="432"/>
                </a:cubicBezTo>
                <a:cubicBezTo>
                  <a:pt x="1288" y="408"/>
                  <a:pt x="1536" y="464"/>
                  <a:pt x="1680" y="432"/>
                </a:cubicBezTo>
                <a:cubicBezTo>
                  <a:pt x="1824" y="400"/>
                  <a:pt x="1984" y="304"/>
                  <a:pt x="2016" y="240"/>
                </a:cubicBezTo>
                <a:cubicBezTo>
                  <a:pt x="2048" y="176"/>
                  <a:pt x="1760" y="88"/>
                  <a:pt x="1872" y="48"/>
                </a:cubicBezTo>
                <a:cubicBezTo>
                  <a:pt x="1984" y="8"/>
                  <a:pt x="2552" y="8"/>
                  <a:pt x="2688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0" y="1142640"/>
            <a:ext cx="9144000" cy="3505680"/>
            <a:chOff x="0" y="1142640"/>
            <a:chExt cx="9144000" cy="3505680"/>
          </a:xfrm>
        </p:grpSpPr>
        <p:grpSp>
          <p:nvGrpSpPr>
            <p:cNvPr id="66" name=""/>
            <p:cNvGrpSpPr/>
            <p:nvPr/>
          </p:nvGrpSpPr>
          <p:grpSpPr>
            <a:xfrm>
              <a:off x="0" y="1142640"/>
              <a:ext cx="9144000" cy="3505680"/>
              <a:chOff x="0" y="1142640"/>
              <a:chExt cx="9144000" cy="3505680"/>
            </a:xfrm>
          </p:grpSpPr>
          <p:grpSp>
            <p:nvGrpSpPr>
              <p:cNvPr id="67" name=""/>
              <p:cNvGrpSpPr/>
              <p:nvPr/>
            </p:nvGrpSpPr>
            <p:grpSpPr>
              <a:xfrm>
                <a:off x="0" y="1142640"/>
                <a:ext cx="9144000" cy="3505680"/>
                <a:chOff x="0" y="1142640"/>
                <a:chExt cx="9144000" cy="350568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0" y="3276720"/>
                  <a:ext cx="9144000" cy="1371600"/>
                </a:xfrm>
                <a:prstGeom prst="parallelogram">
                  <a:avLst>
                    <a:gd name="adj" fmla="val -104194"/>
                  </a:avLst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 flipV="1">
                  <a:off x="2057400" y="1142640"/>
                  <a:ext cx="0" cy="213372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70" name=""/>
              <p:cNvGraphicFramePr/>
              <p:nvPr/>
            </p:nvGraphicFramePr>
            <p:xfrm>
              <a:off x="7086600" y="3048120"/>
              <a:ext cx="1068480" cy="11476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1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086600" y="3048120"/>
                        <a:ext cx="1068480" cy="11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pic>
          <p:nvPicPr>
            <p:cNvPr id="72" name="HH00877_" descr=""/>
            <p:cNvPicPr/>
            <p:nvPr/>
          </p:nvPicPr>
          <p:blipFill>
            <a:blip r:embed="rId3"/>
            <a:stretch/>
          </p:blipFill>
          <p:spPr>
            <a:xfrm>
              <a:off x="1371600" y="3276720"/>
              <a:ext cx="547560" cy="7617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73" name=""/>
          <p:cNvGraphicFramePr/>
          <p:nvPr/>
        </p:nvGraphicFramePr>
        <p:xfrm>
          <a:off x="3048120" y="2971800"/>
          <a:ext cx="917280" cy="1081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8120" y="2971800"/>
                    <a:ext cx="91728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6172200" y="2971800"/>
          <a:ext cx="917640" cy="1081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2200" y="2971800"/>
                    <a:ext cx="91764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1905120" y="3962520"/>
            <a:ext cx="4419360" cy="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57800" y="1219320"/>
            <a:ext cx="3505320" cy="91692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signor Rossi si è alzato dalla poltrona per raggiungere la televisi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28600" y="4038480"/>
            <a:ext cx="1295280" cy="1450080"/>
            <a:chOff x="228600" y="4038480"/>
            <a:chExt cx="1295280" cy="1450080"/>
          </a:xfrm>
        </p:grpSpPr>
        <p:grpSp>
          <p:nvGrpSpPr>
            <p:cNvPr id="80" name=""/>
            <p:cNvGrpSpPr/>
            <p:nvPr/>
          </p:nvGrpSpPr>
          <p:grpSpPr>
            <a:xfrm>
              <a:off x="609480" y="4038480"/>
              <a:ext cx="914400" cy="838440"/>
              <a:chOff x="609480" y="4038480"/>
              <a:chExt cx="914400" cy="838440"/>
            </a:xfrm>
          </p:grpSpPr>
          <p:sp>
            <p:nvSpPr>
              <p:cNvPr id="81" name=""/>
              <p:cNvSpPr/>
              <p:nvPr/>
            </p:nvSpPr>
            <p:spPr>
              <a:xfrm flipH="1">
                <a:off x="609480" y="4038480"/>
                <a:ext cx="914400" cy="609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09480" y="4648320"/>
                <a:ext cx="0" cy="228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457200" y="48769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8600" y="518148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Arial"/>
                </a:rPr>
                <a:t>orig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2286000" y="1600200"/>
            <a:ext cx="2514600" cy="3717360"/>
            <a:chOff x="2286000" y="1600200"/>
            <a:chExt cx="2514600" cy="3717360"/>
          </a:xfrm>
        </p:grpSpPr>
        <p:sp>
          <p:nvSpPr>
            <p:cNvPr id="86" name=""/>
            <p:cNvSpPr/>
            <p:nvPr/>
          </p:nvSpPr>
          <p:spPr>
            <a:xfrm>
              <a:off x="2286000" y="487692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s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2514600" y="1600200"/>
              <a:ext cx="2286000" cy="3276720"/>
              <a:chOff x="2514600" y="1600200"/>
              <a:chExt cx="2286000" cy="3276720"/>
            </a:xfrm>
          </p:grpSpPr>
          <p:grpSp>
            <p:nvGrpSpPr>
              <p:cNvPr id="88" name=""/>
              <p:cNvGrpSpPr/>
              <p:nvPr/>
            </p:nvGrpSpPr>
            <p:grpSpPr>
              <a:xfrm>
                <a:off x="2514600" y="2590560"/>
                <a:ext cx="1981080" cy="2286360"/>
                <a:chOff x="2514600" y="2590560"/>
                <a:chExt cx="1981080" cy="2286360"/>
              </a:xfrm>
            </p:grpSpPr>
            <p:sp>
              <p:nvSpPr>
                <p:cNvPr id="89" name=""/>
                <p:cNvSpPr/>
                <p:nvPr/>
              </p:nvSpPr>
              <p:spPr>
                <a:xfrm flipH="1">
                  <a:off x="2514600" y="4038480"/>
                  <a:ext cx="914400" cy="6098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514600" y="4648320"/>
                  <a:ext cx="0" cy="2286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 flipV="1">
                  <a:off x="3886200" y="3276720"/>
                  <a:ext cx="609480" cy="4572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V="1">
                  <a:off x="4495680" y="2590560"/>
                  <a:ext cx="0" cy="685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93" name="BS00587_" descr=""/>
              <p:cNvPicPr/>
              <p:nvPr/>
            </p:nvPicPr>
            <p:blipFill>
              <a:blip r:embed="rId8"/>
              <a:stretch/>
            </p:blipFill>
            <p:spPr>
              <a:xfrm>
                <a:off x="4267080" y="1600200"/>
                <a:ext cx="486000" cy="68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"/>
              <p:cNvSpPr/>
              <p:nvPr/>
            </p:nvSpPr>
            <p:spPr>
              <a:xfrm>
                <a:off x="4343400" y="2209680"/>
                <a:ext cx="457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" name=""/>
          <p:cNvGrpSpPr/>
          <p:nvPr/>
        </p:nvGrpSpPr>
        <p:grpSpPr>
          <a:xfrm>
            <a:off x="5638680" y="1676520"/>
            <a:ext cx="2743200" cy="3641040"/>
            <a:chOff x="5638680" y="1676520"/>
            <a:chExt cx="2743200" cy="3641040"/>
          </a:xfrm>
        </p:grpSpPr>
        <p:sp>
          <p:nvSpPr>
            <p:cNvPr id="96" name=""/>
            <p:cNvSpPr/>
            <p:nvPr/>
          </p:nvSpPr>
          <p:spPr>
            <a:xfrm>
              <a:off x="5638680" y="487692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s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5866920" y="1676520"/>
              <a:ext cx="2514960" cy="3200400"/>
              <a:chOff x="5866920" y="1676520"/>
              <a:chExt cx="2514960" cy="3200400"/>
            </a:xfrm>
          </p:grpSpPr>
          <p:sp>
            <p:nvSpPr>
              <p:cNvPr id="98" name=""/>
              <p:cNvSpPr/>
              <p:nvPr/>
            </p:nvSpPr>
            <p:spPr>
              <a:xfrm>
                <a:off x="5867280" y="4648320"/>
                <a:ext cx="0" cy="228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7924680" y="3276360"/>
                <a:ext cx="152640" cy="759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5866920" y="3809880"/>
                <a:ext cx="1219320" cy="838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8077320" y="2819520"/>
                <a:ext cx="0" cy="45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2" name="BS00587_" descr=""/>
              <p:cNvPicPr/>
              <p:nvPr/>
            </p:nvPicPr>
            <p:blipFill>
              <a:blip r:embed="rId9"/>
              <a:stretch/>
            </p:blipFill>
            <p:spPr>
              <a:xfrm>
                <a:off x="7848720" y="1676520"/>
                <a:ext cx="485640" cy="68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>
                <a:off x="7924680" y="2286000"/>
                <a:ext cx="457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" name=""/>
          <p:cNvGrpSpPr/>
          <p:nvPr/>
        </p:nvGrpSpPr>
        <p:grpSpPr>
          <a:xfrm>
            <a:off x="609480" y="4800600"/>
            <a:ext cx="7543800" cy="1854360"/>
            <a:chOff x="609480" y="4800600"/>
            <a:chExt cx="7543800" cy="1854360"/>
          </a:xfrm>
        </p:grpSpPr>
        <p:sp>
          <p:nvSpPr>
            <p:cNvPr id="105" name=""/>
            <p:cNvSpPr/>
            <p:nvPr/>
          </p:nvSpPr>
          <p:spPr>
            <a:xfrm>
              <a:off x="4724280" y="5562720"/>
              <a:ext cx="3429000" cy="109224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………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.e, successivamente, all’istante 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t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nella  posizione 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s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rispetto all’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origin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9480" y="4800600"/>
              <a:ext cx="5257800" cy="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609480" y="4876920"/>
            <a:ext cx="3581640" cy="1736280"/>
            <a:chOff x="609480" y="4876920"/>
            <a:chExt cx="3581640" cy="1736280"/>
          </a:xfrm>
        </p:grpSpPr>
        <p:sp>
          <p:nvSpPr>
            <p:cNvPr id="108" name=""/>
            <p:cNvSpPr/>
            <p:nvPr/>
          </p:nvSpPr>
          <p:spPr>
            <a:xfrm>
              <a:off x="609480" y="4876920"/>
              <a:ext cx="1905120" cy="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120" y="5562720"/>
              <a:ext cx="3429000" cy="105048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l sig. Rossi si trova, al l’istante 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t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Arial"/>
                </a:rPr>
                <a:t>1,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nella posizione 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s</a:t>
              </a:r>
              <a:r>
                <a:rPr b="0" lang="en-US" sz="2000" spc="-1" strike="noStrike" baseline="-25000">
                  <a:solidFill>
                    <a:srgbClr val="3333cc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ispetto all’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origin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………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33520" y="1905120"/>
            <a:ext cx="3047760" cy="1143000"/>
            <a:chOff x="533520" y="1905120"/>
            <a:chExt cx="3047760" cy="1143000"/>
          </a:xfrm>
        </p:grpSpPr>
        <p:sp>
          <p:nvSpPr>
            <p:cNvPr id="111" name=""/>
            <p:cNvSpPr/>
            <p:nvPr/>
          </p:nvSpPr>
          <p:spPr>
            <a:xfrm>
              <a:off x="533520" y="1905120"/>
              <a:ext cx="30477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 poltrona è l’origine “O” di riferim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76520" y="2514600"/>
              <a:ext cx="0" cy="533520"/>
            </a:xfrm>
            <a:prstGeom prst="line">
              <a:avLst/>
            </a:prstGeom>
            <a:ln w="381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85800" y="1143000"/>
            <a:ext cx="2666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osi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l movimento dei cor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5562720"/>
            <a:ext cx="7543800" cy="100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a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osizione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occupata da un corpo, in un certo istante, è la sua distanza dall’origi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600200" y="380880"/>
          <a:ext cx="528480" cy="584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00200" y="380880"/>
                    <a:ext cx="5284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l movimento dei cor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1143000"/>
            <a:ext cx="5943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 spostamento e lo spazio perco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04920" y="5068800"/>
            <a:ext cx="3499200" cy="2106720"/>
            <a:chOff x="304920" y="5068800"/>
            <a:chExt cx="3499200" cy="2106720"/>
          </a:xfrm>
        </p:grpSpPr>
        <p:sp>
          <p:nvSpPr>
            <p:cNvPr id="121" name=""/>
            <p:cNvSpPr/>
            <p:nvPr/>
          </p:nvSpPr>
          <p:spPr>
            <a:xfrm flipH="1">
              <a:off x="613800" y="5321160"/>
              <a:ext cx="3190320" cy="185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0" y="6461"/>
                  </a:moveTo>
                  <a:arcTo wR="10800" hR="10800" stAng="-9378579" swAng="7820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910" y="6461"/>
                  </a:moveTo>
                  <a:arcTo wR="10800" hR="10800" stAng="-9378579" swAng="7820697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2" name=""/>
            <p:cNvGraphicFramePr/>
            <p:nvPr/>
          </p:nvGraphicFramePr>
          <p:xfrm>
            <a:off x="304920" y="5068800"/>
            <a:ext cx="852480" cy="84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5068800"/>
                      <a:ext cx="8524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24" name=""/>
          <p:cNvGraphicFramePr/>
          <p:nvPr/>
        </p:nvGraphicFramePr>
        <p:xfrm>
          <a:off x="1714680" y="4691160"/>
          <a:ext cx="723600" cy="72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14680" y="4691160"/>
                    <a:ext cx="7236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139920" y="5153040"/>
          <a:ext cx="822600" cy="814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9920" y="5153040"/>
                    <a:ext cx="82260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685800" y="3581280"/>
            <a:ext cx="12952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657600"/>
            <a:ext cx="41148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343400" y="1828800"/>
            <a:ext cx="838080" cy="2422080"/>
            <a:chOff x="4343400" y="1828800"/>
            <a:chExt cx="838080" cy="2422080"/>
          </a:xfrm>
        </p:grpSpPr>
        <p:grpSp>
          <p:nvGrpSpPr>
            <p:cNvPr id="131" name=""/>
            <p:cNvGrpSpPr/>
            <p:nvPr/>
          </p:nvGrpSpPr>
          <p:grpSpPr>
            <a:xfrm>
              <a:off x="4572000" y="1828800"/>
              <a:ext cx="609480" cy="2422080"/>
              <a:chOff x="4572000" y="1828800"/>
              <a:chExt cx="609480" cy="2422080"/>
            </a:xfrm>
          </p:grpSpPr>
          <p:sp>
            <p:nvSpPr>
              <p:cNvPr id="132" name=""/>
              <p:cNvSpPr/>
              <p:nvPr/>
            </p:nvSpPr>
            <p:spPr>
              <a:xfrm>
                <a:off x="4800600" y="2590920"/>
                <a:ext cx="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4572000" y="1828800"/>
                <a:ext cx="533160" cy="821880"/>
                <a:chOff x="4572000" y="1828800"/>
                <a:chExt cx="533160" cy="82188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647960" y="2210040"/>
                  <a:ext cx="4572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35" name="BS00587_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572000" y="1828800"/>
                  <a:ext cx="323640" cy="457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36" name=""/>
              <p:cNvSpPr/>
              <p:nvPr/>
            </p:nvSpPr>
            <p:spPr>
              <a:xfrm>
                <a:off x="4647960" y="3810240"/>
                <a:ext cx="533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37" name=""/>
            <p:cNvGraphicFramePr/>
            <p:nvPr/>
          </p:nvGraphicFramePr>
          <p:xfrm>
            <a:off x="4343400" y="2743200"/>
            <a:ext cx="801720" cy="7970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343400" y="2743200"/>
                      <a:ext cx="801720" cy="79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9" name=""/>
          <p:cNvGrpSpPr/>
          <p:nvPr/>
        </p:nvGrpSpPr>
        <p:grpSpPr>
          <a:xfrm>
            <a:off x="533520" y="1905120"/>
            <a:ext cx="4800600" cy="2421720"/>
            <a:chOff x="533520" y="1905120"/>
            <a:chExt cx="4800600" cy="2421720"/>
          </a:xfrm>
        </p:grpSpPr>
        <p:sp>
          <p:nvSpPr>
            <p:cNvPr id="140" name=""/>
            <p:cNvSpPr/>
            <p:nvPr/>
          </p:nvSpPr>
          <p:spPr>
            <a:xfrm>
              <a:off x="685800" y="3505320"/>
              <a:ext cx="464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533520" y="2590920"/>
              <a:ext cx="380880" cy="1618200"/>
              <a:chOff x="533520" y="2590920"/>
              <a:chExt cx="380880" cy="1618200"/>
            </a:xfrm>
          </p:grpSpPr>
          <p:sp>
            <p:nvSpPr>
              <p:cNvPr id="142" name=""/>
              <p:cNvSpPr/>
              <p:nvPr/>
            </p:nvSpPr>
            <p:spPr>
              <a:xfrm>
                <a:off x="685800" y="2590920"/>
                <a:ext cx="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33520" y="381024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1828800" y="1905120"/>
              <a:ext cx="533520" cy="2421720"/>
              <a:chOff x="1828800" y="1905120"/>
              <a:chExt cx="533520" cy="2421720"/>
            </a:xfrm>
          </p:grpSpPr>
          <p:sp>
            <p:nvSpPr>
              <p:cNvPr id="145" name=""/>
              <p:cNvSpPr/>
              <p:nvPr/>
            </p:nvSpPr>
            <p:spPr>
              <a:xfrm>
                <a:off x="1981080" y="266688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1828800" y="1905120"/>
                <a:ext cx="457200" cy="821520"/>
                <a:chOff x="1828800" y="1905120"/>
                <a:chExt cx="457200" cy="821520"/>
              </a:xfrm>
            </p:grpSpPr>
            <p:pic>
              <p:nvPicPr>
                <p:cNvPr id="147" name="BS00587_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828800" y="1905120"/>
                  <a:ext cx="324000" cy="45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" name=""/>
                <p:cNvSpPr/>
                <p:nvPr/>
              </p:nvSpPr>
              <p:spPr>
                <a:xfrm>
                  <a:off x="1828800" y="2286000"/>
                  <a:ext cx="4572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9" name=""/>
              <p:cNvSpPr/>
              <p:nvPr/>
            </p:nvSpPr>
            <p:spPr>
              <a:xfrm>
                <a:off x="1828800" y="3886200"/>
                <a:ext cx="533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50" name=""/>
            <p:cNvGraphicFramePr/>
            <p:nvPr/>
          </p:nvGraphicFramePr>
          <p:xfrm>
            <a:off x="1523880" y="2743200"/>
            <a:ext cx="801720" cy="797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523880" y="2743200"/>
                      <a:ext cx="801720" cy="79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2" name=""/>
          <p:cNvSpPr/>
          <p:nvPr/>
        </p:nvSpPr>
        <p:spPr>
          <a:xfrm>
            <a:off x="5410080" y="1905120"/>
            <a:ext cx="3505320" cy="250632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sig. Rossi si muove lungo una retta, tra la posizione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 la posizione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: lo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spazio percorso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è la differenza tra le due posizione rispetto all’origi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n questo caso (moto lungo una retta), </a:t>
            </a: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spostamento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e </a:t>
            </a: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spazio percorso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coincido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981080" y="3657600"/>
            <a:ext cx="2819520" cy="337320"/>
            <a:chOff x="1981080" y="3657600"/>
            <a:chExt cx="2819520" cy="337320"/>
          </a:xfrm>
        </p:grpSpPr>
        <p:sp>
          <p:nvSpPr>
            <p:cNvPr id="154" name=""/>
            <p:cNvSpPr/>
            <p:nvPr/>
          </p:nvSpPr>
          <p:spPr>
            <a:xfrm>
              <a:off x="1981080" y="3733920"/>
              <a:ext cx="281952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62320" y="365760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Spazio percor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4343400" y="4648320"/>
            <a:ext cx="45720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sig. Rossi si muove lungo una curva: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spazio percorso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e </a:t>
            </a: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spostamento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sono diver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5867280"/>
            <a:ext cx="2895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819520" y="5029200"/>
            <a:ext cx="3962160" cy="1130400"/>
            <a:chOff x="2819520" y="5029200"/>
            <a:chExt cx="3962160" cy="1130400"/>
          </a:xfrm>
        </p:grpSpPr>
        <p:sp>
          <p:nvSpPr>
            <p:cNvPr id="159" name=""/>
            <p:cNvSpPr/>
            <p:nvPr/>
          </p:nvSpPr>
          <p:spPr>
            <a:xfrm>
              <a:off x="2819520" y="5029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19520" y="50292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14800" y="50292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14800" y="59436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00600" y="5791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Spazio percor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05120" y="5866920"/>
            <a:ext cx="1904760" cy="597240"/>
            <a:chOff x="1905120" y="5866920"/>
            <a:chExt cx="1904760" cy="597240"/>
          </a:xfrm>
        </p:grpSpPr>
        <p:sp>
          <p:nvSpPr>
            <p:cNvPr id="165" name=""/>
            <p:cNvSpPr/>
            <p:nvPr/>
          </p:nvSpPr>
          <p:spPr>
            <a:xfrm flipV="1">
              <a:off x="1905120" y="5866920"/>
              <a:ext cx="0" cy="3812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05120" y="6248520"/>
              <a:ext cx="3808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286000" y="60958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spostam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981080" y="3886200"/>
            <a:ext cx="2819520" cy="337320"/>
            <a:chOff x="1981080" y="3886200"/>
            <a:chExt cx="2819520" cy="337320"/>
          </a:xfrm>
        </p:grpSpPr>
        <p:sp>
          <p:nvSpPr>
            <p:cNvPr id="169" name=""/>
            <p:cNvSpPr/>
            <p:nvPr/>
          </p:nvSpPr>
          <p:spPr>
            <a:xfrm>
              <a:off x="1981080" y="3962520"/>
              <a:ext cx="281952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16400" y="3886200"/>
              <a:ext cx="137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Arial"/>
                </a:rPr>
                <a:t>Spostam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1" name=""/>
          <p:cNvGraphicFramePr/>
          <p:nvPr/>
        </p:nvGraphicFramePr>
        <p:xfrm>
          <a:off x="1523880" y="380880"/>
          <a:ext cx="528840" cy="584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23880" y="380880"/>
                    <a:ext cx="5288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533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l movimento dei cor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676520" y="380880"/>
          <a:ext cx="5508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80880"/>
                    <a:ext cx="5508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1981080" y="1066680"/>
            <a:ext cx="3886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efinizione di  veloc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1600200"/>
            <a:ext cx="8534520" cy="2927160"/>
            <a:chOff x="228600" y="1600200"/>
            <a:chExt cx="8534520" cy="2927160"/>
          </a:xfrm>
        </p:grpSpPr>
        <p:sp>
          <p:nvSpPr>
            <p:cNvPr id="178" name=""/>
            <p:cNvSpPr/>
            <p:nvPr/>
          </p:nvSpPr>
          <p:spPr>
            <a:xfrm flipV="1">
              <a:off x="3352680" y="2209680"/>
              <a:ext cx="0" cy="914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5105520" y="2209680"/>
              <a:ext cx="0" cy="914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1676520" y="2209680"/>
              <a:ext cx="0" cy="9144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8600" y="3124080"/>
              <a:ext cx="8534520" cy="838440"/>
            </a:xfrm>
            <a:prstGeom prst="parallelogram">
              <a:avLst>
                <a:gd name="adj" fmla="val -4639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2895480" y="3124080"/>
              <a:ext cx="457200" cy="838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1219320" y="3124080"/>
              <a:ext cx="457200" cy="838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4648320" y="3124080"/>
              <a:ext cx="457200" cy="838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219320" y="3962520"/>
              <a:ext cx="0" cy="22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895480" y="3962520"/>
              <a:ext cx="0" cy="22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48320" y="3962520"/>
              <a:ext cx="0" cy="22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1523880" y="1600200"/>
              <a:ext cx="381240" cy="634680"/>
              <a:chOff x="1523880" y="1600200"/>
              <a:chExt cx="381240" cy="634680"/>
            </a:xfrm>
          </p:grpSpPr>
          <p:pic>
            <p:nvPicPr>
              <p:cNvPr id="189" name="BS00587_" descr=""/>
              <p:cNvPicPr/>
              <p:nvPr/>
            </p:nvPicPr>
            <p:blipFill>
              <a:blip r:embed="rId3"/>
              <a:stretch/>
            </p:blipFill>
            <p:spPr>
              <a:xfrm>
                <a:off x="1523880" y="1600200"/>
                <a:ext cx="2700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>
                <a:off x="1523880" y="1898640"/>
                <a:ext cx="3812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cc"/>
                    </a:solidFill>
                    <a:latin typeface="Arial"/>
                  </a:rPr>
                  <a:t>t</a:t>
                </a:r>
                <a:r>
                  <a:rPr b="1" lang="en-US" sz="1400" spc="-1" strike="noStrike" baseline="-25000">
                    <a:solidFill>
                      <a:srgbClr val="3333cc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3200400" y="1600200"/>
              <a:ext cx="380880" cy="634680"/>
              <a:chOff x="3200400" y="1600200"/>
              <a:chExt cx="380880" cy="634680"/>
            </a:xfrm>
          </p:grpSpPr>
          <p:pic>
            <p:nvPicPr>
              <p:cNvPr id="192" name="BS00587_" descr=""/>
              <p:cNvPicPr/>
              <p:nvPr/>
            </p:nvPicPr>
            <p:blipFill>
              <a:blip r:embed="rId4"/>
              <a:stretch/>
            </p:blipFill>
            <p:spPr>
              <a:xfrm>
                <a:off x="3200400" y="1600200"/>
                <a:ext cx="26964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>
                <a:off x="3200400" y="189864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cc"/>
                    </a:solidFill>
                    <a:latin typeface="Arial"/>
                  </a:rPr>
                  <a:t>t</a:t>
                </a:r>
                <a:r>
                  <a:rPr b="1" lang="en-US" sz="1400" spc="-1" strike="noStrike" baseline="-25000">
                    <a:solidFill>
                      <a:srgbClr val="3333cc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4952880" y="1600200"/>
              <a:ext cx="381240" cy="634680"/>
              <a:chOff x="4952880" y="1600200"/>
              <a:chExt cx="381240" cy="634680"/>
            </a:xfrm>
          </p:grpSpPr>
          <p:pic>
            <p:nvPicPr>
              <p:cNvPr id="195" name="BS00587_" descr=""/>
              <p:cNvPicPr/>
              <p:nvPr/>
            </p:nvPicPr>
            <p:blipFill>
              <a:blip r:embed="rId5"/>
              <a:stretch/>
            </p:blipFill>
            <p:spPr>
              <a:xfrm>
                <a:off x="4952880" y="1600200"/>
                <a:ext cx="2700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>
                <a:off x="4952880" y="1898640"/>
                <a:ext cx="3812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cc"/>
                    </a:solidFill>
                    <a:latin typeface="Arial"/>
                  </a:rPr>
                  <a:t>t</a:t>
                </a:r>
                <a:r>
                  <a:rPr b="1" lang="en-US" sz="1400" spc="-1" strike="noStrike" baseline="-25000">
                    <a:solidFill>
                      <a:srgbClr val="3333cc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1066680" y="4191120"/>
              <a:ext cx="381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3333cc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743200" y="419112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495680" y="4191120"/>
              <a:ext cx="381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685800" y="2362320"/>
            <a:ext cx="1152360" cy="1600200"/>
            <a:chOff x="685800" y="2362320"/>
            <a:chExt cx="1152360" cy="1600200"/>
          </a:xfrm>
        </p:grpSpPr>
        <p:graphicFrame>
          <p:nvGraphicFramePr>
            <p:cNvPr id="201" name=""/>
            <p:cNvGraphicFramePr/>
            <p:nvPr/>
          </p:nvGraphicFramePr>
          <p:xfrm>
            <a:off x="685800" y="3124080"/>
            <a:ext cx="668160" cy="8384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85800" y="3124080"/>
                      <a:ext cx="668160" cy="8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3" name=""/>
            <p:cNvGraphicFramePr/>
            <p:nvPr/>
          </p:nvGraphicFramePr>
          <p:xfrm>
            <a:off x="1066680" y="2362320"/>
            <a:ext cx="771480" cy="8380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0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066680" y="2362320"/>
                      <a:ext cx="77148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5" name=""/>
          <p:cNvGrpSpPr/>
          <p:nvPr/>
        </p:nvGrpSpPr>
        <p:grpSpPr>
          <a:xfrm>
            <a:off x="2743200" y="2362320"/>
            <a:ext cx="1353960" cy="1600200"/>
            <a:chOff x="2743200" y="2362320"/>
            <a:chExt cx="1353960" cy="1600200"/>
          </a:xfrm>
        </p:grpSpPr>
        <p:graphicFrame>
          <p:nvGraphicFramePr>
            <p:cNvPr id="206" name=""/>
            <p:cNvGraphicFramePr/>
            <p:nvPr/>
          </p:nvGraphicFramePr>
          <p:xfrm>
            <a:off x="2743200" y="2362320"/>
            <a:ext cx="771480" cy="8380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07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743200" y="2362320"/>
                      <a:ext cx="77148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8" name=""/>
            <p:cNvGraphicFramePr/>
            <p:nvPr/>
          </p:nvGraphicFramePr>
          <p:xfrm>
            <a:off x="3429000" y="3124080"/>
            <a:ext cx="668160" cy="83844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09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3429000" y="3124080"/>
                      <a:ext cx="668160" cy="8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0" name=""/>
          <p:cNvGrpSpPr/>
          <p:nvPr/>
        </p:nvGrpSpPr>
        <p:grpSpPr>
          <a:xfrm>
            <a:off x="4495680" y="2362320"/>
            <a:ext cx="1887480" cy="1600200"/>
            <a:chOff x="4495680" y="2362320"/>
            <a:chExt cx="1887480" cy="1600200"/>
          </a:xfrm>
        </p:grpSpPr>
        <p:graphicFrame>
          <p:nvGraphicFramePr>
            <p:cNvPr id="211" name=""/>
            <p:cNvGraphicFramePr/>
            <p:nvPr/>
          </p:nvGraphicFramePr>
          <p:xfrm>
            <a:off x="4495680" y="2362320"/>
            <a:ext cx="771480" cy="83808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212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4495680" y="2362320"/>
                      <a:ext cx="77148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3" name=""/>
            <p:cNvGraphicFramePr/>
            <p:nvPr/>
          </p:nvGraphicFramePr>
          <p:xfrm>
            <a:off x="5715000" y="3124080"/>
            <a:ext cx="668160" cy="83844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214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5715000" y="3124080"/>
                      <a:ext cx="668160" cy="8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5" name=""/>
          <p:cNvGrpSpPr/>
          <p:nvPr/>
        </p:nvGrpSpPr>
        <p:grpSpPr>
          <a:xfrm>
            <a:off x="685800" y="2362320"/>
            <a:ext cx="5697360" cy="1600200"/>
            <a:chOff x="685800" y="2362320"/>
            <a:chExt cx="5697360" cy="1600200"/>
          </a:xfrm>
        </p:grpSpPr>
        <p:grpSp>
          <p:nvGrpSpPr>
            <p:cNvPr id="216" name=""/>
            <p:cNvGrpSpPr/>
            <p:nvPr/>
          </p:nvGrpSpPr>
          <p:grpSpPr>
            <a:xfrm>
              <a:off x="685800" y="2362320"/>
              <a:ext cx="1152360" cy="1600200"/>
              <a:chOff x="685800" y="2362320"/>
              <a:chExt cx="1152360" cy="1600200"/>
            </a:xfrm>
          </p:grpSpPr>
          <p:graphicFrame>
            <p:nvGraphicFramePr>
              <p:cNvPr id="217" name=""/>
              <p:cNvGraphicFramePr/>
              <p:nvPr/>
            </p:nvGraphicFramePr>
            <p:xfrm>
              <a:off x="685800" y="3124080"/>
              <a:ext cx="668160" cy="838440"/>
            </p:xfrm>
            <a:graphic>
              <a:graphicData uri="http://schemas.openxmlformats.org/presentationml/2006/ole">
                <p:oleObj r:id="rId18" spid="">
                  <p:embed/>
                  <p:pic>
                    <p:nvPicPr>
                      <p:cNvPr id="218" name="" descr=""/>
                      <p:cNvPicPr/>
                      <p:nvPr/>
                    </p:nvPicPr>
                    <p:blipFill>
                      <a:blip r:embed="rId19"/>
                      <a:stretch/>
                    </p:blipFill>
                    <p:spPr>
                      <a:xfrm>
                        <a:off x="685800" y="3124080"/>
                        <a:ext cx="668160" cy="838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19" name=""/>
              <p:cNvGraphicFramePr/>
              <p:nvPr/>
            </p:nvGraphicFramePr>
            <p:xfrm>
              <a:off x="1066680" y="2362320"/>
              <a:ext cx="771480" cy="838080"/>
            </p:xfrm>
            <a:graphic>
              <a:graphicData uri="http://schemas.openxmlformats.org/presentationml/2006/ole">
                <p:oleObj r:id="rId20" spid="">
                  <p:embed/>
                  <p:pic>
                    <p:nvPicPr>
                      <p:cNvPr id="220" name="" descr=""/>
                      <p:cNvPicPr/>
                      <p:nvPr/>
                    </p:nvPicPr>
                    <p:blipFill>
                      <a:blip r:embed="rId21"/>
                      <a:stretch/>
                    </p:blipFill>
                    <p:spPr>
                      <a:xfrm>
                        <a:off x="1066680" y="2362320"/>
                        <a:ext cx="771480" cy="83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221" name=""/>
            <p:cNvGrpSpPr/>
            <p:nvPr/>
          </p:nvGrpSpPr>
          <p:grpSpPr>
            <a:xfrm>
              <a:off x="2743200" y="2362320"/>
              <a:ext cx="1353960" cy="1600200"/>
              <a:chOff x="2743200" y="2362320"/>
              <a:chExt cx="1353960" cy="1600200"/>
            </a:xfrm>
          </p:grpSpPr>
          <p:graphicFrame>
            <p:nvGraphicFramePr>
              <p:cNvPr id="222" name=""/>
              <p:cNvGraphicFramePr/>
              <p:nvPr/>
            </p:nvGraphicFramePr>
            <p:xfrm>
              <a:off x="2743200" y="2362320"/>
              <a:ext cx="771480" cy="838080"/>
            </p:xfrm>
            <a:graphic>
              <a:graphicData uri="http://schemas.openxmlformats.org/presentationml/2006/ole">
                <p:oleObj r:id="rId22" spid="">
                  <p:embed/>
                  <p:pic>
                    <p:nvPicPr>
                      <p:cNvPr id="223" name="" descr=""/>
                      <p:cNvPicPr/>
                      <p:nvPr/>
                    </p:nvPicPr>
                    <p:blipFill>
                      <a:blip r:embed="rId23"/>
                      <a:stretch/>
                    </p:blipFill>
                    <p:spPr>
                      <a:xfrm>
                        <a:off x="2743200" y="2362320"/>
                        <a:ext cx="771480" cy="83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24" name=""/>
              <p:cNvGraphicFramePr/>
              <p:nvPr/>
            </p:nvGraphicFramePr>
            <p:xfrm>
              <a:off x="3429000" y="3124080"/>
              <a:ext cx="668160" cy="838440"/>
            </p:xfrm>
            <a:graphic>
              <a:graphicData uri="http://schemas.openxmlformats.org/presentationml/2006/ole">
                <p:oleObj r:id="rId24" spid="">
                  <p:embed/>
                  <p:pic>
                    <p:nvPicPr>
                      <p:cNvPr id="225" name="" descr=""/>
                      <p:cNvPicPr/>
                      <p:nvPr/>
                    </p:nvPicPr>
                    <p:blipFill>
                      <a:blip r:embed="rId25"/>
                      <a:stretch/>
                    </p:blipFill>
                    <p:spPr>
                      <a:xfrm>
                        <a:off x="3429000" y="3124080"/>
                        <a:ext cx="668160" cy="838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226" name=""/>
            <p:cNvGrpSpPr/>
            <p:nvPr/>
          </p:nvGrpSpPr>
          <p:grpSpPr>
            <a:xfrm>
              <a:off x="4495680" y="2362320"/>
              <a:ext cx="1887480" cy="1600200"/>
              <a:chOff x="4495680" y="2362320"/>
              <a:chExt cx="1887480" cy="1600200"/>
            </a:xfrm>
          </p:grpSpPr>
          <p:graphicFrame>
            <p:nvGraphicFramePr>
              <p:cNvPr id="227" name=""/>
              <p:cNvGraphicFramePr/>
              <p:nvPr/>
            </p:nvGraphicFramePr>
            <p:xfrm>
              <a:off x="4495680" y="2362320"/>
              <a:ext cx="771480" cy="838080"/>
            </p:xfrm>
            <a:graphic>
              <a:graphicData uri="http://schemas.openxmlformats.org/presentationml/2006/ole">
                <p:oleObj r:id="rId26" spid="">
                  <p:embed/>
                  <p:pic>
                    <p:nvPicPr>
                      <p:cNvPr id="228" name="" descr=""/>
                      <p:cNvPicPr/>
                      <p:nvPr/>
                    </p:nvPicPr>
                    <p:blipFill>
                      <a:blip r:embed="rId27"/>
                      <a:stretch/>
                    </p:blipFill>
                    <p:spPr>
                      <a:xfrm>
                        <a:off x="4495680" y="2362320"/>
                        <a:ext cx="771480" cy="83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29" name=""/>
              <p:cNvGraphicFramePr/>
              <p:nvPr/>
            </p:nvGraphicFramePr>
            <p:xfrm>
              <a:off x="5715000" y="3124080"/>
              <a:ext cx="668160" cy="838440"/>
            </p:xfrm>
            <a:graphic>
              <a:graphicData uri="http://schemas.openxmlformats.org/presentationml/2006/ole">
                <p:oleObj r:id="rId28" spid="">
                  <p:embed/>
                  <p:pic>
                    <p:nvPicPr>
                      <p:cNvPr id="230" name="" descr=""/>
                      <p:cNvPicPr/>
                      <p:nvPr/>
                    </p:nvPicPr>
                    <p:blipFill>
                      <a:blip r:embed="rId29"/>
                      <a:stretch/>
                    </p:blipFill>
                    <p:spPr>
                      <a:xfrm>
                        <a:off x="5715000" y="3124080"/>
                        <a:ext cx="668160" cy="838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231" name=""/>
          <p:cNvSpPr/>
          <p:nvPr/>
        </p:nvSpPr>
        <p:spPr>
          <a:xfrm>
            <a:off x="6019920" y="1371600"/>
            <a:ext cx="2361960" cy="6426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mo e Nala fanno una gara di co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19920" y="2286000"/>
            <a:ext cx="20574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hi è stato più veloc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4495680"/>
            <a:ext cx="6019560" cy="370800"/>
          </a:xfrm>
          <a:prstGeom prst="rect">
            <a:avLst/>
          </a:prstGeom>
          <a:solidFill>
            <a:srgbClr val="99ff33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 e Nala partono, nello stesso istante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, dalla posizione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66880" y="5029200"/>
            <a:ext cx="6019920" cy="8910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ntre Remo raggiunge, all’istante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la posizione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,Nala ha già superato tale posizione. Quando Remo raggiunge la posizione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ll’istante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Nala è già ben oltre tale posizione.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6172200"/>
            <a:ext cx="8610480" cy="398880"/>
          </a:xfrm>
          <a:prstGeom prst="rect">
            <a:avLst/>
          </a:prstGeom>
          <a:solidFill>
            <a:srgbClr val="99ff33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velocit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è la </a:t>
            </a: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rapidit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 cui cambia,nel tempo,la posizione di un cor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a velocità m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609480" y="1295280"/>
            <a:ext cx="2971800" cy="1828800"/>
            <a:chOff x="609480" y="1295280"/>
            <a:chExt cx="2971800" cy="1828800"/>
          </a:xfrm>
        </p:grpSpPr>
        <p:sp>
          <p:nvSpPr>
            <p:cNvPr id="238" name=""/>
            <p:cNvSpPr/>
            <p:nvPr/>
          </p:nvSpPr>
          <p:spPr>
            <a:xfrm>
              <a:off x="1447920" y="2514600"/>
              <a:ext cx="0" cy="15228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971800" y="2514600"/>
              <a:ext cx="0" cy="15228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609480" y="1295280"/>
              <a:ext cx="457200" cy="751680"/>
              <a:chOff x="609480" y="1295280"/>
              <a:chExt cx="457200" cy="751680"/>
            </a:xfrm>
          </p:grpSpPr>
          <p:pic>
            <p:nvPicPr>
              <p:cNvPr id="241" name="BS00587_" descr=""/>
              <p:cNvPicPr/>
              <p:nvPr/>
            </p:nvPicPr>
            <p:blipFill>
              <a:blip r:embed="rId1"/>
              <a:stretch/>
            </p:blipFill>
            <p:spPr>
              <a:xfrm>
                <a:off x="609480" y="1295280"/>
                <a:ext cx="32400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2" name=""/>
              <p:cNvSpPr/>
              <p:nvPr/>
            </p:nvSpPr>
            <p:spPr>
              <a:xfrm>
                <a:off x="609480" y="1676160"/>
                <a:ext cx="457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609480" y="259092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2120" y="2057400"/>
              <a:ext cx="0" cy="60948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2120" y="2514600"/>
              <a:ext cx="2819160" cy="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2120" y="2895480"/>
              <a:ext cx="0" cy="22860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762120" y="1295280"/>
            <a:ext cx="7696080" cy="1828800"/>
            <a:chOff x="762120" y="1295280"/>
            <a:chExt cx="7696080" cy="1828800"/>
          </a:xfrm>
        </p:grpSpPr>
        <p:sp>
          <p:nvSpPr>
            <p:cNvPr id="248" name=""/>
            <p:cNvSpPr/>
            <p:nvPr/>
          </p:nvSpPr>
          <p:spPr>
            <a:xfrm>
              <a:off x="762120" y="3048120"/>
              <a:ext cx="6858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1143000" y="1295280"/>
              <a:ext cx="7315200" cy="1828800"/>
              <a:chOff x="1143000" y="1295280"/>
              <a:chExt cx="7315200" cy="1828800"/>
            </a:xfrm>
          </p:grpSpPr>
          <p:grpSp>
            <p:nvGrpSpPr>
              <p:cNvPr id="250" name=""/>
              <p:cNvGrpSpPr/>
              <p:nvPr/>
            </p:nvGrpSpPr>
            <p:grpSpPr>
              <a:xfrm>
                <a:off x="1143000" y="1295280"/>
                <a:ext cx="685800" cy="1828800"/>
                <a:chOff x="1143000" y="1295280"/>
                <a:chExt cx="685800" cy="1828800"/>
              </a:xfrm>
            </p:grpSpPr>
            <p:graphicFrame>
              <p:nvGraphicFramePr>
                <p:cNvPr id="251" name=""/>
                <p:cNvGraphicFramePr/>
                <p:nvPr/>
              </p:nvGraphicFramePr>
              <p:xfrm>
                <a:off x="1143000" y="1905120"/>
                <a:ext cx="685800" cy="61272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252" name="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1143000" y="1905120"/>
                          <a:ext cx="685800" cy="6127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pSp>
              <p:nvGrpSpPr>
                <p:cNvPr id="253" name=""/>
                <p:cNvGrpSpPr/>
                <p:nvPr/>
              </p:nvGrpSpPr>
              <p:grpSpPr>
                <a:xfrm>
                  <a:off x="1295280" y="1295280"/>
                  <a:ext cx="457200" cy="751680"/>
                  <a:chOff x="1295280" y="1295280"/>
                  <a:chExt cx="457200" cy="751680"/>
                </a:xfrm>
              </p:grpSpPr>
              <p:pic>
                <p:nvPicPr>
                  <p:cNvPr id="254" name="BS00587_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295280"/>
                    <a:ext cx="324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5" name=""/>
                  <p:cNvSpPr/>
                  <p:nvPr/>
                </p:nvSpPr>
                <p:spPr>
                  <a:xfrm>
                    <a:off x="1295280" y="1676160"/>
                    <a:ext cx="457200" cy="37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t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6" name=""/>
                <p:cNvSpPr/>
                <p:nvPr/>
              </p:nvSpPr>
              <p:spPr>
                <a:xfrm>
                  <a:off x="1295280" y="2590920"/>
                  <a:ext cx="53352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447920" y="2895480"/>
                  <a:ext cx="0" cy="228600"/>
                </a:xfrm>
                <a:prstGeom prst="line">
                  <a:avLst/>
                </a:prstGeom>
                <a:ln w="284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8" name=""/>
              <p:cNvSpPr/>
              <p:nvPr/>
            </p:nvSpPr>
            <p:spPr>
              <a:xfrm>
                <a:off x="3733920" y="1295280"/>
                <a:ext cx="4724280" cy="40572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l ciclista si trova all’istante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nel punto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…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9" name=""/>
          <p:cNvGrpSpPr/>
          <p:nvPr/>
        </p:nvGrpSpPr>
        <p:grpSpPr>
          <a:xfrm>
            <a:off x="762120" y="1295280"/>
            <a:ext cx="7696080" cy="1828800"/>
            <a:chOff x="762120" y="1295280"/>
            <a:chExt cx="7696080" cy="1828800"/>
          </a:xfrm>
        </p:grpSpPr>
        <p:grpSp>
          <p:nvGrpSpPr>
            <p:cNvPr id="260" name=""/>
            <p:cNvGrpSpPr/>
            <p:nvPr/>
          </p:nvGrpSpPr>
          <p:grpSpPr>
            <a:xfrm>
              <a:off x="762120" y="1295280"/>
              <a:ext cx="2590560" cy="1828800"/>
              <a:chOff x="762120" y="1295280"/>
              <a:chExt cx="2590560" cy="1828800"/>
            </a:xfrm>
          </p:grpSpPr>
          <p:graphicFrame>
            <p:nvGraphicFramePr>
              <p:cNvPr id="261" name=""/>
              <p:cNvGraphicFramePr/>
              <p:nvPr/>
            </p:nvGraphicFramePr>
            <p:xfrm>
              <a:off x="2666880" y="1905120"/>
              <a:ext cx="685800" cy="6127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62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666880" y="1905120"/>
                        <a:ext cx="685800" cy="612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63" name=""/>
              <p:cNvSpPr/>
              <p:nvPr/>
            </p:nvSpPr>
            <p:spPr>
              <a:xfrm>
                <a:off x="2819520" y="2590920"/>
                <a:ext cx="533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4" name=""/>
              <p:cNvGrpSpPr/>
              <p:nvPr/>
            </p:nvGrpSpPr>
            <p:grpSpPr>
              <a:xfrm>
                <a:off x="2743200" y="1295280"/>
                <a:ext cx="533520" cy="751680"/>
                <a:chOff x="2743200" y="1295280"/>
                <a:chExt cx="533520" cy="7516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2819520" y="1676160"/>
                  <a:ext cx="45720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66" name="BS00587_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743200" y="1295280"/>
                  <a:ext cx="324000" cy="457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67" name=""/>
              <p:cNvSpPr/>
              <p:nvPr/>
            </p:nvSpPr>
            <p:spPr>
              <a:xfrm>
                <a:off x="2971800" y="2895480"/>
                <a:ext cx="0" cy="22860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62120" y="2971800"/>
                <a:ext cx="220968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3733920" y="1905120"/>
              <a:ext cx="4724280" cy="4057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 nell’istante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nel punto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3733920" y="2438280"/>
            <a:ext cx="4724280" cy="5806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Il punto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0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è scelto come riferimento per la misura delle distanz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2120" y="3276720"/>
            <a:ext cx="7696080" cy="717480"/>
          </a:xfrm>
          <a:prstGeom prst="rect">
            <a:avLst/>
          </a:prstGeom>
          <a:solidFill>
            <a:srgbClr val="99ff33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l’intervallo di temp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he chiameremo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Δ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il ciclista si è spostato d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he chiamerem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Δs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4038480"/>
            <a:ext cx="7696080" cy="64260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postamen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ttuato da un corpo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ll’unità tempo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è una grandezza fisica chiamata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elocità 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87280" y="4876920"/>
            <a:ext cx="7347240" cy="6732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a velocità medi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è il rapporto tra lo spostamento effettuato da un corpo e l’intervallo di tempo impiegato a compier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838080" y="5638680"/>
                <a:ext cx="23623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75" name=""/>
          <p:cNvGrpSpPr/>
          <p:nvPr/>
        </p:nvGrpSpPr>
        <p:grpSpPr>
          <a:xfrm>
            <a:off x="3276720" y="5943600"/>
            <a:ext cx="2819160" cy="337320"/>
            <a:chOff x="3276720" y="5943600"/>
            <a:chExt cx="2819160" cy="337320"/>
          </a:xfrm>
        </p:grpSpPr>
        <p:sp>
          <p:nvSpPr>
            <p:cNvPr id="276" name=""/>
            <p:cNvSpPr/>
            <p:nvPr/>
          </p:nvSpPr>
          <p:spPr>
            <a:xfrm>
              <a:off x="4724280" y="609624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505320" y="594360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divi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67080" y="6096240"/>
              <a:ext cx="30492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3276720" y="6096240"/>
              <a:ext cx="30456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2133720" y="5638680"/>
            <a:ext cx="4114800" cy="533520"/>
            <a:chOff x="2133720" y="5638680"/>
            <a:chExt cx="4114800" cy="533520"/>
          </a:xfrm>
        </p:grpSpPr>
        <p:sp>
          <p:nvSpPr>
            <p:cNvPr id="281" name=""/>
            <p:cNvSpPr/>
            <p:nvPr/>
          </p:nvSpPr>
          <p:spPr>
            <a:xfrm>
              <a:off x="2133720" y="5638680"/>
              <a:ext cx="1066680" cy="5335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648320" y="579096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sposta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200400" y="5638680"/>
              <a:ext cx="1523880" cy="177840"/>
            </a:xfrm>
            <a:custGeom>
              <a:avLst/>
              <a:gdLst/>
              <a:ahLst/>
              <a:rect l="l" t="t" r="r" b="b"/>
              <a:pathLst>
                <a:path w="960" h="112">
                  <a:moveTo>
                    <a:pt x="0" y="112"/>
                  </a:moveTo>
                  <a:cubicBezTo>
                    <a:pt x="24" y="72"/>
                    <a:pt x="48" y="32"/>
                    <a:pt x="144" y="16"/>
                  </a:cubicBezTo>
                  <a:cubicBezTo>
                    <a:pt x="240" y="0"/>
                    <a:pt x="472" y="16"/>
                    <a:pt x="576" y="16"/>
                  </a:cubicBezTo>
                  <a:cubicBezTo>
                    <a:pt x="680" y="16"/>
                    <a:pt x="704" y="0"/>
                    <a:pt x="768" y="16"/>
                  </a:cubicBezTo>
                  <a:cubicBezTo>
                    <a:pt x="832" y="32"/>
                    <a:pt x="896" y="72"/>
                    <a:pt x="960" y="1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057400" y="6095880"/>
            <a:ext cx="4167360" cy="533520"/>
            <a:chOff x="2057400" y="6095880"/>
            <a:chExt cx="4167360" cy="533520"/>
          </a:xfrm>
        </p:grpSpPr>
        <p:sp>
          <p:nvSpPr>
            <p:cNvPr id="285" name=""/>
            <p:cNvSpPr/>
            <p:nvPr/>
          </p:nvSpPr>
          <p:spPr>
            <a:xfrm>
              <a:off x="2057400" y="6095880"/>
              <a:ext cx="1066680" cy="5335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570200" y="6095880"/>
              <a:ext cx="165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Tempo impiega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3124080" y="6400800"/>
              <a:ext cx="1524240" cy="177840"/>
            </a:xfrm>
            <a:custGeom>
              <a:avLst/>
              <a:gdLst/>
              <a:ahLst/>
              <a:rect l="l" t="t" r="r" b="b"/>
              <a:pathLst>
                <a:path w="960" h="112">
                  <a:moveTo>
                    <a:pt x="0" y="112"/>
                  </a:moveTo>
                  <a:cubicBezTo>
                    <a:pt x="24" y="72"/>
                    <a:pt x="48" y="32"/>
                    <a:pt x="144" y="16"/>
                  </a:cubicBezTo>
                  <a:cubicBezTo>
                    <a:pt x="240" y="0"/>
                    <a:pt x="472" y="16"/>
                    <a:pt x="576" y="16"/>
                  </a:cubicBezTo>
                  <a:cubicBezTo>
                    <a:pt x="680" y="16"/>
                    <a:pt x="704" y="0"/>
                    <a:pt x="768" y="16"/>
                  </a:cubicBezTo>
                  <a:cubicBezTo>
                    <a:pt x="832" y="32"/>
                    <a:pt x="896" y="72"/>
                    <a:pt x="960" y="1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88" name=""/>
          <p:cNvGraphicFramePr/>
          <p:nvPr/>
        </p:nvGraphicFramePr>
        <p:xfrm>
          <a:off x="1676520" y="380880"/>
          <a:ext cx="550800" cy="533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76520" y="380880"/>
                    <a:ext cx="5508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a velocità istantan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676520" y="380880"/>
          <a:ext cx="5508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80880"/>
                    <a:ext cx="5508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6400800" y="1523880"/>
          <a:ext cx="68580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1523880"/>
                    <a:ext cx="6858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7238880" y="1600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609480" y="1143000"/>
            <a:ext cx="8077320" cy="1219320"/>
            <a:chOff x="609480" y="1143000"/>
            <a:chExt cx="8077320" cy="1219320"/>
          </a:xfrm>
        </p:grpSpPr>
        <p:sp>
          <p:nvSpPr>
            <p:cNvPr id="298" name=""/>
            <p:cNvSpPr/>
            <p:nvPr/>
          </p:nvSpPr>
          <p:spPr>
            <a:xfrm>
              <a:off x="609480" y="1143000"/>
              <a:ext cx="807732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77d5d"/>
                  </a:solidFill>
                  <a:latin typeface="Arial"/>
                </a:rPr>
                <a:t>Per ragioni di “comodità” considereremo il nostro ciclista “un punto materiale”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772400" y="17524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095880" y="1447920"/>
              <a:ext cx="2057400" cy="9144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77320" y="1447920"/>
              <a:ext cx="317520" cy="228600"/>
            </a:xfrm>
            <a:custGeom>
              <a:avLst/>
              <a:gdLst/>
              <a:ahLst/>
              <a:rect l="l" t="t" r="r" b="b"/>
              <a:pathLst>
                <a:path w="200" h="144">
                  <a:moveTo>
                    <a:pt x="48" y="0"/>
                  </a:moveTo>
                  <a:cubicBezTo>
                    <a:pt x="124" y="12"/>
                    <a:pt x="200" y="24"/>
                    <a:pt x="192" y="48"/>
                  </a:cubicBezTo>
                  <a:cubicBezTo>
                    <a:pt x="184" y="72"/>
                    <a:pt x="92" y="108"/>
                    <a:pt x="0" y="144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62120" y="1752480"/>
            <a:ext cx="4190400" cy="2123640"/>
            <a:chOff x="762120" y="1752480"/>
            <a:chExt cx="4190400" cy="2123640"/>
          </a:xfrm>
        </p:grpSpPr>
        <p:sp>
          <p:nvSpPr>
            <p:cNvPr id="303" name=""/>
            <p:cNvSpPr/>
            <p:nvPr/>
          </p:nvSpPr>
          <p:spPr>
            <a:xfrm>
              <a:off x="4267080" y="3505320"/>
              <a:ext cx="456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762120" y="1752480"/>
              <a:ext cx="4190400" cy="1752480"/>
              <a:chOff x="762120" y="1752480"/>
              <a:chExt cx="4190400" cy="1752480"/>
            </a:xfrm>
          </p:grpSpPr>
          <p:sp>
            <p:nvSpPr>
              <p:cNvPr id="305" name=""/>
              <p:cNvSpPr/>
              <p:nvPr/>
            </p:nvSpPr>
            <p:spPr>
              <a:xfrm>
                <a:off x="4419360" y="3200400"/>
                <a:ext cx="0" cy="30456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2120" y="3504960"/>
                <a:ext cx="36828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343040" y="289548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8" name=""/>
              <p:cNvGrpSpPr/>
              <p:nvPr/>
            </p:nvGrpSpPr>
            <p:grpSpPr>
              <a:xfrm>
                <a:off x="4114440" y="1752480"/>
                <a:ext cx="838080" cy="904320"/>
                <a:chOff x="4114440" y="1752480"/>
                <a:chExt cx="838080" cy="904320"/>
              </a:xfrm>
            </p:grpSpPr>
            <p:pic>
              <p:nvPicPr>
                <p:cNvPr id="309" name="BS00587_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114440" y="1752480"/>
                  <a:ext cx="539640" cy="609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0" name=""/>
                <p:cNvSpPr/>
                <p:nvPr/>
              </p:nvSpPr>
              <p:spPr>
                <a:xfrm>
                  <a:off x="4190760" y="2286000"/>
                  <a:ext cx="7617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11" name=""/>
          <p:cNvGrpSpPr/>
          <p:nvPr/>
        </p:nvGrpSpPr>
        <p:grpSpPr>
          <a:xfrm>
            <a:off x="762120" y="1752480"/>
            <a:ext cx="2895480" cy="2123640"/>
            <a:chOff x="762120" y="1752480"/>
            <a:chExt cx="2895480" cy="2123640"/>
          </a:xfrm>
        </p:grpSpPr>
        <p:grpSp>
          <p:nvGrpSpPr>
            <p:cNvPr id="312" name=""/>
            <p:cNvGrpSpPr/>
            <p:nvPr/>
          </p:nvGrpSpPr>
          <p:grpSpPr>
            <a:xfrm>
              <a:off x="762120" y="1752480"/>
              <a:ext cx="2895480" cy="1752480"/>
              <a:chOff x="762120" y="1752480"/>
              <a:chExt cx="2895480" cy="1752480"/>
            </a:xfrm>
          </p:grpSpPr>
          <p:sp>
            <p:nvSpPr>
              <p:cNvPr id="313" name=""/>
              <p:cNvSpPr/>
              <p:nvPr/>
            </p:nvSpPr>
            <p:spPr>
              <a:xfrm>
                <a:off x="3048120" y="29718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124080" y="3200400"/>
                <a:ext cx="0" cy="30456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5" name=""/>
              <p:cNvGrpSpPr/>
              <p:nvPr/>
            </p:nvGrpSpPr>
            <p:grpSpPr>
              <a:xfrm>
                <a:off x="2819520" y="1752480"/>
                <a:ext cx="838080" cy="904320"/>
                <a:chOff x="2819520" y="1752480"/>
                <a:chExt cx="838080" cy="904320"/>
              </a:xfrm>
            </p:grpSpPr>
            <p:pic>
              <p:nvPicPr>
                <p:cNvPr id="316" name="BS00587_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819520" y="1752480"/>
                  <a:ext cx="539640" cy="609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7" name=""/>
                <p:cNvSpPr/>
                <p:nvPr/>
              </p:nvSpPr>
              <p:spPr>
                <a:xfrm>
                  <a:off x="2895840" y="2286000"/>
                  <a:ext cx="7617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8" name=""/>
              <p:cNvSpPr/>
              <p:nvPr/>
            </p:nvSpPr>
            <p:spPr>
              <a:xfrm>
                <a:off x="762120" y="3504960"/>
                <a:ext cx="236196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2895480" y="350532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533520" y="1752480"/>
            <a:ext cx="4952880" cy="2098080"/>
            <a:chOff x="533520" y="1752480"/>
            <a:chExt cx="4952880" cy="2098080"/>
          </a:xfrm>
        </p:grpSpPr>
        <p:sp>
          <p:nvSpPr>
            <p:cNvPr id="321" name=""/>
            <p:cNvSpPr/>
            <p:nvPr/>
          </p:nvSpPr>
          <p:spPr>
            <a:xfrm>
              <a:off x="533520" y="3479760"/>
              <a:ext cx="63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00200" y="3479760"/>
              <a:ext cx="888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33520" y="1752480"/>
              <a:ext cx="4952880" cy="1802880"/>
              <a:chOff x="533520" y="1752480"/>
              <a:chExt cx="4952880" cy="1802880"/>
            </a:xfrm>
          </p:grpSpPr>
          <p:sp>
            <p:nvSpPr>
              <p:cNvPr id="324" name=""/>
              <p:cNvSpPr/>
              <p:nvPr/>
            </p:nvSpPr>
            <p:spPr>
              <a:xfrm>
                <a:off x="1828800" y="3200040"/>
                <a:ext cx="0" cy="30456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5" name=""/>
              <p:cNvGrpSpPr/>
              <p:nvPr/>
            </p:nvGrpSpPr>
            <p:grpSpPr>
              <a:xfrm>
                <a:off x="533520" y="1752480"/>
                <a:ext cx="4952880" cy="1802880"/>
                <a:chOff x="533520" y="1752480"/>
                <a:chExt cx="4952880" cy="180288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762120" y="3428640"/>
                  <a:ext cx="1066680" cy="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27" name="BS00587_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33520" y="1752480"/>
                  <a:ext cx="539640" cy="609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8" name=""/>
                <p:cNvSpPr/>
                <p:nvPr/>
              </p:nvSpPr>
              <p:spPr>
                <a:xfrm>
                  <a:off x="609480" y="2285640"/>
                  <a:ext cx="76212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762120" y="2742840"/>
                  <a:ext cx="0" cy="812520"/>
                </a:xfrm>
                <a:prstGeom prst="line">
                  <a:avLst/>
                </a:prstGeom>
                <a:ln w="284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787320" y="3377880"/>
                  <a:ext cx="4699080" cy="0"/>
                </a:xfrm>
                <a:prstGeom prst="line">
                  <a:avLst/>
                </a:prstGeom>
                <a:ln w="284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31" name="BS00587_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600200" y="1752480"/>
                  <a:ext cx="539640" cy="609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2" name=""/>
                <p:cNvSpPr/>
                <p:nvPr/>
              </p:nvSpPr>
              <p:spPr>
                <a:xfrm>
                  <a:off x="1676520" y="2285640"/>
                  <a:ext cx="7617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752480" y="2971440"/>
                  <a:ext cx="152640" cy="1519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34" name=""/>
          <p:cNvGrpSpPr/>
          <p:nvPr/>
        </p:nvGrpSpPr>
        <p:grpSpPr>
          <a:xfrm>
            <a:off x="762120" y="1752480"/>
            <a:ext cx="1879560" cy="2123640"/>
            <a:chOff x="762120" y="1752480"/>
            <a:chExt cx="1879560" cy="2123640"/>
          </a:xfrm>
        </p:grpSpPr>
        <p:grpSp>
          <p:nvGrpSpPr>
            <p:cNvPr id="335" name=""/>
            <p:cNvGrpSpPr/>
            <p:nvPr/>
          </p:nvGrpSpPr>
          <p:grpSpPr>
            <a:xfrm>
              <a:off x="1752480" y="1752480"/>
              <a:ext cx="889200" cy="2123640"/>
              <a:chOff x="1752480" y="1752480"/>
              <a:chExt cx="889200" cy="2123640"/>
            </a:xfrm>
          </p:grpSpPr>
          <p:sp>
            <p:nvSpPr>
              <p:cNvPr id="336" name=""/>
              <p:cNvSpPr/>
              <p:nvPr/>
            </p:nvSpPr>
            <p:spPr>
              <a:xfrm>
                <a:off x="1752480" y="3505320"/>
                <a:ext cx="889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7" name=""/>
              <p:cNvGrpSpPr/>
              <p:nvPr/>
            </p:nvGrpSpPr>
            <p:grpSpPr>
              <a:xfrm>
                <a:off x="1752480" y="1752480"/>
                <a:ext cx="838080" cy="1752840"/>
                <a:chOff x="1752480" y="1752480"/>
                <a:chExt cx="838080" cy="1752840"/>
              </a:xfrm>
            </p:grpSpPr>
            <p:grpSp>
              <p:nvGrpSpPr>
                <p:cNvPr id="338" name=""/>
                <p:cNvGrpSpPr/>
                <p:nvPr/>
              </p:nvGrpSpPr>
              <p:grpSpPr>
                <a:xfrm>
                  <a:off x="1752480" y="1752480"/>
                  <a:ext cx="838080" cy="904320"/>
                  <a:chOff x="1752480" y="1752480"/>
                  <a:chExt cx="838080" cy="904320"/>
                </a:xfrm>
              </p:grpSpPr>
              <p:pic>
                <p:nvPicPr>
                  <p:cNvPr id="339" name="BS00587_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52480" y="1752480"/>
                    <a:ext cx="5396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0" name=""/>
                  <p:cNvSpPr/>
                  <p:nvPr/>
                </p:nvSpPr>
                <p:spPr>
                  <a:xfrm>
                    <a:off x="1828800" y="2286000"/>
                    <a:ext cx="761760" cy="37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t</a:t>
                    </a:r>
                    <a:r>
                      <a:rPr b="1" lang="en-US" sz="16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1" name=""/>
                <p:cNvSpPr/>
                <p:nvPr/>
              </p:nvSpPr>
              <p:spPr>
                <a:xfrm>
                  <a:off x="1905120" y="3200400"/>
                  <a:ext cx="0" cy="304920"/>
                </a:xfrm>
                <a:prstGeom prst="line">
                  <a:avLst/>
                </a:prstGeom>
                <a:ln w="284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1828800" y="2971800"/>
                  <a:ext cx="152280" cy="15228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3" name=""/>
            <p:cNvSpPr/>
            <p:nvPr/>
          </p:nvSpPr>
          <p:spPr>
            <a:xfrm>
              <a:off x="762120" y="3505320"/>
              <a:ext cx="11430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44" name=""/>
          <p:cNvGraphicFramePr/>
          <p:nvPr/>
        </p:nvGraphicFramePr>
        <p:xfrm>
          <a:off x="6477120" y="1600200"/>
          <a:ext cx="533160" cy="476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477120" y="1600200"/>
                    <a:ext cx="53316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6629400" y="1676520"/>
          <a:ext cx="304920" cy="2728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629400" y="1676520"/>
                    <a:ext cx="304920" cy="27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6705720" y="1752480"/>
          <a:ext cx="228600" cy="2048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705720" y="1752480"/>
                    <a:ext cx="228600" cy="2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"/>
          <p:cNvSpPr/>
          <p:nvPr/>
        </p:nvSpPr>
        <p:spPr>
          <a:xfrm>
            <a:off x="5638680" y="2590920"/>
            <a:ext cx="3124440" cy="94212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Immaginiamo che la posizione s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del nostro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“punto ciclista” sia molto vicina alla posizione s</a:t>
            </a:r>
            <a:r>
              <a:rPr b="0" lang="en-US" sz="16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05320" y="3962520"/>
            <a:ext cx="533376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remo individuato, così, uno spazi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Δ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lto picco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ercorso in un  temp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Δ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lto piccolo e che comprende l’istan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600200" y="2971800"/>
            <a:ext cx="1752120" cy="2038320"/>
            <a:chOff x="1600200" y="2971800"/>
            <a:chExt cx="1752120" cy="2038320"/>
          </a:xfrm>
        </p:grpSpPr>
        <p:grpSp>
          <p:nvGrpSpPr>
            <p:cNvPr id="353" name=""/>
            <p:cNvGrpSpPr/>
            <p:nvPr/>
          </p:nvGrpSpPr>
          <p:grpSpPr>
            <a:xfrm>
              <a:off x="1600200" y="2971800"/>
              <a:ext cx="1752120" cy="2038320"/>
              <a:chOff x="1600200" y="2971800"/>
              <a:chExt cx="1752120" cy="2038320"/>
            </a:xfrm>
          </p:grpSpPr>
          <p:sp>
            <p:nvSpPr>
              <p:cNvPr id="354" name=""/>
              <p:cNvSpPr/>
              <p:nvPr/>
            </p:nvSpPr>
            <p:spPr>
              <a:xfrm>
                <a:off x="1600200" y="2971800"/>
                <a:ext cx="609480" cy="609480"/>
              </a:xfrm>
              <a:prstGeom prst="ellipse">
                <a:avLst/>
              </a:pr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133360" y="3048120"/>
                <a:ext cx="609120" cy="914400"/>
              </a:xfrm>
              <a:custGeom>
                <a:avLst/>
                <a:gdLst/>
                <a:ahLst/>
                <a:rect l="l" t="t" r="r" b="b"/>
                <a:pathLst>
                  <a:path w="392" h="528">
                    <a:moveTo>
                      <a:pt x="0" y="48"/>
                    </a:moveTo>
                    <a:cubicBezTo>
                      <a:pt x="44" y="24"/>
                      <a:pt x="88" y="0"/>
                      <a:pt x="144" y="0"/>
                    </a:cubicBezTo>
                    <a:cubicBezTo>
                      <a:pt x="200" y="0"/>
                      <a:pt x="296" y="0"/>
                      <a:pt x="336" y="48"/>
                    </a:cubicBezTo>
                    <a:cubicBezTo>
                      <a:pt x="376" y="96"/>
                      <a:pt x="376" y="208"/>
                      <a:pt x="384" y="288"/>
                    </a:cubicBezTo>
                    <a:cubicBezTo>
                      <a:pt x="392" y="368"/>
                      <a:pt x="384" y="488"/>
                      <a:pt x="384" y="528"/>
                    </a:cubicBezTo>
                  </a:path>
                </a:pathLst>
              </a:custGeom>
              <a:noFill/>
              <a:ln w="284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356" name=""/>
              <p:cNvGraphicFramePr/>
              <p:nvPr/>
            </p:nvGraphicFramePr>
            <p:xfrm>
              <a:off x="2133360" y="3886200"/>
              <a:ext cx="1218960" cy="1123920"/>
            </p:xfrm>
            <a:graphic>
              <a:graphicData uri="http://schemas.openxmlformats.org/presentationml/2006/ole">
                <p:oleObj r:id="rId16" spid="">
                  <p:embed/>
                  <p:pic>
                    <p:nvPicPr>
                      <p:cNvPr id="357" name="" descr=""/>
                      <p:cNvPicPr/>
                      <p:nvPr/>
                    </p:nvPicPr>
                    <p:blipFill>
                      <a:blip r:embed="rId17"/>
                      <a:stretch/>
                    </p:blipFill>
                    <p:spPr>
                      <a:xfrm>
                        <a:off x="2133360" y="3886200"/>
                        <a:ext cx="1218960" cy="1123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58" name=""/>
            <p:cNvSpPr/>
            <p:nvPr/>
          </p:nvSpPr>
          <p:spPr>
            <a:xfrm>
              <a:off x="2209680" y="4038480"/>
              <a:ext cx="45720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819520" y="4038480"/>
              <a:ext cx="45720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380880" y="5486400"/>
            <a:ext cx="6096240" cy="10087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ossiamo dire che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la velocità all’istante t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 è la velocità media calcolata in un intervallo di tempo 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molto piccolo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, che comprende 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6781680" y="5410080"/>
          <a:ext cx="2057400" cy="9954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781680" y="5410080"/>
                    <a:ext cx="205740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762120" y="1219320"/>
            <a:ext cx="7772400" cy="7038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unità di misura della velocità si ricava dalla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composizione delle unità di misura delle grandezze presenti nella rel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a velocità media</a:t>
            </a:r>
            <a:br>
              <a:rPr sz="32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’unità di mis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295280" y="4191120"/>
            <a:ext cx="2743200" cy="1281960"/>
            <a:chOff x="1295280" y="4191120"/>
            <a:chExt cx="2743200" cy="1281960"/>
          </a:xfrm>
        </p:grpSpPr>
        <p:sp>
          <p:nvSpPr>
            <p:cNvPr id="366" name=""/>
            <p:cNvSpPr/>
            <p:nvPr/>
          </p:nvSpPr>
          <p:spPr>
            <a:xfrm>
              <a:off x="2514600" y="4952880"/>
              <a:ext cx="1523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Una grandezza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400" spc="-1" strike="noStrike">
                  <a:solidFill>
                    <a:srgbClr val="ff3300"/>
                  </a:solidFill>
                  <a:latin typeface="Arial"/>
                </a:rPr>
                <a:t>tem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295280" y="4191120"/>
              <a:ext cx="838440" cy="76176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8" name=""/>
            <p:cNvCxnSpPr>
              <a:stCxn id="367" idx="6"/>
              <a:endCxn id="366" idx="1"/>
            </p:cNvCxnSpPr>
            <p:nvPr/>
          </p:nvCxnSpPr>
          <p:spPr>
            <a:xfrm>
              <a:off x="2147400" y="4571640"/>
              <a:ext cx="367560" cy="672120"/>
            </a:xfrm>
            <a:prstGeom prst="curvedConnector5">
              <a:avLst>
                <a:gd name="adj1" fmla="val 48039"/>
                <a:gd name="adj2" fmla="val 50000"/>
                <a:gd name="adj3" fmla="val 4803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69" name=""/>
          <p:cNvGrpSpPr/>
          <p:nvPr/>
        </p:nvGrpSpPr>
        <p:grpSpPr>
          <a:xfrm>
            <a:off x="2286000" y="3886200"/>
            <a:ext cx="1066320" cy="307080"/>
            <a:chOff x="2286000" y="3886200"/>
            <a:chExt cx="1066320" cy="307080"/>
          </a:xfrm>
        </p:grpSpPr>
        <p:sp>
          <p:nvSpPr>
            <p:cNvPr id="370" name=""/>
            <p:cNvSpPr/>
            <p:nvPr/>
          </p:nvSpPr>
          <p:spPr>
            <a:xfrm>
              <a:off x="2590560" y="3886200"/>
              <a:ext cx="76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divi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2286000" y="4114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3886200" y="3886200"/>
            <a:ext cx="2362320" cy="307080"/>
            <a:chOff x="3886200" y="3886200"/>
            <a:chExt cx="2362320" cy="307080"/>
          </a:xfrm>
        </p:grpSpPr>
        <p:grpSp>
          <p:nvGrpSpPr>
            <p:cNvPr id="373" name=""/>
            <p:cNvGrpSpPr/>
            <p:nvPr/>
          </p:nvGrpSpPr>
          <p:grpSpPr>
            <a:xfrm>
              <a:off x="3886200" y="3886200"/>
              <a:ext cx="2362320" cy="307080"/>
              <a:chOff x="3886200" y="3886200"/>
              <a:chExt cx="2362320" cy="307080"/>
            </a:xfrm>
          </p:grpSpPr>
          <p:sp>
            <p:nvSpPr>
              <p:cNvPr id="374" name=""/>
              <p:cNvSpPr/>
              <p:nvPr/>
            </p:nvSpPr>
            <p:spPr>
              <a:xfrm>
                <a:off x="5334120" y="4038840"/>
                <a:ext cx="91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886200" y="3886200"/>
                <a:ext cx="762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3300"/>
                    </a:solidFill>
                    <a:latin typeface="Arial"/>
                  </a:rPr>
                  <a:t>divis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4495680" y="40388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371600" y="2895480"/>
            <a:ext cx="2590920" cy="1143000"/>
            <a:chOff x="1371600" y="2895480"/>
            <a:chExt cx="2590920" cy="1143000"/>
          </a:xfrm>
        </p:grpSpPr>
        <p:sp>
          <p:nvSpPr>
            <p:cNvPr id="378" name=""/>
            <p:cNvSpPr/>
            <p:nvPr/>
          </p:nvSpPr>
          <p:spPr>
            <a:xfrm>
              <a:off x="1371600" y="3276720"/>
              <a:ext cx="838080" cy="76176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438280" y="2895480"/>
              <a:ext cx="152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Una grandezza </a:t>
              </a:r>
              <a:r>
                <a:rPr b="1" i="1" lang="en-US" sz="1400" spc="-1" strike="noStrike">
                  <a:solidFill>
                    <a:srgbClr val="ff3300"/>
                  </a:solidFill>
                  <a:latin typeface="Arial"/>
                </a:rPr>
                <a:t>spaz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0" name=""/>
            <p:cNvCxnSpPr>
              <a:stCxn id="378" idx="7"/>
              <a:endCxn id="379" idx="1"/>
            </p:cNvCxnSpPr>
            <p:nvPr/>
          </p:nvCxnSpPr>
          <p:spPr>
            <a:xfrm flipH="1" flipV="1" rot="5400000">
              <a:off x="2169000" y="3103920"/>
              <a:ext cx="188280" cy="3513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590400" y="3352680"/>
                <a:ext cx="139068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82" name=""/>
          <p:cNvGrpSpPr/>
          <p:nvPr/>
        </p:nvGrpSpPr>
        <p:grpSpPr>
          <a:xfrm>
            <a:off x="3657600" y="3122280"/>
            <a:ext cx="2286000" cy="802080"/>
            <a:chOff x="3657600" y="3122280"/>
            <a:chExt cx="2286000" cy="802080"/>
          </a:xfrm>
        </p:grpSpPr>
        <p:sp>
          <p:nvSpPr>
            <p:cNvPr id="383" name=""/>
            <p:cNvSpPr/>
            <p:nvPr/>
          </p:nvSpPr>
          <p:spPr>
            <a:xfrm>
              <a:off x="3657600" y="335268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L’unità di misura dello spaz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4" name=""/>
            <p:cNvCxnSpPr>
              <a:stCxn id="383" idx="0"/>
            </p:cNvCxnSpPr>
            <p:nvPr/>
          </p:nvCxnSpPr>
          <p:spPr>
            <a:xfrm flipH="1" rot="16200000">
              <a:off x="4954320" y="2892600"/>
              <a:ext cx="150120" cy="1067760"/>
            </a:xfrm>
            <a:prstGeom prst="curvedConnector5">
              <a:avLst>
                <a:gd name="adj1" fmla="val -153125"/>
                <a:gd name="adj2" fmla="val 50050"/>
                <a:gd name="adj3" fmla="val -15312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385" name=""/>
                <p:cNvSpPr txBox="1"/>
                <p:nvPr/>
              </p:nvSpPr>
              <p:spPr>
                <a:xfrm>
                  <a:off x="5486400" y="3581280"/>
                  <a:ext cx="45720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6" name=""/>
          <p:cNvGrpSpPr/>
          <p:nvPr/>
        </p:nvGrpSpPr>
        <p:grpSpPr>
          <a:xfrm>
            <a:off x="3657600" y="4038480"/>
            <a:ext cx="2222640" cy="1051200"/>
            <a:chOff x="3657600" y="4038480"/>
            <a:chExt cx="2222640" cy="1051200"/>
          </a:xfrm>
        </p:grpSpPr>
        <p:sp>
          <p:nvSpPr>
            <p:cNvPr id="387" name=""/>
            <p:cNvSpPr/>
            <p:nvPr/>
          </p:nvSpPr>
          <p:spPr>
            <a:xfrm>
              <a:off x="3657600" y="43434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L’unità di misura del </a:t>
              </a:r>
              <a:r>
                <a:rPr b="1" i="1" lang="en-US" sz="1400" spc="-1" strike="noStrike">
                  <a:solidFill>
                    <a:srgbClr val="3333cc"/>
                  </a:solidFill>
                  <a:latin typeface="Arial"/>
                </a:rPr>
                <a:t>tem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8" name=""/>
            <p:cNvCxnSpPr>
              <a:stCxn id="387" idx="2"/>
            </p:cNvCxnSpPr>
            <p:nvPr/>
          </p:nvCxnSpPr>
          <p:spPr>
            <a:xfrm flipH="1" flipV="1" rot="5400000">
              <a:off x="4924800" y="4064760"/>
              <a:ext cx="366120" cy="1226520"/>
            </a:xfrm>
            <a:prstGeom prst="curvedConnector5">
              <a:avLst>
                <a:gd name="adj1" fmla="val -62598"/>
                <a:gd name="adj2" fmla="val 50000"/>
                <a:gd name="adj3" fmla="val -6259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389" name=""/>
                <p:cNvSpPr txBox="1"/>
                <p:nvPr/>
              </p:nvSpPr>
              <p:spPr>
                <a:xfrm>
                  <a:off x="5562720" y="4038480"/>
                  <a:ext cx="31752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0" name=""/>
          <p:cNvSpPr/>
          <p:nvPr/>
        </p:nvSpPr>
        <p:spPr>
          <a:xfrm>
            <a:off x="7010280" y="4114800"/>
            <a:ext cx="1295640" cy="36828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eco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914400" y="5715000"/>
            <a:ext cx="7391520" cy="64260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L’unità di misur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lla velocità “metro al secondo” è quella utilizzata nel  Sistema di misura Internazionale (S.I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086600" y="3429000"/>
            <a:ext cx="990720" cy="36828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me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315200" y="3733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676520" y="380880"/>
          <a:ext cx="5508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80880"/>
                    <a:ext cx="5508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2T13:56:34Z</dcterms:created>
  <dc:creator>MARILENA VOLPATI EFEDERICO BARBAROSSA</dc:creator>
  <dc:description/>
  <dc:language>en-US</dc:language>
  <cp:lastModifiedBy>fede</cp:lastModifiedBy>
  <dcterms:modified xsi:type="dcterms:W3CDTF">2018-06-04T18:11:43Z</dcterms:modified>
  <cp:revision>115</cp:revision>
  <dc:subject/>
  <dc:title>Moti rettilinei uniformi lezione</dc:title>
</cp:coreProperties>
</file>