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F95-9358-44A8-9B6B-0DAE1F0D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960-5D44-4056-A029-A415889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B65-AB1D-4882-8B23-BE395845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FE4-5F06-435B-98D7-F546D7E3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6DB-46EB-4823-983F-8FA6B561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166-8805-41E6-879C-2F91116A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302-7BA8-4802-AB03-DC51DA0D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BFF-AB97-4D15-B4BD-CAC753D6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43D-958A-4598-8663-52E5EC6E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190-E6FE-4302-A2F8-096644F9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FDE-FC03-4E18-BB97-141EA6FF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BC7-F092-4495-B6E5-6FB12A0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B9C3-1D82-4FDA-89D7-EA650191B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52560" y="1711440"/>
            <a:ext cx="5181480" cy="4917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2286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rti elastici: conservazione della quantità di moto con metodo delle compon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U PIANO A CISCINO D’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077320" cy="6172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0920" y="228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odo delle compon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62000"/>
            <a:ext cx="4876560" cy="3725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14800" y="1757520"/>
            <a:ext cx="454356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8:57:02Z</dcterms:created>
  <dc:creator>fede</dc:creator>
  <dc:description/>
  <dc:language>en-US</dc:language>
  <cp:lastModifiedBy>fede</cp:lastModifiedBy>
  <dcterms:modified xsi:type="dcterms:W3CDTF">2018-03-24T14:31:50Z</dcterms:modified>
  <cp:revision>2</cp:revision>
  <dc:subject/>
  <dc:title>Presentazione di PowerPoint</dc:title>
</cp:coreProperties>
</file>