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A201-1D8A-4670-A531-B021FA487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35B0-00CE-48E8-BFC1-E0CF14A89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D517-A626-4737-9408-C1D8D26C4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014D-9812-4CFF-B6FB-5F25840C3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D318-D22C-4EC2-9AF8-C76AC5B60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CA69-5236-402B-BDD8-6C7E9D597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6F47-DE94-4C4E-838A-FF503538A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36EA-3A25-4B71-8497-F2BDB3A3C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B414-7D2A-49B3-98FC-A7BE42ADD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89B1-1896-4E50-AFB4-DF1C31036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3BA7-3650-4D86-A7FD-6E6074768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6260-807B-4215-B073-9367FAF3E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F3763-E36A-4CA7-8E01-F6084BFC2D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Angolo limite e riflessione tot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11280" y="1268280"/>
            <a:ext cx="7632720" cy="381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00000" y="765000"/>
            <a:ext cx="7417080" cy="38754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508720" y="5300640"/>
            <a:ext cx="184788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solv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'angolo limite di un pezzo di plastica in aria è 38,5 °.Qual è l'indice di rifrazione del pezzo di plastica?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(soluzione:1,606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 la stessa plastica viene messa in acqua,l'angolo limite è lo stess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31T09:33:16Z</dcterms:created>
  <dc:creator>DOCENTE-STUDENTE</dc:creator>
  <dc:description/>
  <dc:language>en-US</dc:language>
  <cp:lastModifiedBy>federico</cp:lastModifiedBy>
  <dcterms:modified xsi:type="dcterms:W3CDTF">2012-02-06T17:34:54Z</dcterms:modified>
  <cp:revision>3</cp:revision>
  <dc:subject/>
  <dc:title>Angolo limite e riflessione totale</dc:title>
</cp:coreProperties>
</file>