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3.wmf" ContentType="image/x-wmf"/>
  <Override PartName="/ppt/media/image20.gif" ContentType="image/gif"/>
  <Override PartName="/ppt/media/image18.gif" ContentType="image/gif"/>
  <Override PartName="/ppt/media/image14.wmf" ContentType="image/x-wmf"/>
  <Override PartName="/ppt/media/image17.png" ContentType="image/png"/>
  <Override PartName="/ppt/media/image16.gif" ContentType="image/gif"/>
  <Override PartName="/ppt/media/image15.gif" ContentType="image/gif"/>
  <Override PartName="/ppt/media/image29.png" ContentType="image/png"/>
  <Override PartName="/ppt/media/image24.png" ContentType="image/png"/>
  <Override PartName="/ppt/media/image21.gif" ContentType="image/gif"/>
  <Override PartName="/ppt/media/image19.gif" ContentType="image/gif"/>
  <Override PartName="/ppt/media/image1.png" ContentType="image/png"/>
  <Override PartName="/ppt/media/image31.png" ContentType="image/png"/>
  <Override PartName="/ppt/media/image22.gif" ContentType="image/gif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gif" ContentType="image/gif"/>
  <Override PartName="/ppt/media/image36.png" ContentType="image/png"/>
  <Override PartName="/ppt/media/image37.png" ContentType="image/png"/>
  <Override PartName="/ppt/media/image44.gif" ContentType="image/gif"/>
  <Override PartName="/ppt/media/image12.png" ContentType="image/png"/>
  <Override PartName="/ppt/media/image13.gif" ContentType="image/gif"/>
  <Override PartName="/ppt/media/image30.png" ContentType="image/png"/>
  <Override PartName="/ppt/media/image25.gif" ContentType="image/gif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7.gif" ContentType="image/gif"/>
  <Override PartName="/ppt/media/image5.png" ContentType="image/png"/>
  <Override PartName="/ppt/media/image35.png" ContentType="image/png"/>
  <Override PartName="/ppt/media/image6.wmf" ContentType="image/x-wmf"/>
  <Override PartName="/ppt/media/image10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D800-D966-4031-A6CA-28CA517E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C423-3E04-4ED1-835A-7A0E313F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02D6-7062-4DDF-B67C-24C79423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ADF8-84C4-42B0-9631-455091C8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90E8-730B-4895-A4CD-4047B57E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4BF4-DCEB-4B15-B5FC-8BFDCAB6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F877-8965-4EAD-A5E9-93F288BD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4594-B153-4C91-A473-D2787818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9FB7-9EE0-45A9-98EF-A72DFB36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2375-8802-4B23-9EF4-AA1C9A92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AADF-4918-4926-BF1A-4277A141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1E7-C256-4955-BC38-56A6395F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DCBB-B629-4062-BB12-81C8A6A75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6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9.png"/><Relationship Id="rId10" Type="http://schemas.openxmlformats.org/officeDocument/2006/relationships/image" Target="../media/image25.gi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0.png"/><Relationship Id="rId8" Type="http://schemas.openxmlformats.org/officeDocument/2006/relationships/image" Target="../media/image28.png"/><Relationship Id="rId9" Type="http://schemas.openxmlformats.org/officeDocument/2006/relationships/image" Target="../media/image31.pn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7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3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6"/>
          <p:cNvSpPr/>
          <p:nvPr/>
        </p:nvSpPr>
        <p:spPr>
          <a:xfrm>
            <a:off x="2319480" y="4419720"/>
            <a:ext cx="5495760" cy="119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Berlin Sans FB"/>
              </a:rPr>
              <a:t>sperimentare in sicurez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3352680"/>
            <a:ext cx="51055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Berlin Sans FB"/>
              </a:rPr>
              <a:t>Laboratorio di Fis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85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352680" cy="271764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83"/>
          <p:cNvGrpSpPr/>
          <p:nvPr/>
        </p:nvGrpSpPr>
        <p:grpSpPr>
          <a:xfrm>
            <a:off x="1371600" y="2396160"/>
            <a:ext cx="951840" cy="846720"/>
            <a:chOff x="1371600" y="2396160"/>
            <a:chExt cx="951840" cy="846720"/>
          </a:xfrm>
        </p:grpSpPr>
        <p:sp>
          <p:nvSpPr>
            <p:cNvPr id="46" name="Line 80"/>
            <p:cNvSpPr/>
            <p:nvPr/>
          </p:nvSpPr>
          <p:spPr>
            <a:xfrm flipH="1">
              <a:off x="1371600" y="2438640"/>
              <a:ext cx="914400" cy="7621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81"/>
            <p:cNvSpPr/>
            <p:nvPr/>
          </p:nvSpPr>
          <p:spPr>
            <a:xfrm>
              <a:off x="1486800" y="2396160"/>
              <a:ext cx="836640" cy="8467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86"/>
          <p:cNvSpPr/>
          <p:nvPr/>
        </p:nvSpPr>
        <p:spPr>
          <a:xfrm>
            <a:off x="571680" y="37339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ura 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8"/>
          <p:cNvSpPr/>
          <p:nvPr/>
        </p:nvSpPr>
        <p:spPr>
          <a:xfrm>
            <a:off x="171360" y="411480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derico Barbaros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9"/>
          <p:cNvSpPr/>
          <p:nvPr/>
        </p:nvSpPr>
        <p:spPr>
          <a:xfrm>
            <a:off x="3124080" y="5334120"/>
            <a:ext cx="393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“bigino” per la sicurezza degli alli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6"/>
          <p:cNvSpPr/>
          <p:nvPr/>
        </p:nvSpPr>
        <p:spPr>
          <a:xfrm>
            <a:off x="4038480" y="838080"/>
            <a:ext cx="487692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  <a:ea typeface="Tahoma"/>
              </a:rPr>
              <a:t>I.T.C.S.  </a:t>
            </a:r>
            <a:r>
              <a:rPr b="1" lang="it-IT" sz="1600" spc="-1" strike="noStrike">
                <a:solidFill>
                  <a:srgbClr val="3333cc"/>
                </a:solidFill>
                <a:latin typeface="Arial"/>
                <a:ea typeface="Tahoma"/>
              </a:rPr>
              <a:t>Primo Levi  - Boll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cc"/>
                </a:solidFill>
                <a:latin typeface="Arial"/>
                <a:ea typeface="Tahoma"/>
              </a:rPr>
              <a:t>Corsi sperimentali:  Biologico, Chimico, Economico, Linguistico , Liceo Scientifico Tecnolo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Object 2"/>
          <p:cNvGraphicFramePr/>
          <p:nvPr/>
        </p:nvGraphicFramePr>
        <p:xfrm>
          <a:off x="380880" y="228600"/>
          <a:ext cx="9907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9907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3"/>
          <p:cNvSpPr/>
          <p:nvPr/>
        </p:nvSpPr>
        <p:spPr>
          <a:xfrm>
            <a:off x="885960" y="1828800"/>
            <a:ext cx="678168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lle cause d’incendio abbiamo già detto qualcosa ma è importante aggiungere che questo rischio è strettamente collegato alla presenza d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838080" y="4724280"/>
            <a:ext cx="7620120" cy="1472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 esempio u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rto circui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piastre riscaldant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parecchi a scintil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lampade a incandescenz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c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 anc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novre errate sugli alimentator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orto circuito) possono produrre incen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400" y="847800"/>
            <a:ext cx="411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cen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6"/>
          <p:cNvGrpSpPr/>
          <p:nvPr/>
        </p:nvGrpSpPr>
        <p:grpSpPr>
          <a:xfrm>
            <a:off x="380880" y="228600"/>
            <a:ext cx="4114800" cy="1371600"/>
            <a:chOff x="380880" y="228600"/>
            <a:chExt cx="4114800" cy="1371600"/>
          </a:xfrm>
        </p:grpSpPr>
        <p:graphicFrame>
          <p:nvGraphicFramePr>
            <p:cNvPr id="153" name="Object 7"/>
            <p:cNvGraphicFramePr/>
            <p:nvPr/>
          </p:nvGraphicFramePr>
          <p:xfrm>
            <a:off x="380880" y="228600"/>
            <a:ext cx="990720" cy="1371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4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228600"/>
                      <a:ext cx="990720" cy="13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55" name="Text Box 8"/>
            <p:cNvSpPr/>
            <p:nvPr/>
          </p:nvSpPr>
          <p:spPr>
            <a:xfrm>
              <a:off x="1219320" y="380880"/>
              <a:ext cx="327636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 rischi presenti nel laboratorio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9"/>
          <p:cNvSpPr/>
          <p:nvPr/>
        </p:nvSpPr>
        <p:spPr>
          <a:xfrm>
            <a:off x="880920" y="3200400"/>
            <a:ext cx="3353040" cy="3988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stanze infiammab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838080" y="3962520"/>
            <a:ext cx="7239240" cy="3988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meccanismo che può produrre scintille o alte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4495680" y="29718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per esempio carta, cartone ma anche indumenti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C:\Documents and Settings\crec\Documenti\Nuova cartella\Oggetti465.gif"/>
          <p:cNvPicPr/>
          <p:nvPr/>
        </p:nvPicPr>
        <p:blipFill>
          <a:blip r:embed="rId5"/>
          <a:stretch/>
        </p:blipFill>
        <p:spPr>
          <a:xfrm>
            <a:off x="7543800" y="2776680"/>
            <a:ext cx="1371600" cy="1071360"/>
          </a:xfrm>
          <a:prstGeom prst="rect">
            <a:avLst/>
          </a:prstGeom>
          <a:ln w="0">
            <a:noFill/>
          </a:ln>
        </p:spPr>
      </p:pic>
      <p:sp>
        <p:nvSpPr>
          <p:cNvPr id="160" name="Line 13"/>
          <p:cNvSpPr/>
          <p:nvPr/>
        </p:nvSpPr>
        <p:spPr>
          <a:xfrm>
            <a:off x="1752480" y="1447920"/>
            <a:ext cx="5105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Object 2"/>
          <p:cNvGraphicFramePr/>
          <p:nvPr/>
        </p:nvGraphicFramePr>
        <p:xfrm>
          <a:off x="380880" y="228600"/>
          <a:ext cx="9907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9907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3"/>
          <p:cNvSpPr/>
          <p:nvPr/>
        </p:nvSpPr>
        <p:spPr>
          <a:xfrm>
            <a:off x="762120" y="1771560"/>
            <a:ext cx="67816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ateriali radioattiv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tilizzati nel laboratorio di fisica sono quelli permessi dalla normativa vigente……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685800" y="5581800"/>
            <a:ext cx="723888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ma il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ischio di contaminazi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è sempre possibile se non vengono utilizzati in modo assolutamente corretto e nel rispetto delle indicazioni forn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0" y="87588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ateriali radioat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6"/>
          <p:cNvGrpSpPr/>
          <p:nvPr/>
        </p:nvGrpSpPr>
        <p:grpSpPr>
          <a:xfrm>
            <a:off x="380880" y="228600"/>
            <a:ext cx="4114800" cy="1371600"/>
            <a:chOff x="380880" y="228600"/>
            <a:chExt cx="4114800" cy="1371600"/>
          </a:xfrm>
        </p:grpSpPr>
        <p:graphicFrame>
          <p:nvGraphicFramePr>
            <p:cNvPr id="167" name="Object 7"/>
            <p:cNvGraphicFramePr/>
            <p:nvPr/>
          </p:nvGraphicFramePr>
          <p:xfrm>
            <a:off x="380880" y="228600"/>
            <a:ext cx="990720" cy="1371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8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228600"/>
                      <a:ext cx="990720" cy="13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69" name="Text Box 8"/>
            <p:cNvSpPr/>
            <p:nvPr/>
          </p:nvSpPr>
          <p:spPr>
            <a:xfrm>
              <a:off x="1219320" y="380880"/>
              <a:ext cx="327636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 rischi presenti nel laboratorio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1"/>
          <p:cNvGrpSpPr/>
          <p:nvPr/>
        </p:nvGrpSpPr>
        <p:grpSpPr>
          <a:xfrm>
            <a:off x="762120" y="3505320"/>
            <a:ext cx="6781680" cy="1949400"/>
            <a:chOff x="762120" y="3505320"/>
            <a:chExt cx="6781680" cy="1949400"/>
          </a:xfrm>
        </p:grpSpPr>
        <p:pic>
          <p:nvPicPr>
            <p:cNvPr id="171" name="Picture 9" descr="E:\PFiles\MSOffice\Clipart\standard\stddir1\BD06719_.WMF"/>
            <p:cNvPicPr/>
            <p:nvPr/>
          </p:nvPicPr>
          <p:blipFill>
            <a:blip r:embed="rId5"/>
            <a:stretch/>
          </p:blipFill>
          <p:spPr>
            <a:xfrm>
              <a:off x="3505320" y="4343400"/>
              <a:ext cx="1447560" cy="11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0"/>
            <p:cNvSpPr/>
            <p:nvPr/>
          </p:nvSpPr>
          <p:spPr>
            <a:xfrm>
              <a:off x="762120" y="3505320"/>
              <a:ext cx="6781680" cy="703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…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 vengono maneggiati solo dal personale scolastico (insegnanti ed assistenti tecnici)…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12"/>
          <p:cNvSpPr/>
          <p:nvPr/>
        </p:nvSpPr>
        <p:spPr>
          <a:xfrm>
            <a:off x="762120" y="2757600"/>
            <a:ext cx="5181480" cy="3988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o custoditi in appositi contenitori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3"/>
          <p:cNvSpPr/>
          <p:nvPr/>
        </p:nvSpPr>
        <p:spPr>
          <a:xfrm>
            <a:off x="1752480" y="1447920"/>
            <a:ext cx="510552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10"/>
          <p:cNvGrpSpPr/>
          <p:nvPr/>
        </p:nvGrpSpPr>
        <p:grpSpPr>
          <a:xfrm>
            <a:off x="1752480" y="3276720"/>
            <a:ext cx="6653160" cy="1371600"/>
            <a:chOff x="1752480" y="3276720"/>
            <a:chExt cx="6653160" cy="1371600"/>
          </a:xfrm>
        </p:grpSpPr>
        <p:sp>
          <p:nvSpPr>
            <p:cNvPr id="176" name="AutoShape 7"/>
            <p:cNvSpPr/>
            <p:nvPr/>
          </p:nvSpPr>
          <p:spPr>
            <a:xfrm flipV="1">
              <a:off x="1752480" y="3276360"/>
              <a:ext cx="6653160" cy="1371600"/>
            </a:xfrm>
            <a:prstGeom prst="wedgeRoundRectCallout">
              <a:avLst>
                <a:gd name="adj1" fmla="val -43796"/>
                <a:gd name="adj2" fmla="val 70023"/>
                <a:gd name="adj3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8"/>
            <p:cNvSpPr/>
            <p:nvPr/>
          </p:nvSpPr>
          <p:spPr>
            <a:xfrm flipH="1">
              <a:off x="2070720" y="3500640"/>
              <a:ext cx="6172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Il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secondo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 aspetto riguarda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le norme di sicurezz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8" name="Object 9"/>
          <p:cNvGraphicFramePr/>
          <p:nvPr/>
        </p:nvGraphicFramePr>
        <p:xfrm>
          <a:off x="380880" y="1676520"/>
          <a:ext cx="142236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142236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828800" y="94284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oscere il lab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6"/>
          <p:cNvGrpSpPr/>
          <p:nvPr/>
        </p:nvGrpSpPr>
        <p:grpSpPr>
          <a:xfrm>
            <a:off x="433440" y="4719600"/>
            <a:ext cx="8496360" cy="1331640"/>
            <a:chOff x="433440" y="4719600"/>
            <a:chExt cx="8496360" cy="1331640"/>
          </a:xfrm>
        </p:grpSpPr>
        <p:pic>
          <p:nvPicPr>
            <p:cNvPr id="182" name="Picture 10" descr="C:\Documents and Settings\crec\Documenti\Nuova cartella\Oggetti437.gif"/>
            <p:cNvPicPr/>
            <p:nvPr/>
          </p:nvPicPr>
          <p:blipFill>
            <a:blip r:embed="rId1"/>
            <a:stretch/>
          </p:blipFill>
          <p:spPr>
            <a:xfrm>
              <a:off x="7558200" y="4719600"/>
              <a:ext cx="13716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13"/>
            <p:cNvSpPr/>
            <p:nvPr/>
          </p:nvSpPr>
          <p:spPr>
            <a:xfrm>
              <a:off x="433440" y="5405400"/>
              <a:ext cx="723888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Conoscere la via di fuga più rapida verso le uscite di sicurezz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15"/>
          <p:cNvGrpSpPr/>
          <p:nvPr/>
        </p:nvGrpSpPr>
        <p:grpSpPr>
          <a:xfrm>
            <a:off x="1219320" y="2962440"/>
            <a:ext cx="6319800" cy="990360"/>
            <a:chOff x="1219320" y="2962440"/>
            <a:chExt cx="6319800" cy="990360"/>
          </a:xfrm>
        </p:grpSpPr>
        <p:sp>
          <p:nvSpPr>
            <p:cNvPr id="185" name="Text Box 12"/>
            <p:cNvSpPr/>
            <p:nvPr/>
          </p:nvSpPr>
          <p:spPr>
            <a:xfrm>
              <a:off x="1824120" y="3495600"/>
              <a:ext cx="57150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Conoscere la posizione dell’interruttore general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Picture 9" descr="C:\Documents and Settings\crec\Documenti\Nuova cartella\gestione%20pc034.gif"/>
            <p:cNvPicPr/>
            <p:nvPr/>
          </p:nvPicPr>
          <p:blipFill>
            <a:blip r:embed="rId2"/>
            <a:stretch/>
          </p:blipFill>
          <p:spPr>
            <a:xfrm>
              <a:off x="1219320" y="2962440"/>
              <a:ext cx="625680" cy="99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Group 20"/>
          <p:cNvGrpSpPr/>
          <p:nvPr/>
        </p:nvGrpSpPr>
        <p:grpSpPr>
          <a:xfrm>
            <a:off x="633240" y="-14400"/>
            <a:ext cx="3176640" cy="1219320"/>
            <a:chOff x="633240" y="-14400"/>
            <a:chExt cx="3176640" cy="1219320"/>
          </a:xfrm>
        </p:grpSpPr>
        <p:sp>
          <p:nvSpPr>
            <p:cNvPr id="188" name="Text Box 7"/>
            <p:cNvSpPr/>
            <p:nvPr/>
          </p:nvSpPr>
          <p:spPr>
            <a:xfrm>
              <a:off x="1544760" y="380880"/>
              <a:ext cx="2265120" cy="337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sicurezz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9" name="Object 19"/>
            <p:cNvGraphicFramePr/>
            <p:nvPr/>
          </p:nvGraphicFramePr>
          <p:xfrm>
            <a:off x="633240" y="-14400"/>
            <a:ext cx="852840" cy="1219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0" name="Object 1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3240" y="-14400"/>
                      <a:ext cx="852840" cy="12193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191" name="Line 24"/>
          <p:cNvSpPr/>
          <p:nvPr/>
        </p:nvSpPr>
        <p:spPr>
          <a:xfrm>
            <a:off x="1752480" y="1447920"/>
            <a:ext cx="5105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609560" y="2166840"/>
            <a:ext cx="4876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oscere la posizione degli estinto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6" descr=""/>
          <p:cNvPicPr/>
          <p:nvPr/>
        </p:nvPicPr>
        <p:blipFill>
          <a:blip r:embed="rId5"/>
          <a:stretch/>
        </p:blipFill>
        <p:spPr>
          <a:xfrm>
            <a:off x="6915240" y="1447920"/>
            <a:ext cx="190476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838080" y="2514600"/>
            <a:ext cx="7239240" cy="70380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Non lasciare oggetti in posizioni pericolose (per es: tali da provocare danno, per caduta, a persone o co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2133720" y="1000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non provocare incid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762120" y="4572000"/>
            <a:ext cx="7238880" cy="70380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Non bloccare le vie di fuga con oggetti ingombranti ( es: zaini, abi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20"/>
          <p:cNvGrpSpPr/>
          <p:nvPr/>
        </p:nvGrpSpPr>
        <p:grpSpPr>
          <a:xfrm>
            <a:off x="633240" y="0"/>
            <a:ext cx="3176640" cy="1219320"/>
            <a:chOff x="633240" y="0"/>
            <a:chExt cx="3176640" cy="1219320"/>
          </a:xfrm>
        </p:grpSpPr>
        <p:sp>
          <p:nvSpPr>
            <p:cNvPr id="198" name="Text Box 21"/>
            <p:cNvSpPr/>
            <p:nvPr/>
          </p:nvSpPr>
          <p:spPr>
            <a:xfrm>
              <a:off x="1544760" y="395280"/>
              <a:ext cx="2265120" cy="337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sicurezz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9" name="Object 22"/>
            <p:cNvGraphicFramePr/>
            <p:nvPr/>
          </p:nvGraphicFramePr>
          <p:xfrm>
            <a:off x="633240" y="0"/>
            <a:ext cx="852840" cy="1219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0" name="Object 2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3240" y="0"/>
                      <a:ext cx="852840" cy="12193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201" name="Line 23"/>
          <p:cNvSpPr/>
          <p:nvPr/>
        </p:nvSpPr>
        <p:spPr>
          <a:xfrm>
            <a:off x="1752480" y="1447920"/>
            <a:ext cx="5105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9" descr="D:\FEDERICO\DIDATTICA\animazioni\personaggi\AG00223_.GIF"/>
          <p:cNvPicPr/>
          <p:nvPr/>
        </p:nvPicPr>
        <p:blipFill>
          <a:blip r:embed="rId3"/>
          <a:stretch/>
        </p:blipFill>
        <p:spPr>
          <a:xfrm>
            <a:off x="7010280" y="1981080"/>
            <a:ext cx="2133720" cy="126540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31"/>
          <p:cNvGrpSpPr/>
          <p:nvPr/>
        </p:nvGrpSpPr>
        <p:grpSpPr>
          <a:xfrm>
            <a:off x="7848720" y="1647720"/>
            <a:ext cx="380880" cy="1143000"/>
            <a:chOff x="7848720" y="1647720"/>
            <a:chExt cx="380880" cy="1143000"/>
          </a:xfrm>
        </p:grpSpPr>
        <p:pic>
          <p:nvPicPr>
            <p:cNvPr id="204" name="Picture 24" descr="C:\Documents and Settings\crec\Documenti\Immagini\mela.gif"/>
            <p:cNvPicPr/>
            <p:nvPr/>
          </p:nvPicPr>
          <p:blipFill>
            <a:blip r:embed="rId4"/>
            <a:stretch/>
          </p:blipFill>
          <p:spPr>
            <a:xfrm>
              <a:off x="7848720" y="2409480"/>
              <a:ext cx="38088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Line 25"/>
            <p:cNvSpPr/>
            <p:nvPr/>
          </p:nvSpPr>
          <p:spPr>
            <a:xfrm>
              <a:off x="8010720" y="1647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6"/>
            <p:cNvSpPr/>
            <p:nvPr/>
          </p:nvSpPr>
          <p:spPr>
            <a:xfrm>
              <a:off x="8077320" y="1647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7"/>
            <p:cNvSpPr/>
            <p:nvPr/>
          </p:nvSpPr>
          <p:spPr>
            <a:xfrm>
              <a:off x="8143920" y="17524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0"/>
            <p:cNvSpPr/>
            <p:nvPr/>
          </p:nvSpPr>
          <p:spPr>
            <a:xfrm>
              <a:off x="7934400" y="1728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1704960" y="9619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lettric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8"/>
          <p:cNvGrpSpPr/>
          <p:nvPr/>
        </p:nvGrpSpPr>
        <p:grpSpPr>
          <a:xfrm>
            <a:off x="623880" y="4429080"/>
            <a:ext cx="7588080" cy="1008720"/>
            <a:chOff x="623880" y="4429080"/>
            <a:chExt cx="7588080" cy="1008720"/>
          </a:xfrm>
        </p:grpSpPr>
        <p:sp>
          <p:nvSpPr>
            <p:cNvPr id="211" name="Rectangle 17"/>
            <p:cNvSpPr/>
            <p:nvPr/>
          </p:nvSpPr>
          <p:spPr>
            <a:xfrm>
              <a:off x="623880" y="4429080"/>
              <a:ext cx="7588080" cy="1008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Tra questi: laser, oscilloscopio 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  alimentatori per lampade spettrali…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Picture 16" descr="C:\Documents and Settings\crec\Documenti\Nuova cartella\macchinari004.gif"/>
            <p:cNvPicPr/>
            <p:nvPr/>
          </p:nvPicPr>
          <p:blipFill>
            <a:blip r:embed="rId1"/>
            <a:stretch/>
          </p:blipFill>
          <p:spPr>
            <a:xfrm>
              <a:off x="4586040" y="4510080"/>
              <a:ext cx="1348920" cy="85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Group 26"/>
          <p:cNvGrpSpPr/>
          <p:nvPr/>
        </p:nvGrpSpPr>
        <p:grpSpPr>
          <a:xfrm>
            <a:off x="652320" y="1890720"/>
            <a:ext cx="7588080" cy="1523880"/>
            <a:chOff x="652320" y="1890720"/>
            <a:chExt cx="7588080" cy="1523880"/>
          </a:xfrm>
        </p:grpSpPr>
        <p:sp>
          <p:nvSpPr>
            <p:cNvPr id="214" name="Rectangle 7"/>
            <p:cNvSpPr/>
            <p:nvPr/>
          </p:nvSpPr>
          <p:spPr>
            <a:xfrm>
              <a:off x="652320" y="2600280"/>
              <a:ext cx="7588080" cy="703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È rigorosamente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vietat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accedere alle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parti intern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egli strumenti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alimentati         a ret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(220 volt)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Picture 22" descr="C:\Documents and Settings\crec\Documenti\Nuova cartella\AG00305_.GIF"/>
            <p:cNvPicPr/>
            <p:nvPr/>
          </p:nvPicPr>
          <p:blipFill>
            <a:blip r:embed="rId2"/>
            <a:stretch/>
          </p:blipFill>
          <p:spPr>
            <a:xfrm>
              <a:off x="2647800" y="1890720"/>
              <a:ext cx="1150920" cy="15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27"/>
          <p:cNvGrpSpPr/>
          <p:nvPr/>
        </p:nvGrpSpPr>
        <p:grpSpPr>
          <a:xfrm>
            <a:off x="633240" y="0"/>
            <a:ext cx="3176640" cy="1219320"/>
            <a:chOff x="633240" y="0"/>
            <a:chExt cx="3176640" cy="1219320"/>
          </a:xfrm>
        </p:grpSpPr>
        <p:sp>
          <p:nvSpPr>
            <p:cNvPr id="217" name="Text Box 28"/>
            <p:cNvSpPr/>
            <p:nvPr/>
          </p:nvSpPr>
          <p:spPr>
            <a:xfrm>
              <a:off x="1544760" y="395280"/>
              <a:ext cx="2265120" cy="337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sicurezz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8" name="Object 29"/>
            <p:cNvGraphicFramePr/>
            <p:nvPr/>
          </p:nvGraphicFramePr>
          <p:xfrm>
            <a:off x="633240" y="0"/>
            <a:ext cx="852840" cy="1219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9" name="Object 2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3240" y="0"/>
                      <a:ext cx="852840" cy="12193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220" name="Line 30"/>
          <p:cNvSpPr/>
          <p:nvPr/>
        </p:nvSpPr>
        <p:spPr>
          <a:xfrm>
            <a:off x="1752480" y="1447920"/>
            <a:ext cx="5105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704960" y="9619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lettric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6"/>
          <p:cNvGrpSpPr/>
          <p:nvPr/>
        </p:nvGrpSpPr>
        <p:grpSpPr>
          <a:xfrm>
            <a:off x="609480" y="5162400"/>
            <a:ext cx="7753320" cy="1163520"/>
            <a:chOff x="609480" y="5162400"/>
            <a:chExt cx="7753320" cy="1163520"/>
          </a:xfrm>
        </p:grpSpPr>
        <p:sp>
          <p:nvSpPr>
            <p:cNvPr id="223" name="Rectangle 7"/>
            <p:cNvSpPr/>
            <p:nvPr/>
          </p:nvSpPr>
          <p:spPr>
            <a:xfrm>
              <a:off x="609480" y="5162400"/>
              <a:ext cx="7391520" cy="70380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In caso di malfunzionamento delle apparecchiature, rivolgersi all’insegnante o al personale tecnic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8" descr="C:\Documents and Settings\crec\Documenti\Nuova cartella\AG00029_.GIF"/>
            <p:cNvPicPr/>
            <p:nvPr/>
          </p:nvPicPr>
          <p:blipFill>
            <a:blip r:embed="rId1"/>
            <a:stretch/>
          </p:blipFill>
          <p:spPr>
            <a:xfrm>
              <a:off x="6896160" y="5162400"/>
              <a:ext cx="1466640" cy="11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Group 12"/>
          <p:cNvGrpSpPr/>
          <p:nvPr/>
        </p:nvGrpSpPr>
        <p:grpSpPr>
          <a:xfrm>
            <a:off x="633240" y="0"/>
            <a:ext cx="3176640" cy="1219320"/>
            <a:chOff x="633240" y="0"/>
            <a:chExt cx="3176640" cy="1219320"/>
          </a:xfrm>
        </p:grpSpPr>
        <p:sp>
          <p:nvSpPr>
            <p:cNvPr id="226" name="Text Box 13"/>
            <p:cNvSpPr/>
            <p:nvPr/>
          </p:nvSpPr>
          <p:spPr>
            <a:xfrm>
              <a:off x="1544760" y="395280"/>
              <a:ext cx="2265120" cy="337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sicurezz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7" name="Object 0"/>
            <p:cNvGraphicFramePr/>
            <p:nvPr/>
          </p:nvGraphicFramePr>
          <p:xfrm>
            <a:off x="633240" y="0"/>
            <a:ext cx="852840" cy="1219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8" name="Object 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3240" y="0"/>
                      <a:ext cx="852840" cy="12193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229" name="Line 15"/>
          <p:cNvSpPr/>
          <p:nvPr/>
        </p:nvSpPr>
        <p:spPr>
          <a:xfrm>
            <a:off x="1752480" y="1447920"/>
            <a:ext cx="5105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695160" y="2028960"/>
            <a:ext cx="678204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’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ericolo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quindi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ieta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montare le parti che compongono le torrette di alimentazione annesse ai banch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666720" y="3619440"/>
            <a:ext cx="6781680" cy="70380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’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ericolo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quindi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ieta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nomettere le spie che segnalano che il banco è aliment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619280" y="9763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lettric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1014480" y="3867120"/>
            <a:ext cx="6705360" cy="7038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Arial"/>
              </a:rPr>
              <a:t>Assicurarsi che il cavo non sia di intralcio al lavoro e non interferisca con il movimento delle pers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952560" y="5186520"/>
            <a:ext cx="72388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on montare apparecchiature e non iniziare esperimenti prima di avere ascoltato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utt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le indicazioni fornite dall’insegn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8"/>
          <p:cNvGrpSpPr/>
          <p:nvPr/>
        </p:nvGrpSpPr>
        <p:grpSpPr>
          <a:xfrm>
            <a:off x="990720" y="2019240"/>
            <a:ext cx="7449840" cy="1404720"/>
            <a:chOff x="990720" y="2019240"/>
            <a:chExt cx="7449840" cy="1404720"/>
          </a:xfrm>
        </p:grpSpPr>
        <p:sp>
          <p:nvSpPr>
            <p:cNvPr id="236" name="Text Box 8"/>
            <p:cNvSpPr/>
            <p:nvPr/>
          </p:nvSpPr>
          <p:spPr>
            <a:xfrm>
              <a:off x="990720" y="2019240"/>
              <a:ext cx="6095880" cy="703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Controllare che gli apparecchi alimentati siano spenti prima di inserire la spina nella presa elettric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Picture 11" descr="E:\PFiles\MSOffice\Clipart\standard\stddir3\PE01735_.wmf"/>
            <p:cNvPicPr/>
            <p:nvPr/>
          </p:nvPicPr>
          <p:blipFill>
            <a:blip r:embed="rId1"/>
            <a:stretch/>
          </p:blipFill>
          <p:spPr>
            <a:xfrm>
              <a:off x="7162920" y="2412720"/>
              <a:ext cx="1277640" cy="101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8" name="Group 15"/>
          <p:cNvGrpSpPr/>
          <p:nvPr/>
        </p:nvGrpSpPr>
        <p:grpSpPr>
          <a:xfrm>
            <a:off x="633240" y="0"/>
            <a:ext cx="3176640" cy="1219320"/>
            <a:chOff x="633240" y="0"/>
            <a:chExt cx="3176640" cy="1219320"/>
          </a:xfrm>
        </p:grpSpPr>
        <p:sp>
          <p:nvSpPr>
            <p:cNvPr id="239" name="Text Box 16"/>
            <p:cNvSpPr/>
            <p:nvPr/>
          </p:nvSpPr>
          <p:spPr>
            <a:xfrm>
              <a:off x="1544760" y="395280"/>
              <a:ext cx="2265120" cy="337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sicurezz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0" name="Object 0"/>
            <p:cNvGraphicFramePr/>
            <p:nvPr/>
          </p:nvGraphicFramePr>
          <p:xfrm>
            <a:off x="633240" y="0"/>
            <a:ext cx="852840" cy="1219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1" name="Object 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3240" y="0"/>
                      <a:ext cx="852840" cy="12193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242" name="Line 19"/>
          <p:cNvSpPr/>
          <p:nvPr/>
        </p:nvSpPr>
        <p:spPr>
          <a:xfrm>
            <a:off x="1752480" y="1447920"/>
            <a:ext cx="5105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37"/>
          <p:cNvSpPr/>
          <p:nvPr/>
        </p:nvSpPr>
        <p:spPr>
          <a:xfrm>
            <a:off x="1752480" y="1447920"/>
            <a:ext cx="5105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3" descr=""/>
          <p:cNvPicPr/>
          <p:nvPr/>
        </p:nvPicPr>
        <p:blipFill>
          <a:blip r:embed="rId1"/>
          <a:stretch/>
        </p:blipFill>
        <p:spPr>
          <a:xfrm>
            <a:off x="7048440" y="938160"/>
            <a:ext cx="790560" cy="5907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2"/>
          <p:cNvSpPr/>
          <p:nvPr/>
        </p:nvSpPr>
        <p:spPr>
          <a:xfrm>
            <a:off x="1623960" y="914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aser e altre sorgenti lumi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609480" y="3048120"/>
            <a:ext cx="7391520" cy="7038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mpade spettrali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non vanno toccate fino ad almeno 10 minuti dopo lo spegnim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609480" y="4114800"/>
            <a:ext cx="723924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’ necessari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n montar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apparecchiature 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n iniziate esperimenti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prima di avere ascoltato tutte le indicazioni fornite dall’insegn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15"/>
          <p:cNvGrpSpPr/>
          <p:nvPr/>
        </p:nvGrpSpPr>
        <p:grpSpPr>
          <a:xfrm>
            <a:off x="533520" y="4495680"/>
            <a:ext cx="7947000" cy="2035080"/>
            <a:chOff x="533520" y="4495680"/>
            <a:chExt cx="7947000" cy="2035080"/>
          </a:xfrm>
        </p:grpSpPr>
        <p:sp>
          <p:nvSpPr>
            <p:cNvPr id="249" name="Text Box 3"/>
            <p:cNvSpPr/>
            <p:nvPr/>
          </p:nvSpPr>
          <p:spPr>
            <a:xfrm>
              <a:off x="533520" y="5454360"/>
              <a:ext cx="7467480" cy="825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Seguire sempre le indicazioni operative date dall’insegn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Picture 13" descr="C:\Documents and Settings\crec\Documenti\Nuova cartella\AG00372_.GIF"/>
            <p:cNvPicPr/>
            <p:nvPr/>
          </p:nvPicPr>
          <p:blipFill>
            <a:blip r:embed="rId2"/>
            <a:stretch/>
          </p:blipFill>
          <p:spPr>
            <a:xfrm>
              <a:off x="7405560" y="4495680"/>
              <a:ext cx="1074960" cy="2035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1" name="Picture 18" descr="C:\Documents and Settings\crec\Documenti\Nuova cartella\AG00372_.GIF"/>
          <p:cNvPicPr/>
          <p:nvPr/>
        </p:nvPicPr>
        <p:blipFill>
          <a:blip r:embed="rId3"/>
          <a:stretch/>
        </p:blipFill>
        <p:spPr>
          <a:xfrm>
            <a:off x="5010120" y="3048120"/>
            <a:ext cx="1730520" cy="327636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23"/>
          <p:cNvGrpSpPr/>
          <p:nvPr/>
        </p:nvGrpSpPr>
        <p:grpSpPr>
          <a:xfrm>
            <a:off x="633240" y="0"/>
            <a:ext cx="3176640" cy="1219320"/>
            <a:chOff x="633240" y="0"/>
            <a:chExt cx="3176640" cy="1219320"/>
          </a:xfrm>
        </p:grpSpPr>
        <p:sp>
          <p:nvSpPr>
            <p:cNvPr id="253" name="Text Box 24"/>
            <p:cNvSpPr/>
            <p:nvPr/>
          </p:nvSpPr>
          <p:spPr>
            <a:xfrm>
              <a:off x="1544760" y="395280"/>
              <a:ext cx="2265120" cy="337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sicurezz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4" name="Object 2"/>
            <p:cNvGraphicFramePr/>
            <p:nvPr/>
          </p:nvGraphicFramePr>
          <p:xfrm>
            <a:off x="633240" y="0"/>
            <a:ext cx="852840" cy="1219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55" name="Object 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33240" y="0"/>
                      <a:ext cx="852840" cy="12193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256" name="Line 28"/>
          <p:cNvSpPr/>
          <p:nvPr/>
        </p:nvSpPr>
        <p:spPr>
          <a:xfrm>
            <a:off x="8839080" y="164304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9"/>
          <p:cNvSpPr/>
          <p:nvPr/>
        </p:nvSpPr>
        <p:spPr>
          <a:xfrm>
            <a:off x="7543800" y="1290600"/>
            <a:ext cx="1295280" cy="609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35"/>
          <p:cNvGrpSpPr/>
          <p:nvPr/>
        </p:nvGrpSpPr>
        <p:grpSpPr>
          <a:xfrm>
            <a:off x="485640" y="1752480"/>
            <a:ext cx="7753320" cy="1266840"/>
            <a:chOff x="485640" y="1752480"/>
            <a:chExt cx="7753320" cy="1266840"/>
          </a:xfrm>
        </p:grpSpPr>
        <p:sp>
          <p:nvSpPr>
            <p:cNvPr id="259" name="Rectangle 7"/>
            <p:cNvSpPr/>
            <p:nvPr/>
          </p:nvSpPr>
          <p:spPr>
            <a:xfrm>
              <a:off x="485640" y="1752480"/>
              <a:ext cx="6981840" cy="1008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sorgenti luminose intens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non devono essere guardate né direttamente né tramite riflessione su specchi o superfici metallich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0" name="Object 1"/>
            <p:cNvGraphicFramePr/>
            <p:nvPr/>
          </p:nvGraphicFramePr>
          <p:xfrm>
            <a:off x="7200720" y="1847880"/>
            <a:ext cx="1038240" cy="11714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61" name="Object 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200720" y="1847880"/>
                      <a:ext cx="1038240" cy="117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2" name="Group 36"/>
          <p:cNvGrpSpPr/>
          <p:nvPr/>
        </p:nvGrpSpPr>
        <p:grpSpPr>
          <a:xfrm>
            <a:off x="7191360" y="1319040"/>
            <a:ext cx="1628280" cy="1666800"/>
            <a:chOff x="7191360" y="1319040"/>
            <a:chExt cx="1628280" cy="1666800"/>
          </a:xfrm>
        </p:grpSpPr>
        <p:graphicFrame>
          <p:nvGraphicFramePr>
            <p:cNvPr id="263" name="Object 0"/>
            <p:cNvGraphicFramePr/>
            <p:nvPr/>
          </p:nvGraphicFramePr>
          <p:xfrm>
            <a:off x="7191360" y="1319040"/>
            <a:ext cx="1037880" cy="16668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64" name="Object 0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191360" y="1319040"/>
                      <a:ext cx="1037880" cy="166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5" name="Line 30"/>
            <p:cNvSpPr/>
            <p:nvPr/>
          </p:nvSpPr>
          <p:spPr>
            <a:xfrm flipV="1">
              <a:off x="7600680" y="1919160"/>
              <a:ext cx="12189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19" descr="C:\Documents and Settings\crec\Documenti\Nuova cartella\AG00372_.GIF"/>
          <p:cNvPicPr/>
          <p:nvPr/>
        </p:nvPicPr>
        <p:blipFill>
          <a:blip r:embed="rId10"/>
          <a:stretch/>
        </p:blipFill>
        <p:spPr>
          <a:xfrm>
            <a:off x="2071800" y="762120"/>
            <a:ext cx="2736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7"/>
          <p:cNvGrpSpPr/>
          <p:nvPr/>
        </p:nvGrpSpPr>
        <p:grpSpPr>
          <a:xfrm>
            <a:off x="1981080" y="2971800"/>
            <a:ext cx="5873760" cy="1371600"/>
            <a:chOff x="1981080" y="2971800"/>
            <a:chExt cx="5873760" cy="1371600"/>
          </a:xfrm>
        </p:grpSpPr>
        <p:sp>
          <p:nvSpPr>
            <p:cNvPr id="268" name="AutoShape 4"/>
            <p:cNvSpPr/>
            <p:nvPr/>
          </p:nvSpPr>
          <p:spPr>
            <a:xfrm flipV="1">
              <a:off x="1981080" y="2971440"/>
              <a:ext cx="5873760" cy="1371600"/>
            </a:xfrm>
            <a:prstGeom prst="wedgeRoundRectCallout">
              <a:avLst>
                <a:gd name="adj1" fmla="val -50245"/>
                <a:gd name="adj2" fmla="val 70023"/>
                <a:gd name="adj3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5"/>
            <p:cNvSpPr/>
            <p:nvPr/>
          </p:nvSpPr>
          <p:spPr>
            <a:xfrm flipH="1">
              <a:off x="2361960" y="3276720"/>
              <a:ext cx="541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Il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terzo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 aspetto riguarda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le norme di comport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0" name="Object 0"/>
          <p:cNvGraphicFramePr/>
          <p:nvPr/>
        </p:nvGraphicFramePr>
        <p:xfrm>
          <a:off x="380880" y="1371600"/>
          <a:ext cx="142236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142236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4"/>
          <p:cNvGrpSpPr/>
          <p:nvPr/>
        </p:nvGrpSpPr>
        <p:grpSpPr>
          <a:xfrm>
            <a:off x="990720" y="2286000"/>
            <a:ext cx="2739960" cy="2514600"/>
            <a:chOff x="990720" y="2286000"/>
            <a:chExt cx="2739960" cy="2514600"/>
          </a:xfrm>
        </p:grpSpPr>
        <p:graphicFrame>
          <p:nvGraphicFramePr>
            <p:cNvPr id="53" name="Object 151"/>
            <p:cNvGraphicFramePr/>
            <p:nvPr/>
          </p:nvGraphicFramePr>
          <p:xfrm>
            <a:off x="2362320" y="2286000"/>
            <a:ext cx="1368360" cy="1957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Object 15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62320" y="2286000"/>
                      <a:ext cx="1368360" cy="195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" name="Object 129"/>
            <p:cNvGraphicFramePr/>
            <p:nvPr/>
          </p:nvGraphicFramePr>
          <p:xfrm>
            <a:off x="990720" y="2590920"/>
            <a:ext cx="2282760" cy="2209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" name="Object 12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90720" y="2590920"/>
                      <a:ext cx="2282760" cy="22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7" name="Group 153"/>
          <p:cNvGrpSpPr/>
          <p:nvPr/>
        </p:nvGrpSpPr>
        <p:grpSpPr>
          <a:xfrm>
            <a:off x="533160" y="990720"/>
            <a:ext cx="7924680" cy="1371600"/>
            <a:chOff x="533160" y="990720"/>
            <a:chExt cx="7924680" cy="1371600"/>
          </a:xfrm>
        </p:grpSpPr>
        <p:sp>
          <p:nvSpPr>
            <p:cNvPr id="58" name="AutoShape 140"/>
            <p:cNvSpPr/>
            <p:nvPr/>
          </p:nvSpPr>
          <p:spPr>
            <a:xfrm flipH="1">
              <a:off x="532800" y="990720"/>
              <a:ext cx="7924680" cy="1371600"/>
            </a:xfrm>
            <a:prstGeom prst="wedgeRoundRectCallout">
              <a:avLst>
                <a:gd name="adj1" fmla="val 11495"/>
                <a:gd name="adj2" fmla="val 81824"/>
                <a:gd name="adj3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43"/>
            <p:cNvSpPr/>
            <p:nvPr/>
          </p:nvSpPr>
          <p:spPr>
            <a:xfrm>
              <a:off x="1295280" y="1447920"/>
              <a:ext cx="604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Buongiorno ragazze e ragazzi…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52"/>
          <p:cNvGrpSpPr/>
          <p:nvPr/>
        </p:nvGrpSpPr>
        <p:grpSpPr>
          <a:xfrm>
            <a:off x="533160" y="990720"/>
            <a:ext cx="7924680" cy="1371600"/>
            <a:chOff x="533160" y="990720"/>
            <a:chExt cx="7924680" cy="1371600"/>
          </a:xfrm>
        </p:grpSpPr>
        <p:sp>
          <p:nvSpPr>
            <p:cNvPr id="61" name="AutoShape 148"/>
            <p:cNvSpPr/>
            <p:nvPr/>
          </p:nvSpPr>
          <p:spPr>
            <a:xfrm flipH="1">
              <a:off x="532800" y="990720"/>
              <a:ext cx="7924680" cy="1371600"/>
            </a:xfrm>
            <a:prstGeom prst="wedgeRoundRectCallout">
              <a:avLst>
                <a:gd name="adj1" fmla="val 11476"/>
                <a:gd name="adj2" fmla="val 82287"/>
                <a:gd name="adj3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9"/>
            <p:cNvSpPr/>
            <p:nvPr/>
          </p:nvSpPr>
          <p:spPr>
            <a:xfrm>
              <a:off x="681120" y="144792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…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.oggi parliamo di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sicurezza 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nei laboratori di Fisic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8" descr="C:\Documents and Settings\crec\Documenti\Nuova cartella\BD13728_.GIF"/>
          <p:cNvPicPr/>
          <p:nvPr/>
        </p:nvPicPr>
        <p:blipFill>
          <a:blip r:embed="rId1"/>
          <a:stretch/>
        </p:blipFill>
        <p:spPr>
          <a:xfrm>
            <a:off x="4952880" y="171360"/>
            <a:ext cx="2748240" cy="1839960"/>
          </a:xfrm>
          <a:prstGeom prst="rect">
            <a:avLst/>
          </a:prstGeom>
          <a:ln w="0">
            <a:noFill/>
          </a:ln>
        </p:spPr>
      </p:pic>
      <p:grpSp>
        <p:nvGrpSpPr>
          <p:cNvPr id="273" name="Group 2"/>
          <p:cNvGrpSpPr/>
          <p:nvPr/>
        </p:nvGrpSpPr>
        <p:grpSpPr>
          <a:xfrm>
            <a:off x="380880" y="228600"/>
            <a:ext cx="4038840" cy="1371600"/>
            <a:chOff x="380880" y="228600"/>
            <a:chExt cx="4038840" cy="1371600"/>
          </a:xfrm>
        </p:grpSpPr>
        <p:graphicFrame>
          <p:nvGraphicFramePr>
            <p:cNvPr id="274" name="Object 2"/>
            <p:cNvGraphicFramePr/>
            <p:nvPr/>
          </p:nvGraphicFramePr>
          <p:xfrm>
            <a:off x="380880" y="228600"/>
            <a:ext cx="1376640" cy="1371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5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228600"/>
                      <a:ext cx="1376640" cy="13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276" name="Text Box 4"/>
            <p:cNvSpPr/>
            <p:nvPr/>
          </p:nvSpPr>
          <p:spPr>
            <a:xfrm>
              <a:off x="1544760" y="380880"/>
              <a:ext cx="287496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comporta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5"/>
          <p:cNvSpPr/>
          <p:nvPr/>
        </p:nvSpPr>
        <p:spPr>
          <a:xfrm>
            <a:off x="838080" y="1600200"/>
            <a:ext cx="41148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dere al laboratorio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5"/>
          <p:cNvGrpSpPr/>
          <p:nvPr/>
        </p:nvGrpSpPr>
        <p:grpSpPr>
          <a:xfrm>
            <a:off x="5181480" y="1078200"/>
            <a:ext cx="2819520" cy="1683000"/>
            <a:chOff x="5181480" y="1078200"/>
            <a:chExt cx="2819520" cy="1683000"/>
          </a:xfrm>
        </p:grpSpPr>
        <p:sp>
          <p:nvSpPr>
            <p:cNvPr id="279" name="Rectangle 11"/>
            <p:cNvSpPr/>
            <p:nvPr/>
          </p:nvSpPr>
          <p:spPr>
            <a:xfrm>
              <a:off x="5181480" y="2362320"/>
              <a:ext cx="2819520" cy="398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ORDINATAMENTE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14"/>
            <p:cNvGrpSpPr/>
            <p:nvPr/>
          </p:nvGrpSpPr>
          <p:grpSpPr>
            <a:xfrm>
              <a:off x="5562720" y="1078200"/>
              <a:ext cx="1606680" cy="978480"/>
              <a:chOff x="5562720" y="1078200"/>
              <a:chExt cx="1606680" cy="978480"/>
            </a:xfrm>
          </p:grpSpPr>
          <p:sp>
            <p:nvSpPr>
              <p:cNvPr id="281" name="Line 12"/>
              <p:cNvSpPr/>
              <p:nvPr/>
            </p:nvSpPr>
            <p:spPr>
              <a:xfrm flipV="1">
                <a:off x="5562720" y="1142640"/>
                <a:ext cx="1523880" cy="914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13"/>
              <p:cNvSpPr/>
              <p:nvPr/>
            </p:nvSpPr>
            <p:spPr>
              <a:xfrm flipH="1" flipV="1">
                <a:off x="5631840" y="1078200"/>
                <a:ext cx="1537560" cy="8910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3" name="Group 35"/>
          <p:cNvGrpSpPr/>
          <p:nvPr/>
        </p:nvGrpSpPr>
        <p:grpSpPr>
          <a:xfrm>
            <a:off x="838080" y="2971800"/>
            <a:ext cx="7515360" cy="1733040"/>
            <a:chOff x="838080" y="2971800"/>
            <a:chExt cx="7515360" cy="1733040"/>
          </a:xfrm>
        </p:grpSpPr>
        <p:sp>
          <p:nvSpPr>
            <p:cNvPr id="284" name="Rectangle 10"/>
            <p:cNvSpPr/>
            <p:nvPr/>
          </p:nvSpPr>
          <p:spPr>
            <a:xfrm>
              <a:off x="838080" y="3048120"/>
              <a:ext cx="62485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tilizzando le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entrate per gli studenti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34"/>
            <p:cNvGrpSpPr/>
            <p:nvPr/>
          </p:nvGrpSpPr>
          <p:grpSpPr>
            <a:xfrm>
              <a:off x="6172200" y="2971800"/>
              <a:ext cx="2181240" cy="1733040"/>
              <a:chOff x="6172200" y="2971800"/>
              <a:chExt cx="2181240" cy="1733040"/>
            </a:xfrm>
          </p:grpSpPr>
          <p:grpSp>
            <p:nvGrpSpPr>
              <p:cNvPr id="286" name="Group 26"/>
              <p:cNvGrpSpPr/>
              <p:nvPr/>
            </p:nvGrpSpPr>
            <p:grpSpPr>
              <a:xfrm>
                <a:off x="7010280" y="2971800"/>
                <a:ext cx="1343160" cy="1676160"/>
                <a:chOff x="7010280" y="2971800"/>
                <a:chExt cx="1343160" cy="1676160"/>
              </a:xfrm>
            </p:grpSpPr>
            <p:pic>
              <p:nvPicPr>
                <p:cNvPr id="287" name="Picture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010280" y="2971800"/>
                  <a:ext cx="1225440" cy="1676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Picture 2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591320" y="3355920"/>
                  <a:ext cx="762120" cy="546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aphicFrame>
            <p:nvGraphicFramePr>
              <p:cNvPr id="289" name="Object 1"/>
              <p:cNvGraphicFramePr/>
              <p:nvPr/>
            </p:nvGraphicFramePr>
            <p:xfrm>
              <a:off x="6172200" y="3180960"/>
              <a:ext cx="1235160" cy="152388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290" name="Object 1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172200" y="3180960"/>
                        <a:ext cx="1235160" cy="152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91" name="Group 36"/>
          <p:cNvGrpSpPr/>
          <p:nvPr/>
        </p:nvGrpSpPr>
        <p:grpSpPr>
          <a:xfrm>
            <a:off x="457200" y="4419720"/>
            <a:ext cx="7772400" cy="1676160"/>
            <a:chOff x="457200" y="4419720"/>
            <a:chExt cx="7772400" cy="1676160"/>
          </a:xfrm>
        </p:grpSpPr>
        <p:sp>
          <p:nvSpPr>
            <p:cNvPr id="292" name="Rectangle 27"/>
            <p:cNvSpPr/>
            <p:nvPr/>
          </p:nvSpPr>
          <p:spPr>
            <a:xfrm>
              <a:off x="2666880" y="5029200"/>
              <a:ext cx="556272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l’ingresso all’aula di “preparazione” è riservato al personale scolast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Group 33"/>
            <p:cNvGrpSpPr/>
            <p:nvPr/>
          </p:nvGrpSpPr>
          <p:grpSpPr>
            <a:xfrm>
              <a:off x="457200" y="4419720"/>
              <a:ext cx="2406600" cy="1676160"/>
              <a:chOff x="457200" y="4419720"/>
              <a:chExt cx="2406600" cy="1676160"/>
            </a:xfrm>
          </p:grpSpPr>
          <p:grpSp>
            <p:nvGrpSpPr>
              <p:cNvPr id="294" name="Group 30"/>
              <p:cNvGrpSpPr/>
              <p:nvPr/>
            </p:nvGrpSpPr>
            <p:grpSpPr>
              <a:xfrm>
                <a:off x="457200" y="4419720"/>
                <a:ext cx="1352520" cy="1676160"/>
                <a:chOff x="457200" y="4419720"/>
                <a:chExt cx="1352520" cy="1676160"/>
              </a:xfrm>
            </p:grpSpPr>
            <p:pic>
              <p:nvPicPr>
                <p:cNvPr id="295" name="Picture 2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57200" y="4419720"/>
                  <a:ext cx="1225440" cy="1676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6" name="Picture 29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33200" y="4800600"/>
                  <a:ext cx="776520" cy="527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aphicFrame>
            <p:nvGraphicFramePr>
              <p:cNvPr id="297" name="Object 0"/>
              <p:cNvGraphicFramePr/>
              <p:nvPr/>
            </p:nvGraphicFramePr>
            <p:xfrm>
              <a:off x="1676520" y="4581360"/>
              <a:ext cx="1187280" cy="146628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298" name="Object 0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1676520" y="4581360"/>
                        <a:ext cx="1187280" cy="1466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2"/>
          <p:cNvGrpSpPr/>
          <p:nvPr/>
        </p:nvGrpSpPr>
        <p:grpSpPr>
          <a:xfrm>
            <a:off x="380880" y="228600"/>
            <a:ext cx="4038840" cy="1371600"/>
            <a:chOff x="380880" y="228600"/>
            <a:chExt cx="4038840" cy="1371600"/>
          </a:xfrm>
        </p:grpSpPr>
        <p:graphicFrame>
          <p:nvGraphicFramePr>
            <p:cNvPr id="300" name="Object 0"/>
            <p:cNvGraphicFramePr/>
            <p:nvPr/>
          </p:nvGraphicFramePr>
          <p:xfrm>
            <a:off x="380880" y="228600"/>
            <a:ext cx="1376640" cy="1371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1" name="Object 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228600"/>
                      <a:ext cx="1376640" cy="13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02" name="Text Box 4"/>
            <p:cNvSpPr/>
            <p:nvPr/>
          </p:nvSpPr>
          <p:spPr>
            <a:xfrm>
              <a:off x="1544760" y="380880"/>
              <a:ext cx="287496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comporta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Rectangle 7"/>
          <p:cNvSpPr/>
          <p:nvPr/>
        </p:nvSpPr>
        <p:spPr>
          <a:xfrm>
            <a:off x="1066680" y="3405240"/>
            <a:ext cx="61722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Non svolgere esperimenti tenendo addosso indumenti ingombra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29"/>
          <p:cNvGrpSpPr/>
          <p:nvPr/>
        </p:nvGrpSpPr>
        <p:grpSpPr>
          <a:xfrm>
            <a:off x="1066680" y="1700280"/>
            <a:ext cx="6950160" cy="838080"/>
            <a:chOff x="1066680" y="1700280"/>
            <a:chExt cx="6950160" cy="838080"/>
          </a:xfrm>
        </p:grpSpPr>
        <p:sp>
          <p:nvSpPr>
            <p:cNvPr id="305" name="Rectangle 6"/>
            <p:cNvSpPr/>
            <p:nvPr/>
          </p:nvSpPr>
          <p:spPr>
            <a:xfrm>
              <a:off x="1066680" y="1823760"/>
              <a:ext cx="6172200" cy="703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Disporre zaini e cartelle ai lati del laboratorio, avendo cura di non ingombrare le vie di fug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6" name="Picture 23" descr=""/>
            <p:cNvPicPr/>
            <p:nvPr/>
          </p:nvPicPr>
          <p:blipFill>
            <a:blip r:embed="rId3"/>
            <a:stretch/>
          </p:blipFill>
          <p:spPr>
            <a:xfrm>
              <a:off x="7238880" y="1700280"/>
              <a:ext cx="77796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31"/>
          <p:cNvGrpSpPr/>
          <p:nvPr/>
        </p:nvGrpSpPr>
        <p:grpSpPr>
          <a:xfrm>
            <a:off x="828720" y="4791240"/>
            <a:ext cx="7101000" cy="889560"/>
            <a:chOff x="828720" y="4791240"/>
            <a:chExt cx="7101000" cy="889560"/>
          </a:xfrm>
        </p:grpSpPr>
        <p:sp>
          <p:nvSpPr>
            <p:cNvPr id="308" name="Rectangle 8"/>
            <p:cNvSpPr/>
            <p:nvPr/>
          </p:nvSpPr>
          <p:spPr>
            <a:xfrm>
              <a:off x="1757520" y="5281920"/>
              <a:ext cx="6172200" cy="398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Appendere gli indumenti agli appendiabit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9" name="Picture 28" descr=""/>
            <p:cNvPicPr/>
            <p:nvPr/>
          </p:nvPicPr>
          <p:blipFill>
            <a:blip r:embed="rId4"/>
            <a:stretch/>
          </p:blipFill>
          <p:spPr>
            <a:xfrm>
              <a:off x="828720" y="4791240"/>
              <a:ext cx="914400" cy="885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380880" y="228600"/>
            <a:ext cx="4038840" cy="1371600"/>
            <a:chOff x="380880" y="228600"/>
            <a:chExt cx="4038840" cy="1371600"/>
          </a:xfrm>
        </p:grpSpPr>
        <p:graphicFrame>
          <p:nvGraphicFramePr>
            <p:cNvPr id="311" name="Object 2"/>
            <p:cNvGraphicFramePr/>
            <p:nvPr/>
          </p:nvGraphicFramePr>
          <p:xfrm>
            <a:off x="380880" y="228600"/>
            <a:ext cx="1376640" cy="1371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228600"/>
                      <a:ext cx="1376640" cy="13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13" name="Text Box 4"/>
            <p:cNvSpPr/>
            <p:nvPr/>
          </p:nvSpPr>
          <p:spPr>
            <a:xfrm>
              <a:off x="1544760" y="380880"/>
              <a:ext cx="287496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comporta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7"/>
          <p:cNvGrpSpPr/>
          <p:nvPr/>
        </p:nvGrpSpPr>
        <p:grpSpPr>
          <a:xfrm>
            <a:off x="1052640" y="1238400"/>
            <a:ext cx="7246440" cy="1528560"/>
            <a:chOff x="1052640" y="1238400"/>
            <a:chExt cx="7246440" cy="1528560"/>
          </a:xfrm>
        </p:grpSpPr>
        <p:sp>
          <p:nvSpPr>
            <p:cNvPr id="315" name="Rectangle 8"/>
            <p:cNvSpPr/>
            <p:nvPr/>
          </p:nvSpPr>
          <p:spPr>
            <a:xfrm>
              <a:off x="1052640" y="2000160"/>
              <a:ext cx="6171840" cy="703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Non portare e non consumare bevande e cibi in  laborato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6" name="Object 1"/>
            <p:cNvGraphicFramePr/>
            <p:nvPr/>
          </p:nvGraphicFramePr>
          <p:xfrm>
            <a:off x="7148520" y="1238400"/>
            <a:ext cx="1150560" cy="1528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7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148520" y="1238400"/>
                      <a:ext cx="1150560" cy="152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8" name="Group 14"/>
          <p:cNvGrpSpPr/>
          <p:nvPr/>
        </p:nvGrpSpPr>
        <p:grpSpPr>
          <a:xfrm>
            <a:off x="1042920" y="3157560"/>
            <a:ext cx="5291280" cy="1051560"/>
            <a:chOff x="1042920" y="3157560"/>
            <a:chExt cx="5291280" cy="1051560"/>
          </a:xfrm>
        </p:grpSpPr>
        <p:sp>
          <p:nvSpPr>
            <p:cNvPr id="319" name="Rectangle 5"/>
            <p:cNvSpPr/>
            <p:nvPr/>
          </p:nvSpPr>
          <p:spPr>
            <a:xfrm>
              <a:off x="1042920" y="3505320"/>
              <a:ext cx="368136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Muoversi nel laboratorio con attenzione…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0" name="Object 0"/>
            <p:cNvGraphicFramePr/>
            <p:nvPr/>
          </p:nvGraphicFramePr>
          <p:xfrm>
            <a:off x="4724280" y="3157560"/>
            <a:ext cx="1609920" cy="104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1" name="Object 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24280" y="3157560"/>
                      <a:ext cx="1609920" cy="10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22" name="Rectangle 13"/>
          <p:cNvSpPr/>
          <p:nvPr/>
        </p:nvSpPr>
        <p:spPr>
          <a:xfrm>
            <a:off x="1066680" y="4861080"/>
            <a:ext cx="6172200" cy="70380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vendo cura di non interferire con il lavoro dei compagni e di non urtare le attrezz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5"/>
          <p:cNvSpPr/>
          <p:nvPr/>
        </p:nvSpPr>
        <p:spPr>
          <a:xfrm>
            <a:off x="6629400" y="29718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바탕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380880" y="228600"/>
            <a:ext cx="4038840" cy="1371600"/>
            <a:chOff x="380880" y="228600"/>
            <a:chExt cx="4038840" cy="1371600"/>
          </a:xfrm>
        </p:grpSpPr>
        <p:graphicFrame>
          <p:nvGraphicFramePr>
            <p:cNvPr id="325" name="Object 1"/>
            <p:cNvGraphicFramePr/>
            <p:nvPr/>
          </p:nvGraphicFramePr>
          <p:xfrm>
            <a:off x="380880" y="228600"/>
            <a:ext cx="1376640" cy="1371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6" name="Object 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228600"/>
                      <a:ext cx="1376640" cy="13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27" name="Text Box 4"/>
            <p:cNvSpPr/>
            <p:nvPr/>
          </p:nvSpPr>
          <p:spPr>
            <a:xfrm>
              <a:off x="1544760" y="380880"/>
              <a:ext cx="287496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comporta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Rectangle 5"/>
          <p:cNvSpPr/>
          <p:nvPr/>
        </p:nvSpPr>
        <p:spPr>
          <a:xfrm>
            <a:off x="1828800" y="2076480"/>
            <a:ext cx="6248520" cy="10087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on montar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parecchi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on iniziare esperimento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prima di avere ascoltato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utt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le indicazioni fornite dall’insegn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1"/>
          <p:cNvGrpSpPr/>
          <p:nvPr/>
        </p:nvGrpSpPr>
        <p:grpSpPr>
          <a:xfrm>
            <a:off x="952560" y="3871800"/>
            <a:ext cx="7162920" cy="1251720"/>
            <a:chOff x="952560" y="3871800"/>
            <a:chExt cx="7162920" cy="1251720"/>
          </a:xfrm>
        </p:grpSpPr>
        <p:sp>
          <p:nvSpPr>
            <p:cNvPr id="330" name="Rectangle 6"/>
            <p:cNvSpPr/>
            <p:nvPr/>
          </p:nvSpPr>
          <p:spPr>
            <a:xfrm>
              <a:off x="1943280" y="4419720"/>
              <a:ext cx="61722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Chiedere sempre all’insegnante di controllare l’apparecchiatura che ci sia accinge ad utilizz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31" name="Object 0"/>
            <p:cNvGraphicFramePr/>
            <p:nvPr/>
          </p:nvGraphicFramePr>
          <p:xfrm>
            <a:off x="952560" y="3871800"/>
            <a:ext cx="1001880" cy="1247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2" name="Object 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2560" y="3871800"/>
                      <a:ext cx="1001880" cy="124776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11"/>
          <p:cNvGrpSpPr/>
          <p:nvPr/>
        </p:nvGrpSpPr>
        <p:grpSpPr>
          <a:xfrm>
            <a:off x="380880" y="228600"/>
            <a:ext cx="4038840" cy="1371600"/>
            <a:chOff x="380880" y="228600"/>
            <a:chExt cx="4038840" cy="1371600"/>
          </a:xfrm>
        </p:grpSpPr>
        <p:graphicFrame>
          <p:nvGraphicFramePr>
            <p:cNvPr id="334" name="Object 2"/>
            <p:cNvGraphicFramePr/>
            <p:nvPr/>
          </p:nvGraphicFramePr>
          <p:xfrm>
            <a:off x="380880" y="228600"/>
            <a:ext cx="1376640" cy="1371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228600"/>
                      <a:ext cx="1376640" cy="13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36" name="Text Box 5"/>
            <p:cNvSpPr/>
            <p:nvPr/>
          </p:nvSpPr>
          <p:spPr>
            <a:xfrm>
              <a:off x="1544760" y="380880"/>
              <a:ext cx="287496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comporta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Rectangle 15"/>
          <p:cNvSpPr/>
          <p:nvPr/>
        </p:nvSpPr>
        <p:spPr>
          <a:xfrm>
            <a:off x="942840" y="2376360"/>
            <a:ext cx="61722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avarsi le mani prima di uscire dal laboratorio o immediatamente dopo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Object 0"/>
          <p:cNvGraphicFramePr/>
          <p:nvPr/>
        </p:nvGraphicFramePr>
        <p:xfrm>
          <a:off x="7643880" y="3728880"/>
          <a:ext cx="1214280" cy="20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Object 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43880" y="3728880"/>
                    <a:ext cx="121428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Group 22"/>
          <p:cNvGrpSpPr/>
          <p:nvPr/>
        </p:nvGrpSpPr>
        <p:grpSpPr>
          <a:xfrm>
            <a:off x="757080" y="4757760"/>
            <a:ext cx="6905520" cy="398880"/>
            <a:chOff x="757080" y="4757760"/>
            <a:chExt cx="6905520" cy="398880"/>
          </a:xfrm>
        </p:grpSpPr>
        <p:sp>
          <p:nvSpPr>
            <p:cNvPr id="341" name="Rectangle 17"/>
            <p:cNvSpPr/>
            <p:nvPr/>
          </p:nvSpPr>
          <p:spPr>
            <a:xfrm>
              <a:off x="757080" y="4757760"/>
              <a:ext cx="6477120" cy="3988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Uscire dal laboratorio per le </a:t>
              </a:r>
              <a:r>
                <a:rPr b="0" lang="en-US" sz="2000" spc="-1" strike="noStrike" u="sng">
                  <a:solidFill>
                    <a:srgbClr val="006600"/>
                  </a:solidFill>
                  <a:uFillTx/>
                  <a:latin typeface="Arial"/>
                </a:rPr>
                <a:t>vie riservate agli student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42" name="Object 1"/>
            <p:cNvGraphicFramePr/>
            <p:nvPr/>
          </p:nvGraphicFramePr>
          <p:xfrm>
            <a:off x="7224480" y="4852800"/>
            <a:ext cx="438120" cy="228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3" name="Object 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24480" y="4852800"/>
                      <a:ext cx="43812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10" descr="C:\Documents and Settings\crec\Documenti\animazioni\J0076146.GIF"/>
          <p:cNvPicPr/>
          <p:nvPr/>
        </p:nvPicPr>
        <p:blipFill>
          <a:blip r:embed="rId1"/>
          <a:stretch/>
        </p:blipFill>
        <p:spPr>
          <a:xfrm>
            <a:off x="3505320" y="3429000"/>
            <a:ext cx="1500120" cy="66024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12"/>
          <p:cNvSpPr/>
          <p:nvPr/>
        </p:nvSpPr>
        <p:spPr>
          <a:xfrm>
            <a:off x="762120" y="2666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MERGENZA FUO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5"/>
          <p:cNvSpPr/>
          <p:nvPr/>
        </p:nvSpPr>
        <p:spPr>
          <a:xfrm>
            <a:off x="1676520" y="3100320"/>
            <a:ext cx="5181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9"/>
          <p:cNvGrpSpPr/>
          <p:nvPr/>
        </p:nvGrpSpPr>
        <p:grpSpPr>
          <a:xfrm>
            <a:off x="380880" y="228600"/>
            <a:ext cx="4038840" cy="1371600"/>
            <a:chOff x="380880" y="228600"/>
            <a:chExt cx="4038840" cy="1371600"/>
          </a:xfrm>
        </p:grpSpPr>
        <p:graphicFrame>
          <p:nvGraphicFramePr>
            <p:cNvPr id="348" name="Object 0"/>
            <p:cNvGraphicFramePr/>
            <p:nvPr/>
          </p:nvGraphicFramePr>
          <p:xfrm>
            <a:off x="380880" y="228600"/>
            <a:ext cx="1376640" cy="1371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9" name="Object 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228600"/>
                      <a:ext cx="1376640" cy="13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50" name="Text Box 21"/>
            <p:cNvSpPr/>
            <p:nvPr/>
          </p:nvSpPr>
          <p:spPr>
            <a:xfrm>
              <a:off x="1544760" y="380880"/>
              <a:ext cx="287496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comporta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3"/>
          <p:cNvSpPr/>
          <p:nvPr/>
        </p:nvSpPr>
        <p:spPr>
          <a:xfrm>
            <a:off x="885960" y="2386080"/>
            <a:ext cx="678168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me comportarsi in caso di incend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rà oggetto di informazione ed esercitazione secondo il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iano generale di evacuazi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la scu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057400" y="990720"/>
            <a:ext cx="411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 caso di incen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838080" y="4238640"/>
            <a:ext cx="723924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utile comunque imparare alcune regole essenziali per non trovarsi impreparati di fronte ad una situazione di emergenz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14" descr="C:\Documents and Settings\crec\Documenti\animazioni\J0076146.GIF"/>
          <p:cNvPicPr/>
          <p:nvPr/>
        </p:nvPicPr>
        <p:blipFill>
          <a:blip r:embed="rId1"/>
          <a:stretch/>
        </p:blipFill>
        <p:spPr>
          <a:xfrm>
            <a:off x="5848200" y="900000"/>
            <a:ext cx="1500480" cy="66060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5"/>
          <p:cNvGrpSpPr/>
          <p:nvPr/>
        </p:nvGrpSpPr>
        <p:grpSpPr>
          <a:xfrm>
            <a:off x="380880" y="228600"/>
            <a:ext cx="4038840" cy="1371600"/>
            <a:chOff x="380880" y="228600"/>
            <a:chExt cx="4038840" cy="1371600"/>
          </a:xfrm>
        </p:grpSpPr>
        <p:graphicFrame>
          <p:nvGraphicFramePr>
            <p:cNvPr id="356" name="Object 0"/>
            <p:cNvGraphicFramePr/>
            <p:nvPr/>
          </p:nvGraphicFramePr>
          <p:xfrm>
            <a:off x="380880" y="228600"/>
            <a:ext cx="1376640" cy="1371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7" name="Object 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228600"/>
                      <a:ext cx="1376640" cy="13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58" name="Text Box 17"/>
            <p:cNvSpPr/>
            <p:nvPr/>
          </p:nvSpPr>
          <p:spPr>
            <a:xfrm>
              <a:off x="1544760" y="380880"/>
              <a:ext cx="287496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comporta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057400" y="990720"/>
            <a:ext cx="411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 caso di incen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781200" y="22860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dentificare e memorizzare l’uscita di sicurezza e la via di fuga predisposta per il luogo nel quale ci si tro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9" descr="C:\Documents and Settings\crec\Documenti\animazioni\J0076146.GIF"/>
          <p:cNvPicPr/>
          <p:nvPr/>
        </p:nvPicPr>
        <p:blipFill>
          <a:blip r:embed="rId1"/>
          <a:stretch/>
        </p:blipFill>
        <p:spPr>
          <a:xfrm>
            <a:off x="5738760" y="900000"/>
            <a:ext cx="1500120" cy="6606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10"/>
          <p:cNvSpPr/>
          <p:nvPr/>
        </p:nvSpPr>
        <p:spPr>
          <a:xfrm>
            <a:off x="781200" y="348156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99ffcc"/>
                </a:solidFill>
                <a:latin typeface="Arial"/>
              </a:rPr>
              <a:t>Memorizzare le modalità di apertura delle porte di sicurezza: premere sul maniglione e spingere verso l’es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1"/>
          <p:cNvSpPr/>
          <p:nvPr/>
        </p:nvSpPr>
        <p:spPr>
          <a:xfrm>
            <a:off x="781200" y="45054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n caso di emergenza non usare gli ascensori per la f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771480" y="52531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In caso di emergenza seguire scrupolosamente le indicazioni fornite dall’insegnante o dal personale scolas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4"/>
          <p:cNvGrpSpPr/>
          <p:nvPr/>
        </p:nvGrpSpPr>
        <p:grpSpPr>
          <a:xfrm>
            <a:off x="380880" y="228600"/>
            <a:ext cx="4038840" cy="1371600"/>
            <a:chOff x="380880" y="228600"/>
            <a:chExt cx="4038840" cy="1371600"/>
          </a:xfrm>
        </p:grpSpPr>
        <p:graphicFrame>
          <p:nvGraphicFramePr>
            <p:cNvPr id="366" name="Object 1024"/>
            <p:cNvGraphicFramePr/>
            <p:nvPr/>
          </p:nvGraphicFramePr>
          <p:xfrm>
            <a:off x="380880" y="228600"/>
            <a:ext cx="1376640" cy="1371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7" name="Object 102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228600"/>
                      <a:ext cx="1376640" cy="13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68" name="Text Box 16"/>
            <p:cNvSpPr/>
            <p:nvPr/>
          </p:nvSpPr>
          <p:spPr>
            <a:xfrm>
              <a:off x="1544760" y="380880"/>
              <a:ext cx="287496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comporta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3"/>
          <p:cNvSpPr/>
          <p:nvPr/>
        </p:nvSpPr>
        <p:spPr>
          <a:xfrm>
            <a:off x="776160" y="2252520"/>
            <a:ext cx="30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 segnale d’allar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057400" y="990720"/>
            <a:ext cx="411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 caso di incen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781200" y="292896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vitare ogni forma di panico, non agitarsi, non ur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9" descr="C:\Documents and Settings\crec\Documenti\animazioni\J0076146.GIF"/>
          <p:cNvPicPr/>
          <p:nvPr/>
        </p:nvPicPr>
        <p:blipFill>
          <a:blip r:embed="rId1"/>
          <a:stretch/>
        </p:blipFill>
        <p:spPr>
          <a:xfrm>
            <a:off x="5734080" y="900000"/>
            <a:ext cx="1500120" cy="6606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10"/>
          <p:cNvSpPr/>
          <p:nvPr/>
        </p:nvSpPr>
        <p:spPr>
          <a:xfrm>
            <a:off x="781200" y="355284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ffcc"/>
                </a:solidFill>
                <a:latin typeface="Arial"/>
              </a:rPr>
              <a:t>Muoversi rapidamente, insieme al gruppo di appartenenza, verso l’uscita di sicurezza prestabili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781200" y="45054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trollare che nessuno sia rimasto nel lo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771480" y="515304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Chiudere la porta del locale che si abband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800280" y="57816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ffcc"/>
                </a:solidFill>
                <a:latin typeface="Arial"/>
              </a:rPr>
              <a:t>Seguire il proprio gruppo verso il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uogo sicuro</a:t>
            </a:r>
            <a:r>
              <a:rPr b="1" lang="en-US" sz="1800" spc="-1" strike="noStrike">
                <a:solidFill>
                  <a:srgbClr val="99ffcc"/>
                </a:solidFill>
                <a:latin typeface="Arial"/>
              </a:rPr>
              <a:t> prestabil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5"/>
          <p:cNvSpPr/>
          <p:nvPr/>
        </p:nvSpPr>
        <p:spPr>
          <a:xfrm>
            <a:off x="838080" y="2666880"/>
            <a:ext cx="26672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16"/>
          <p:cNvGrpSpPr/>
          <p:nvPr/>
        </p:nvGrpSpPr>
        <p:grpSpPr>
          <a:xfrm>
            <a:off x="380880" y="228600"/>
            <a:ext cx="4038840" cy="1371600"/>
            <a:chOff x="380880" y="228600"/>
            <a:chExt cx="4038840" cy="1371600"/>
          </a:xfrm>
        </p:grpSpPr>
        <p:graphicFrame>
          <p:nvGraphicFramePr>
            <p:cNvPr id="379" name="Object 1024"/>
            <p:cNvGraphicFramePr/>
            <p:nvPr/>
          </p:nvGraphicFramePr>
          <p:xfrm>
            <a:off x="380880" y="228600"/>
            <a:ext cx="1376640" cy="1371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80" name="Object 102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228600"/>
                      <a:ext cx="1376640" cy="13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81" name="Text Box 18"/>
            <p:cNvSpPr/>
            <p:nvPr/>
          </p:nvSpPr>
          <p:spPr>
            <a:xfrm>
              <a:off x="1544760" y="380880"/>
              <a:ext cx="287496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comporta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057400" y="990720"/>
            <a:ext cx="411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 vie di fuga da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Group 1039"/>
          <p:cNvGrpSpPr/>
          <p:nvPr/>
        </p:nvGrpSpPr>
        <p:grpSpPr>
          <a:xfrm>
            <a:off x="380880" y="228600"/>
            <a:ext cx="4038840" cy="1371600"/>
            <a:chOff x="380880" y="228600"/>
            <a:chExt cx="4038840" cy="1371600"/>
          </a:xfrm>
        </p:grpSpPr>
        <p:graphicFrame>
          <p:nvGraphicFramePr>
            <p:cNvPr id="384" name="Object 1024"/>
            <p:cNvGraphicFramePr/>
            <p:nvPr/>
          </p:nvGraphicFramePr>
          <p:xfrm>
            <a:off x="380880" y="228600"/>
            <a:ext cx="1376640" cy="1371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5" name="Object 102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228600"/>
                      <a:ext cx="1376640" cy="13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86" name="Text Box 1041"/>
            <p:cNvSpPr/>
            <p:nvPr/>
          </p:nvSpPr>
          <p:spPr>
            <a:xfrm>
              <a:off x="1544760" y="380880"/>
              <a:ext cx="287496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comporta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7" name="Picture 1044" descr=""/>
          <p:cNvPicPr/>
          <p:nvPr/>
        </p:nvPicPr>
        <p:blipFill>
          <a:blip r:embed="rId3"/>
          <a:stretch/>
        </p:blipFill>
        <p:spPr>
          <a:xfrm>
            <a:off x="914400" y="2085840"/>
            <a:ext cx="5181480" cy="44355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47" descr=""/>
          <p:cNvPicPr/>
          <p:nvPr/>
        </p:nvPicPr>
        <p:blipFill>
          <a:blip r:embed="rId4"/>
          <a:stretch/>
        </p:blipFill>
        <p:spPr>
          <a:xfrm>
            <a:off x="6477120" y="533520"/>
            <a:ext cx="2217600" cy="251460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1048"/>
          <p:cNvSpPr/>
          <p:nvPr/>
        </p:nvSpPr>
        <p:spPr>
          <a:xfrm>
            <a:off x="6629400" y="5334120"/>
            <a:ext cx="1905120" cy="87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Laboratorio di Fisica F</a:t>
            </a:r>
            <a:r>
              <a:rPr b="1" lang="en-US" sz="2400" spc="-1" strike="noStrike" baseline="-25000">
                <a:solidFill>
                  <a:srgbClr val="00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051"/>
          <p:cNvGrpSpPr/>
          <p:nvPr/>
        </p:nvGrpSpPr>
        <p:grpSpPr>
          <a:xfrm>
            <a:off x="2133720" y="1590840"/>
            <a:ext cx="3962160" cy="377640"/>
            <a:chOff x="2133720" y="1590840"/>
            <a:chExt cx="3962160" cy="377640"/>
          </a:xfrm>
        </p:grpSpPr>
        <p:sp>
          <p:nvSpPr>
            <p:cNvPr id="391" name="Line 1049"/>
            <p:cNvSpPr/>
            <p:nvPr/>
          </p:nvSpPr>
          <p:spPr>
            <a:xfrm>
              <a:off x="2133720" y="1590840"/>
              <a:ext cx="39621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1050"/>
            <p:cNvSpPr/>
            <p:nvPr/>
          </p:nvSpPr>
          <p:spPr>
            <a:xfrm>
              <a:off x="2514600" y="1600200"/>
              <a:ext cx="320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studiamo le piantine…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1981080" y="900000"/>
            <a:ext cx="6400800" cy="1143000"/>
            <a:chOff x="1981080" y="900000"/>
            <a:chExt cx="6400800" cy="1143000"/>
          </a:xfrm>
        </p:grpSpPr>
        <p:sp>
          <p:nvSpPr>
            <p:cNvPr id="64" name="AutoShape 3"/>
            <p:cNvSpPr/>
            <p:nvPr/>
          </p:nvSpPr>
          <p:spPr>
            <a:xfrm>
              <a:off x="1981080" y="900000"/>
              <a:ext cx="6400800" cy="11430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4"/>
            <p:cNvSpPr/>
            <p:nvPr/>
          </p:nvSpPr>
          <p:spPr>
            <a:xfrm>
              <a:off x="2362320" y="900000"/>
              <a:ext cx="5790960" cy="855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Lavorare in laboratorio è il modo migliore per imparare a conoscere il mondo della Fisica 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5"/>
          <p:cNvGrpSpPr/>
          <p:nvPr/>
        </p:nvGrpSpPr>
        <p:grpSpPr>
          <a:xfrm>
            <a:off x="1981080" y="2590920"/>
            <a:ext cx="6400800" cy="1371600"/>
            <a:chOff x="1981080" y="2590920"/>
            <a:chExt cx="6400800" cy="1371600"/>
          </a:xfrm>
        </p:grpSpPr>
        <p:sp>
          <p:nvSpPr>
            <p:cNvPr id="67" name="AutoShape 6"/>
            <p:cNvSpPr/>
            <p:nvPr/>
          </p:nvSpPr>
          <p:spPr>
            <a:xfrm flipV="1">
              <a:off x="1981080" y="2590560"/>
              <a:ext cx="6400800" cy="1371600"/>
            </a:xfrm>
            <a:prstGeom prst="wedgeRoundRectCallout">
              <a:avLst>
                <a:gd name="adj1" fmla="val -43777"/>
                <a:gd name="adj2" fmla="val 57175"/>
                <a:gd name="adj3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7"/>
            <p:cNvSpPr/>
            <p:nvPr/>
          </p:nvSpPr>
          <p:spPr>
            <a:xfrm>
              <a:off x="2361960" y="2667240"/>
              <a:ext cx="5791320" cy="1234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.ma come in tutti i luoghi nei quali sono presenti apparecchiature scientifiche,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è fondamentale assicurarsi di lavorare in assoluta sicurezza.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9" name="Object 11"/>
          <p:cNvGraphicFramePr/>
          <p:nvPr/>
        </p:nvGraphicFramePr>
        <p:xfrm>
          <a:off x="176040" y="1447920"/>
          <a:ext cx="197820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1447920"/>
                    <a:ext cx="19782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057400" y="990720"/>
            <a:ext cx="411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 vie di fuga da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Group 3"/>
          <p:cNvGrpSpPr/>
          <p:nvPr/>
        </p:nvGrpSpPr>
        <p:grpSpPr>
          <a:xfrm>
            <a:off x="380880" y="228600"/>
            <a:ext cx="4038840" cy="1371600"/>
            <a:chOff x="380880" y="228600"/>
            <a:chExt cx="4038840" cy="1371600"/>
          </a:xfrm>
        </p:grpSpPr>
        <p:graphicFrame>
          <p:nvGraphicFramePr>
            <p:cNvPr id="395" name="Object 4"/>
            <p:cNvGraphicFramePr/>
            <p:nvPr/>
          </p:nvGraphicFramePr>
          <p:xfrm>
            <a:off x="380880" y="228600"/>
            <a:ext cx="1376640" cy="1371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228600"/>
                      <a:ext cx="1376640" cy="13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97" name="Text Box 5"/>
            <p:cNvSpPr/>
            <p:nvPr/>
          </p:nvSpPr>
          <p:spPr>
            <a:xfrm>
              <a:off x="1544760" y="380880"/>
              <a:ext cx="287496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e di comporta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Picture 7" descr=""/>
          <p:cNvPicPr/>
          <p:nvPr/>
        </p:nvPicPr>
        <p:blipFill>
          <a:blip r:embed="rId3"/>
          <a:stretch/>
        </p:blipFill>
        <p:spPr>
          <a:xfrm>
            <a:off x="6624720" y="533520"/>
            <a:ext cx="2217600" cy="251460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8"/>
          <p:cNvSpPr/>
          <p:nvPr/>
        </p:nvSpPr>
        <p:spPr>
          <a:xfrm>
            <a:off x="6858000" y="4952880"/>
            <a:ext cx="1905120" cy="87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Laboratorio di Fisica F</a:t>
            </a:r>
            <a:r>
              <a:rPr b="1" lang="en-US" sz="24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0" descr=""/>
          <p:cNvPicPr/>
          <p:nvPr/>
        </p:nvPicPr>
        <p:blipFill>
          <a:blip r:embed="rId4"/>
          <a:stretch/>
        </p:blipFill>
        <p:spPr>
          <a:xfrm>
            <a:off x="304920" y="2286000"/>
            <a:ext cx="6248160" cy="3532320"/>
          </a:xfrm>
          <a:prstGeom prst="rect">
            <a:avLst/>
          </a:prstGeom>
          <a:ln w="0">
            <a:noFill/>
          </a:ln>
        </p:spPr>
      </p:pic>
      <p:grpSp>
        <p:nvGrpSpPr>
          <p:cNvPr id="401" name="Group 15"/>
          <p:cNvGrpSpPr/>
          <p:nvPr/>
        </p:nvGrpSpPr>
        <p:grpSpPr>
          <a:xfrm>
            <a:off x="2133720" y="1590840"/>
            <a:ext cx="3962160" cy="377640"/>
            <a:chOff x="2133720" y="1590840"/>
            <a:chExt cx="3962160" cy="377640"/>
          </a:xfrm>
        </p:grpSpPr>
        <p:sp>
          <p:nvSpPr>
            <p:cNvPr id="402" name="Line 16"/>
            <p:cNvSpPr/>
            <p:nvPr/>
          </p:nvSpPr>
          <p:spPr>
            <a:xfrm>
              <a:off x="2133720" y="1590840"/>
              <a:ext cx="39621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7"/>
            <p:cNvSpPr/>
            <p:nvPr/>
          </p:nvSpPr>
          <p:spPr>
            <a:xfrm>
              <a:off x="2514600" y="1600200"/>
              <a:ext cx="320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studiamo le piantine…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15" descr="C:\Documents and Settings\crec\Documenti\animazioni\123.gif"/>
          <p:cNvPicPr/>
          <p:nvPr/>
        </p:nvPicPr>
        <p:blipFill>
          <a:blip r:embed="rId1"/>
          <a:stretch/>
        </p:blipFill>
        <p:spPr>
          <a:xfrm>
            <a:off x="3733920" y="10666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6"/>
          <p:cNvSpPr/>
          <p:nvPr/>
        </p:nvSpPr>
        <p:spPr>
          <a:xfrm>
            <a:off x="1848960" y="380880"/>
            <a:ext cx="45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Berlin Sans FB"/>
              </a:rPr>
              <a:t>a scuola in sicurez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24"/>
          <p:cNvGrpSpPr/>
          <p:nvPr/>
        </p:nvGrpSpPr>
        <p:grpSpPr>
          <a:xfrm>
            <a:off x="685800" y="2209680"/>
            <a:ext cx="7848720" cy="2667240"/>
            <a:chOff x="685800" y="2209680"/>
            <a:chExt cx="7848720" cy="2667240"/>
          </a:xfrm>
        </p:grpSpPr>
        <p:sp>
          <p:nvSpPr>
            <p:cNvPr id="407" name="AutoShape 19"/>
            <p:cNvSpPr/>
            <p:nvPr/>
          </p:nvSpPr>
          <p:spPr>
            <a:xfrm>
              <a:off x="685800" y="3419640"/>
              <a:ext cx="7772400" cy="1457280"/>
            </a:xfrm>
            <a:prstGeom prst="wedgeEllipseCallout">
              <a:avLst>
                <a:gd name="adj1" fmla="val -44115"/>
                <a:gd name="adj2" fmla="val -2199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20"/>
            <p:cNvSpPr/>
            <p:nvPr/>
          </p:nvSpPr>
          <p:spPr>
            <a:xfrm>
              <a:off x="2971800" y="2209680"/>
              <a:ext cx="685800" cy="1295640"/>
            </a:xfrm>
            <a:prstGeom prst="triangle">
              <a:avLst>
                <a:gd name="adj" fmla="val 100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23"/>
            <p:cNvSpPr/>
            <p:nvPr/>
          </p:nvSpPr>
          <p:spPr>
            <a:xfrm>
              <a:off x="1676520" y="3809880"/>
              <a:ext cx="685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La sicurezza di chi lavora nella scuola, studenti e personale scolastico, è fondamental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0"/>
          <p:cNvGrpSpPr/>
          <p:nvPr/>
        </p:nvGrpSpPr>
        <p:grpSpPr>
          <a:xfrm>
            <a:off x="685800" y="2209680"/>
            <a:ext cx="7772400" cy="2676600"/>
            <a:chOff x="685800" y="2209680"/>
            <a:chExt cx="7772400" cy="2676600"/>
          </a:xfrm>
        </p:grpSpPr>
        <p:sp>
          <p:nvSpPr>
            <p:cNvPr id="411" name="AutoShape 27"/>
            <p:cNvSpPr/>
            <p:nvPr/>
          </p:nvSpPr>
          <p:spPr>
            <a:xfrm>
              <a:off x="5029200" y="2209680"/>
              <a:ext cx="685800" cy="1295640"/>
            </a:xfrm>
            <a:prstGeom prst="triangle">
              <a:avLst>
                <a:gd name="adj" fmla="val 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Group 29"/>
            <p:cNvGrpSpPr/>
            <p:nvPr/>
          </p:nvGrpSpPr>
          <p:grpSpPr>
            <a:xfrm>
              <a:off x="685800" y="3429000"/>
              <a:ext cx="7772400" cy="1457280"/>
              <a:chOff x="685800" y="3429000"/>
              <a:chExt cx="7772400" cy="1457280"/>
            </a:xfrm>
          </p:grpSpPr>
          <p:sp>
            <p:nvSpPr>
              <p:cNvPr id="413" name="AutoShape 26"/>
              <p:cNvSpPr/>
              <p:nvPr/>
            </p:nvSpPr>
            <p:spPr>
              <a:xfrm>
                <a:off x="685800" y="3429000"/>
                <a:ext cx="7772400" cy="1457280"/>
              </a:xfrm>
              <a:prstGeom prst="wedgeEllipseCallout">
                <a:avLst>
                  <a:gd name="adj1" fmla="val -44115"/>
                  <a:gd name="adj2" fmla="val -2199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28"/>
              <p:cNvSpPr/>
              <p:nvPr/>
            </p:nvSpPr>
            <p:spPr>
              <a:xfrm>
                <a:off x="1219320" y="3798720"/>
                <a:ext cx="6858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Per questo è necessario, oltre al rispetto delle norme, un comportamento maturo e consapevole da parte di tutti. Grazi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3"/>
          <p:cNvSpPr/>
          <p:nvPr/>
        </p:nvSpPr>
        <p:spPr>
          <a:xfrm>
            <a:off x="1755000" y="380880"/>
            <a:ext cx="56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Berlin Sans FB"/>
              </a:rPr>
              <a:t>sperimentare in sicurez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3" descr="C:\Documents and Settings\crec\Documenti\animazioni\BD13738_.GIF"/>
          <p:cNvPicPr/>
          <p:nvPr/>
        </p:nvPicPr>
        <p:blipFill>
          <a:blip r:embed="rId1"/>
          <a:stretch/>
        </p:blipFill>
        <p:spPr>
          <a:xfrm>
            <a:off x="2133720" y="2819520"/>
            <a:ext cx="4572000" cy="25826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14"/>
          <p:cNvSpPr/>
          <p:nvPr/>
        </p:nvSpPr>
        <p:spPr>
          <a:xfrm>
            <a:off x="1600200" y="19810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IAO E BUON LAVORO A TU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3352680" y="4724280"/>
            <a:ext cx="22100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3"/>
          <p:cNvGrpSpPr/>
          <p:nvPr/>
        </p:nvGrpSpPr>
        <p:grpSpPr>
          <a:xfrm>
            <a:off x="1905120" y="914400"/>
            <a:ext cx="6552720" cy="928800"/>
            <a:chOff x="1905120" y="914400"/>
            <a:chExt cx="6552720" cy="928800"/>
          </a:xfrm>
        </p:grpSpPr>
        <p:sp>
          <p:nvSpPr>
            <p:cNvPr id="72" name="AutoShape 4"/>
            <p:cNvSpPr/>
            <p:nvPr/>
          </p:nvSpPr>
          <p:spPr>
            <a:xfrm>
              <a:off x="1905120" y="914400"/>
              <a:ext cx="6400440" cy="928800"/>
            </a:xfrm>
            <a:prstGeom prst="wedgeRoundRectCallout">
              <a:avLst>
                <a:gd name="adj1" fmla="val -43518"/>
                <a:gd name="adj2" fmla="val 97694"/>
                <a:gd name="adj3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5"/>
            <p:cNvSpPr/>
            <p:nvPr/>
          </p:nvSpPr>
          <p:spPr>
            <a:xfrm>
              <a:off x="2666880" y="1152720"/>
              <a:ext cx="5790960" cy="474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Ma cosa vuole dire </a:t>
              </a:r>
              <a:r>
                <a:rPr b="1" i="1" lang="en-US" sz="2000" spc="-1" strike="noStrike">
                  <a:solidFill>
                    <a:srgbClr val="008000"/>
                  </a:solidFill>
                  <a:latin typeface="Arial"/>
                </a:rPr>
                <a:t>lavorare in sicurezza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676520" y="2743200"/>
            <a:ext cx="7238880" cy="1371600"/>
            <a:chOff x="1676520" y="2743200"/>
            <a:chExt cx="7238880" cy="1371600"/>
          </a:xfrm>
        </p:grpSpPr>
        <p:sp>
          <p:nvSpPr>
            <p:cNvPr id="75" name="AutoShape 7"/>
            <p:cNvSpPr/>
            <p:nvPr/>
          </p:nvSpPr>
          <p:spPr>
            <a:xfrm flipV="1">
              <a:off x="1676520" y="2742840"/>
              <a:ext cx="7238880" cy="1371600"/>
            </a:xfrm>
            <a:prstGeom prst="wedgeRoundRectCallout">
              <a:avLst>
                <a:gd name="adj1" fmla="val -38226"/>
                <a:gd name="adj2" fmla="val 57175"/>
                <a:gd name="adj3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8"/>
            <p:cNvSpPr/>
            <p:nvPr/>
          </p:nvSpPr>
          <p:spPr>
            <a:xfrm>
              <a:off x="1933560" y="2819520"/>
              <a:ext cx="6705720" cy="1234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La scuola provvede a rendere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sicure le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strutture dei laboratori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e si assicura che le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attrezzature, le apparecchiature, gli impianti, siano </a:t>
              </a:r>
              <a:r>
                <a:rPr b="1" lang="en-US" sz="2000" spc="-1" strike="noStrike" u="sng">
                  <a:solidFill>
                    <a:srgbClr val="3333cc"/>
                  </a:solidFill>
                  <a:uFillTx/>
                  <a:latin typeface="Arial"/>
                </a:rPr>
                <a:t>a norma</a:t>
              </a:r>
              <a:r>
                <a:rPr b="0" lang="en-US" sz="2000" spc="-1" strike="noStrike" u="sng">
                  <a:solidFill>
                    <a:srgbClr val="3333cc"/>
                  </a:solidFill>
                  <a:uFillTx/>
                  <a:latin typeface="Arial"/>
                </a:rPr>
                <a:t>.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9"/>
          <p:cNvGrpSpPr/>
          <p:nvPr/>
        </p:nvGrpSpPr>
        <p:grpSpPr>
          <a:xfrm>
            <a:off x="1685880" y="2743200"/>
            <a:ext cx="6705360" cy="1371600"/>
            <a:chOff x="1685880" y="2743200"/>
            <a:chExt cx="6705360" cy="1371600"/>
          </a:xfrm>
        </p:grpSpPr>
        <p:sp>
          <p:nvSpPr>
            <p:cNvPr id="78" name="AutoShape 10"/>
            <p:cNvSpPr/>
            <p:nvPr/>
          </p:nvSpPr>
          <p:spPr>
            <a:xfrm flipV="1">
              <a:off x="1685880" y="2742840"/>
              <a:ext cx="6705360" cy="1371600"/>
            </a:xfrm>
            <a:prstGeom prst="wedgeRoundRectCallout">
              <a:avLst>
                <a:gd name="adj1" fmla="val -43777"/>
                <a:gd name="adj2" fmla="val 57175"/>
                <a:gd name="adj3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1"/>
            <p:cNvSpPr/>
            <p:nvPr/>
          </p:nvSpPr>
          <p:spPr>
            <a:xfrm>
              <a:off x="2005200" y="3200400"/>
              <a:ext cx="614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Ma questo non è ancora sufficiente…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0" name="Object 14"/>
          <p:cNvGraphicFramePr/>
          <p:nvPr/>
        </p:nvGraphicFramePr>
        <p:xfrm>
          <a:off x="685800" y="1295280"/>
          <a:ext cx="14382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95280"/>
                    <a:ext cx="14382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" name="Group 18"/>
          <p:cNvGrpSpPr/>
          <p:nvPr/>
        </p:nvGrpSpPr>
        <p:grpSpPr>
          <a:xfrm>
            <a:off x="1924200" y="900000"/>
            <a:ext cx="6846840" cy="990720"/>
            <a:chOff x="1924200" y="900000"/>
            <a:chExt cx="6846840" cy="990720"/>
          </a:xfrm>
        </p:grpSpPr>
        <p:sp>
          <p:nvSpPr>
            <p:cNvPr id="83" name="AutoShape 16"/>
            <p:cNvSpPr/>
            <p:nvPr/>
          </p:nvSpPr>
          <p:spPr>
            <a:xfrm>
              <a:off x="1924200" y="900000"/>
              <a:ext cx="6846840" cy="990720"/>
            </a:xfrm>
            <a:prstGeom prst="wedgeRoundRectCallout">
              <a:avLst>
                <a:gd name="adj1" fmla="val -43740"/>
                <a:gd name="adj2" fmla="val 88462"/>
                <a:gd name="adj3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7"/>
            <p:cNvSpPr/>
            <p:nvPr/>
          </p:nvSpPr>
          <p:spPr>
            <a:xfrm>
              <a:off x="2305080" y="981000"/>
              <a:ext cx="6248520" cy="855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Innanzitutto significa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non correre rischi personali e non farli correre ad altr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34"/>
          <p:cNvGrpSpPr/>
          <p:nvPr/>
        </p:nvGrpSpPr>
        <p:grpSpPr>
          <a:xfrm>
            <a:off x="1752120" y="1981080"/>
            <a:ext cx="6933960" cy="1219320"/>
            <a:chOff x="1752120" y="1981080"/>
            <a:chExt cx="6933960" cy="1219320"/>
          </a:xfrm>
        </p:grpSpPr>
        <p:sp>
          <p:nvSpPr>
            <p:cNvPr id="86" name="AutoShape 17"/>
            <p:cNvSpPr/>
            <p:nvPr/>
          </p:nvSpPr>
          <p:spPr>
            <a:xfrm flipH="1">
              <a:off x="1751760" y="1981080"/>
              <a:ext cx="6933960" cy="1219320"/>
            </a:xfrm>
            <a:prstGeom prst="wedgeRoundRectCallout">
              <a:avLst>
                <a:gd name="adj1" fmla="val -44370"/>
                <a:gd name="adj2" fmla="val 47263"/>
                <a:gd name="adj3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8"/>
            <p:cNvSpPr/>
            <p:nvPr/>
          </p:nvSpPr>
          <p:spPr>
            <a:xfrm>
              <a:off x="2133360" y="2133360"/>
              <a:ext cx="6172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.è necessario cominciare ad affrontare insieme almeno </a:t>
              </a: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tre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aspetti del problema e lo faremo i modo assolutamente semplice…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39"/>
          <p:cNvGrpSpPr/>
          <p:nvPr/>
        </p:nvGrpSpPr>
        <p:grpSpPr>
          <a:xfrm>
            <a:off x="1752120" y="3048120"/>
            <a:ext cx="7139520" cy="1371600"/>
            <a:chOff x="1752120" y="3048120"/>
            <a:chExt cx="7139520" cy="1371600"/>
          </a:xfrm>
        </p:grpSpPr>
        <p:sp>
          <p:nvSpPr>
            <p:cNvPr id="89" name="AutoShape 19"/>
            <p:cNvSpPr/>
            <p:nvPr/>
          </p:nvSpPr>
          <p:spPr>
            <a:xfrm flipH="1" flipV="1">
              <a:off x="1751760" y="3048120"/>
              <a:ext cx="6629400" cy="1371600"/>
            </a:xfrm>
            <a:prstGeom prst="wedgeRoundRectCallout">
              <a:avLst>
                <a:gd name="adj1" fmla="val -42888"/>
                <a:gd name="adj2" fmla="val 39351"/>
                <a:gd name="adj3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1"/>
            <p:cNvSpPr/>
            <p:nvPr/>
          </p:nvSpPr>
          <p:spPr>
            <a:xfrm>
              <a:off x="1881000" y="3272040"/>
              <a:ext cx="701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Il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primo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 aspetto riguarda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rischi presenti in laborator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35"/>
          <p:cNvGrpSpPr/>
          <p:nvPr/>
        </p:nvGrpSpPr>
        <p:grpSpPr>
          <a:xfrm>
            <a:off x="1752480" y="1981080"/>
            <a:ext cx="7086240" cy="1219320"/>
            <a:chOff x="1752480" y="1981080"/>
            <a:chExt cx="7086240" cy="1219320"/>
          </a:xfrm>
        </p:grpSpPr>
        <p:sp>
          <p:nvSpPr>
            <p:cNvPr id="92" name="AutoShape 36"/>
            <p:cNvSpPr/>
            <p:nvPr/>
          </p:nvSpPr>
          <p:spPr>
            <a:xfrm flipH="1">
              <a:off x="1752480" y="1981080"/>
              <a:ext cx="7086240" cy="1219320"/>
            </a:xfrm>
            <a:prstGeom prst="wedgeRoundRectCallout">
              <a:avLst>
                <a:gd name="adj1" fmla="val -44370"/>
                <a:gd name="adj2" fmla="val 47263"/>
                <a:gd name="adj3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37"/>
            <p:cNvSpPr/>
            <p:nvPr/>
          </p:nvSpPr>
          <p:spPr>
            <a:xfrm>
              <a:off x="2141640" y="2133360"/>
              <a:ext cx="630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er dare una risposta soddisfacente alla domanda </a:t>
              </a:r>
              <a:r>
                <a:rPr b="1" i="1" lang="en-US" sz="2000" spc="-1" strike="noStrike">
                  <a:solidFill>
                    <a:srgbClr val="00cc00"/>
                  </a:solidFill>
                  <a:latin typeface="Arial"/>
                </a:rPr>
                <a:t>“cosa vuol dire lavorare in sicurezza?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4" name="Object 38"/>
          <p:cNvGraphicFramePr/>
          <p:nvPr/>
        </p:nvGraphicFramePr>
        <p:xfrm>
          <a:off x="604800" y="1285920"/>
          <a:ext cx="1459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1285920"/>
                    <a:ext cx="1459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37"/>
          <p:cNvSpPr/>
          <p:nvPr/>
        </p:nvSpPr>
        <p:spPr>
          <a:xfrm>
            <a:off x="1752480" y="914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pparecchiature elettr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39"/>
          <p:cNvSpPr/>
          <p:nvPr/>
        </p:nvSpPr>
        <p:spPr>
          <a:xfrm>
            <a:off x="762120" y="2133720"/>
            <a:ext cx="72388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uso non corretto delle apparecchiature può portare al rischio di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ssaggio di corren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averso il corpo (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olgorazi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40"/>
          <p:cNvSpPr/>
          <p:nvPr/>
        </p:nvSpPr>
        <p:spPr>
          <a:xfrm>
            <a:off x="866880" y="4857840"/>
            <a:ext cx="72388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ovre errate sugli alimentatori (corto circuito) possono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durre incend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42"/>
          <p:cNvGrpSpPr/>
          <p:nvPr/>
        </p:nvGrpSpPr>
        <p:grpSpPr>
          <a:xfrm>
            <a:off x="380880" y="228600"/>
            <a:ext cx="4114800" cy="1371600"/>
            <a:chOff x="380880" y="228600"/>
            <a:chExt cx="4114800" cy="1371600"/>
          </a:xfrm>
        </p:grpSpPr>
        <p:graphicFrame>
          <p:nvGraphicFramePr>
            <p:cNvPr id="100" name="Object 236"/>
            <p:cNvGraphicFramePr/>
            <p:nvPr/>
          </p:nvGraphicFramePr>
          <p:xfrm>
            <a:off x="380880" y="228600"/>
            <a:ext cx="990720" cy="1371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Object 23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228600"/>
                      <a:ext cx="990720" cy="13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02" name="Text Box 241"/>
            <p:cNvSpPr/>
            <p:nvPr/>
          </p:nvSpPr>
          <p:spPr>
            <a:xfrm>
              <a:off x="1219320" y="380880"/>
              <a:ext cx="327636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 rischi presenti nel laboratorio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Picture 244" descr="E:\PFiles\MSOffice\Clipart\standard\stddir4\PE01850_.wmf"/>
          <p:cNvPicPr/>
          <p:nvPr/>
        </p:nvPicPr>
        <p:blipFill>
          <a:blip r:embed="rId3"/>
          <a:stretch/>
        </p:blipFill>
        <p:spPr>
          <a:xfrm>
            <a:off x="6477120" y="2286000"/>
            <a:ext cx="1812960" cy="1963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49" descr="C:\Documents and Settings\crec\Documenti\Nuova cartella\J0076146.GIF"/>
          <p:cNvPicPr/>
          <p:nvPr/>
        </p:nvPicPr>
        <p:blipFill>
          <a:blip r:embed="rId4"/>
          <a:stretch/>
        </p:blipFill>
        <p:spPr>
          <a:xfrm>
            <a:off x="1752480" y="3767040"/>
            <a:ext cx="2389320" cy="1051200"/>
          </a:xfrm>
          <a:prstGeom prst="rect">
            <a:avLst/>
          </a:prstGeom>
          <a:ln w="0">
            <a:noFill/>
          </a:ln>
        </p:spPr>
      </p:pic>
      <p:sp>
        <p:nvSpPr>
          <p:cNvPr id="105" name="Line 250"/>
          <p:cNvSpPr/>
          <p:nvPr/>
        </p:nvSpPr>
        <p:spPr>
          <a:xfrm>
            <a:off x="1752480" y="1447920"/>
            <a:ext cx="5105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380880" y="228600"/>
          <a:ext cx="9907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9907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4"/>
          <p:cNvSpPr/>
          <p:nvPr/>
        </p:nvSpPr>
        <p:spPr>
          <a:xfrm>
            <a:off x="1143000" y="2133720"/>
            <a:ext cx="67816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apparecchiature laser utilizzate a scopo didattico sono strumenti di bassa potenza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837720"/>
            <a:ext cx="4114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pparecchiatura la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9"/>
          <p:cNvGrpSpPr/>
          <p:nvPr/>
        </p:nvGrpSpPr>
        <p:grpSpPr>
          <a:xfrm>
            <a:off x="380880" y="228600"/>
            <a:ext cx="4114800" cy="1371600"/>
            <a:chOff x="380880" y="228600"/>
            <a:chExt cx="4114800" cy="1371600"/>
          </a:xfrm>
        </p:grpSpPr>
        <p:graphicFrame>
          <p:nvGraphicFramePr>
            <p:cNvPr id="111" name="Object 10"/>
            <p:cNvGraphicFramePr/>
            <p:nvPr/>
          </p:nvGraphicFramePr>
          <p:xfrm>
            <a:off x="380880" y="228600"/>
            <a:ext cx="990720" cy="1371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2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228600"/>
                      <a:ext cx="990720" cy="13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13" name="Text Box 11"/>
            <p:cNvSpPr/>
            <p:nvPr/>
          </p:nvSpPr>
          <p:spPr>
            <a:xfrm>
              <a:off x="1219320" y="380880"/>
              <a:ext cx="327636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 rischi presenti nel laboratorio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12"/>
          <p:cNvSpPr/>
          <p:nvPr/>
        </p:nvSpPr>
        <p:spPr>
          <a:xfrm>
            <a:off x="1066680" y="4800600"/>
            <a:ext cx="6782040" cy="11674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..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ossono risultare pericolose se il fascio di luce entra nell’occhio…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13"/>
          <p:cNvGraphicFramePr/>
          <p:nvPr/>
        </p:nvGraphicFramePr>
        <p:xfrm>
          <a:off x="6629400" y="2743200"/>
          <a:ext cx="95256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29400" y="2743200"/>
                    <a:ext cx="95256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4"/>
          <p:cNvGraphicFramePr/>
          <p:nvPr/>
        </p:nvGraphicFramePr>
        <p:xfrm>
          <a:off x="3691080" y="3600360"/>
          <a:ext cx="1038240" cy="166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91080" y="3600360"/>
                    <a:ext cx="103824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Line 17"/>
          <p:cNvSpPr/>
          <p:nvPr/>
        </p:nvSpPr>
        <p:spPr>
          <a:xfrm flipH="1">
            <a:off x="4114800" y="3200400"/>
            <a:ext cx="281952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 flipH="1">
            <a:off x="4147920" y="3186000"/>
            <a:ext cx="2819160" cy="129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 flipH="1">
            <a:off x="4091040" y="3219480"/>
            <a:ext cx="281952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1752480" y="1447920"/>
            <a:ext cx="510552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609480" y="2133720"/>
            <a:ext cx="678204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cuni strumenti come l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iastre riscaldan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l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mpade spettra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raggiungon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mperature elev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0" y="7621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lte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6"/>
          <p:cNvGrpSpPr/>
          <p:nvPr/>
        </p:nvGrpSpPr>
        <p:grpSpPr>
          <a:xfrm>
            <a:off x="380880" y="228600"/>
            <a:ext cx="4114800" cy="1371600"/>
            <a:chOff x="380880" y="228600"/>
            <a:chExt cx="4114800" cy="1371600"/>
          </a:xfrm>
        </p:grpSpPr>
        <p:graphicFrame>
          <p:nvGraphicFramePr>
            <p:cNvPr id="126" name="Object 7"/>
            <p:cNvGraphicFramePr/>
            <p:nvPr/>
          </p:nvGraphicFramePr>
          <p:xfrm>
            <a:off x="380880" y="228600"/>
            <a:ext cx="990720" cy="1371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7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228600"/>
                      <a:ext cx="990720" cy="1371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189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28" name="Text Box 8"/>
            <p:cNvSpPr/>
            <p:nvPr/>
          </p:nvSpPr>
          <p:spPr>
            <a:xfrm>
              <a:off x="1219320" y="380880"/>
              <a:ext cx="327636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 rischi presenti nel laboratorio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9"/>
          <p:cNvSpPr/>
          <p:nvPr/>
        </p:nvSpPr>
        <p:spPr>
          <a:xfrm>
            <a:off x="590400" y="3429000"/>
            <a:ext cx="67820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rtano quindi rischi di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sti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10"/>
          <p:cNvGraphicFramePr/>
          <p:nvPr/>
        </p:nvGraphicFramePr>
        <p:xfrm>
          <a:off x="3657600" y="3962520"/>
          <a:ext cx="1173240" cy="14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3962520"/>
                    <a:ext cx="117324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Picture 11" descr="C:\Documents and Settings\crec\Documenti\Nuova cartella\AG00355_.GIF"/>
          <p:cNvPicPr/>
          <p:nvPr/>
        </p:nvPicPr>
        <p:blipFill>
          <a:blip r:embed="rId5"/>
          <a:stretch/>
        </p:blipFill>
        <p:spPr>
          <a:xfrm>
            <a:off x="4038480" y="3581280"/>
            <a:ext cx="1038240" cy="2057400"/>
          </a:xfrm>
          <a:prstGeom prst="rect">
            <a:avLst/>
          </a:prstGeom>
          <a:ln w="0">
            <a:noFill/>
          </a:ln>
        </p:spPr>
      </p:pic>
      <p:sp>
        <p:nvSpPr>
          <p:cNvPr id="133" name="Line 12"/>
          <p:cNvSpPr/>
          <p:nvPr/>
        </p:nvSpPr>
        <p:spPr>
          <a:xfrm>
            <a:off x="1752480" y="1447920"/>
            <a:ext cx="5105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e3af"/>
            </a:gs>
            <a:gs pos="100000">
              <a:srgbClr val="3b69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2"/>
          <p:cNvGraphicFramePr/>
          <p:nvPr/>
        </p:nvGraphicFramePr>
        <p:xfrm>
          <a:off x="380880" y="228600"/>
          <a:ext cx="9907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9907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3"/>
          <p:cNvSpPr/>
          <p:nvPr/>
        </p:nvSpPr>
        <p:spPr>
          <a:xfrm>
            <a:off x="762120" y="1752480"/>
            <a:ext cx="716256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cun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ostanze chimi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ate per sperimenti di fisica, presentano rischi per la persona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762120" y="5013360"/>
            <a:ext cx="723888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he il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iomb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imbolo: Pb) utilizzato in alcuni esperimenti può risultare nocivo sia per contatto che per inalazione delle polve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09680" y="68580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ostanze chim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6"/>
          <p:cNvGrpSpPr/>
          <p:nvPr/>
        </p:nvGrpSpPr>
        <p:grpSpPr>
          <a:xfrm>
            <a:off x="380880" y="228600"/>
            <a:ext cx="4114800" cy="1371600"/>
            <a:chOff x="380880" y="228600"/>
            <a:chExt cx="4114800" cy="1371600"/>
          </a:xfrm>
        </p:grpSpPr>
        <p:graphicFrame>
          <p:nvGraphicFramePr>
            <p:cNvPr id="140" name="Object 7"/>
            <p:cNvGraphicFramePr/>
            <p:nvPr/>
          </p:nvGraphicFramePr>
          <p:xfrm>
            <a:off x="380880" y="228600"/>
            <a:ext cx="990720" cy="1371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228600"/>
                      <a:ext cx="99072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Text Box 8"/>
            <p:cNvSpPr/>
            <p:nvPr/>
          </p:nvSpPr>
          <p:spPr>
            <a:xfrm>
              <a:off x="1219320" y="380880"/>
              <a:ext cx="327636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 rischi presenti nel laboratorio</a:t>
              </a: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3" name="Object 9"/>
          <p:cNvGraphicFramePr/>
          <p:nvPr/>
        </p:nvGraphicFramePr>
        <p:xfrm>
          <a:off x="7391520" y="1905120"/>
          <a:ext cx="695160" cy="136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1905120"/>
                    <a:ext cx="69516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10"/>
          <p:cNvSpPr/>
          <p:nvPr/>
        </p:nvSpPr>
        <p:spPr>
          <a:xfrm>
            <a:off x="762120" y="3252960"/>
            <a:ext cx="7238880" cy="10087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 esempio il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rcuri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mbolo: Hg)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uto in alcuni apparecchi ( termometri, barometri) è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ssico sia per contatto che per inal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1752480" y="1447920"/>
            <a:ext cx="510552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2T13:56:34Z</dcterms:created>
  <dc:creator>MARILENA VOLPATI EFEDERICO BARBAROSSA</dc:creator>
  <dc:description/>
  <dc:language>en-US</dc:language>
  <cp:lastModifiedBy>fede</cp:lastModifiedBy>
  <dcterms:modified xsi:type="dcterms:W3CDTF">2018-06-07T16:48:40Z</dcterms:modified>
  <cp:revision>176</cp:revision>
  <dc:subject/>
  <dc:title>Moti rettilinei uniformi lezione</dc:title>
</cp:coreProperties>
</file>