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D0C-1A89-44BD-9862-536F9EDB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64D-C0CE-4B16-97FD-61A93881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32F-3449-4AAD-BDE4-C0B85E7C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5C-166C-4CF8-9DF8-EC16AE7E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512-6B80-44E1-99E1-54E9A1F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260-6E81-4FE5-B107-AD96FCC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18B-E510-4771-9D8C-47DB9AB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4F8-020B-4E2A-A1E2-1523DE4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229-20CC-4BD9-A9EE-2BC2BCD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CFC-8D49-4151-91F6-FCDBBE2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720-B2C3-42B6-BC19-AB36A30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A80-F2B4-430E-80F0-41CC79E6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A62-2090-41A1-ABD7-733791B3975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66ff"/>
                </a:solidFill>
                <a:latin typeface="comic"/>
              </a:rPr>
              <a:t>Correnti indot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Opportuno schermo completo</a:t>
            </a:r>
            <a:br>
              <a:rPr sz="3200"/>
            </a:b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cliccare se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258" name="Rectangle 3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6300720" y="2852640"/>
            <a:ext cx="1657080" cy="287280"/>
            <a:chOff x="6300720" y="2852640"/>
            <a:chExt cx="1657080" cy="287280"/>
          </a:xfrm>
        </p:grpSpPr>
        <p:sp>
          <p:nvSpPr>
            <p:cNvPr id="261" name="Rectangle 12"/>
            <p:cNvSpPr/>
            <p:nvPr/>
          </p:nvSpPr>
          <p:spPr>
            <a:xfrm>
              <a:off x="6300720" y="285264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6300720" y="285264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4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264" name="Rectangle 15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6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266" name="Line 17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8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Rectangle 24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197964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4"/>
          <p:cNvSpPr/>
          <p:nvPr/>
        </p:nvSpPr>
        <p:spPr>
          <a:xfrm>
            <a:off x="5543640" y="2421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elettro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291636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0"/>
          <p:cNvSpPr/>
          <p:nvPr/>
        </p:nvSpPr>
        <p:spPr>
          <a:xfrm>
            <a:off x="1835280" y="692280"/>
            <a:ext cx="72072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1"/>
          <p:cNvSpPr/>
          <p:nvPr/>
        </p:nvSpPr>
        <p:spPr>
          <a:xfrm>
            <a:off x="1763640" y="6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3"/>
          <p:cNvGrpSpPr/>
          <p:nvPr/>
        </p:nvGrpSpPr>
        <p:grpSpPr>
          <a:xfrm>
            <a:off x="6084720" y="333360"/>
            <a:ext cx="2243160" cy="1762200"/>
            <a:chOff x="6084720" y="333360"/>
            <a:chExt cx="2243160" cy="1762200"/>
          </a:xfrm>
        </p:grpSpPr>
        <p:sp>
          <p:nvSpPr>
            <p:cNvPr id="281" name="Rectangle 42"/>
            <p:cNvSpPr/>
            <p:nvPr/>
          </p:nvSpPr>
          <p:spPr>
            <a:xfrm>
              <a:off x="6095880" y="333360"/>
              <a:ext cx="2232000" cy="100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3"/>
            <p:cNvSpPr/>
            <p:nvPr/>
          </p:nvSpPr>
          <p:spPr>
            <a:xfrm>
              <a:off x="6084720" y="655560"/>
              <a:ext cx="223200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47"/>
            <p:cNvGrpSpPr/>
            <p:nvPr/>
          </p:nvGrpSpPr>
          <p:grpSpPr>
            <a:xfrm>
              <a:off x="6300360" y="1592280"/>
              <a:ext cx="1944720" cy="503280"/>
              <a:chOff x="6300360" y="1592280"/>
              <a:chExt cx="1944720" cy="503280"/>
            </a:xfrm>
          </p:grpSpPr>
          <p:sp>
            <p:nvSpPr>
              <p:cNvPr id="284" name="Rectangle 45"/>
              <p:cNvSpPr/>
              <p:nvPr/>
            </p:nvSpPr>
            <p:spPr>
              <a:xfrm>
                <a:off x="6300360" y="1592280"/>
                <a:ext cx="1944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46"/>
              <p:cNvSpPr/>
              <p:nvPr/>
            </p:nvSpPr>
            <p:spPr>
              <a:xfrm>
                <a:off x="6660720" y="1736640"/>
                <a:ext cx="1440000" cy="142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batte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51"/>
            <p:cNvSpPr/>
            <p:nvPr/>
          </p:nvSpPr>
          <p:spPr>
            <a:xfrm>
              <a:off x="6372000" y="1305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2"/>
            <p:cNvSpPr/>
            <p:nvPr/>
          </p:nvSpPr>
          <p:spPr>
            <a:xfrm>
              <a:off x="8100720" y="1376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54"/>
          <p:cNvSpPr/>
          <p:nvPr/>
        </p:nvSpPr>
        <p:spPr>
          <a:xfrm>
            <a:off x="468360" y="342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ostituendo un elettromagnete a un magnete si ottendono effet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mili ai precedenti; così come si possono ottenere tenendo ferm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l magnete o elettromagnete e spostando invece la bobina collegat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l t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5"/>
          <p:cNvSpPr/>
          <p:nvPr/>
        </p:nvSpPr>
        <p:spPr>
          <a:xfrm>
            <a:off x="501480" y="465300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l moto relativo di un magnete rispetto a una bobina produce nella bobin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una corrente elettrica che varia per valore e senso in funzione della forz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ca, della velocità e senso dello spostamento,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 presenza di nucleo di ferro dolce o assenz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terpretazione ??? Vedi più avant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111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13386 2.59259E-006 E">
                                      <p:cBhvr>
                                        <p:cTn id="11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8" descr="seno"/>
          <p:cNvPicPr/>
          <p:nvPr/>
        </p:nvPicPr>
        <p:blipFill>
          <a:blip r:embed="rId1"/>
          <a:stretch/>
        </p:blipFill>
        <p:spPr>
          <a:xfrm>
            <a:off x="2916360" y="4508640"/>
            <a:ext cx="5688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2"/>
          <p:cNvGrpSpPr/>
          <p:nvPr/>
        </p:nvGrpSpPr>
        <p:grpSpPr>
          <a:xfrm>
            <a:off x="1763640" y="2852640"/>
            <a:ext cx="1584360" cy="1368360"/>
            <a:chOff x="1763640" y="2852640"/>
            <a:chExt cx="1584360" cy="1368360"/>
          </a:xfrm>
        </p:grpSpPr>
        <p:sp>
          <p:nvSpPr>
            <p:cNvPr id="292" name="Rectangle 3"/>
            <p:cNvSpPr/>
            <p:nvPr/>
          </p:nvSpPr>
          <p:spPr>
            <a:xfrm>
              <a:off x="1763640" y="2852640"/>
              <a:ext cx="158436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1763640" y="3789000"/>
              <a:ext cx="1584360" cy="43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5"/>
          <p:cNvGrpSpPr/>
          <p:nvPr/>
        </p:nvGrpSpPr>
        <p:grpSpPr>
          <a:xfrm>
            <a:off x="6013440" y="8469360"/>
            <a:ext cx="1657080" cy="287280"/>
            <a:chOff x="6013440" y="8469360"/>
            <a:chExt cx="1657080" cy="287280"/>
          </a:xfrm>
        </p:grpSpPr>
        <p:sp>
          <p:nvSpPr>
            <p:cNvPr id="295" name="Rectangle 6"/>
            <p:cNvSpPr/>
            <p:nvPr/>
          </p:nvSpPr>
          <p:spPr>
            <a:xfrm>
              <a:off x="6013440" y="8469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6013440" y="8469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"/>
          <p:cNvGrpSpPr/>
          <p:nvPr/>
        </p:nvGrpSpPr>
        <p:grpSpPr>
          <a:xfrm>
            <a:off x="250920" y="2924280"/>
            <a:ext cx="502920" cy="1368360"/>
            <a:chOff x="250920" y="2924280"/>
            <a:chExt cx="502920" cy="1368360"/>
          </a:xfrm>
        </p:grpSpPr>
        <p:sp>
          <p:nvSpPr>
            <p:cNvPr id="298" name="Rectangle 9"/>
            <p:cNvSpPr/>
            <p:nvPr/>
          </p:nvSpPr>
          <p:spPr>
            <a:xfrm>
              <a:off x="250920" y="292428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0"/>
            <p:cNvGrpSpPr/>
            <p:nvPr/>
          </p:nvGrpSpPr>
          <p:grpSpPr>
            <a:xfrm>
              <a:off x="538200" y="2995200"/>
              <a:ext cx="0" cy="1224360"/>
              <a:chOff x="538200" y="2995200"/>
              <a:chExt cx="0" cy="1224360"/>
            </a:xfrm>
          </p:grpSpPr>
          <p:sp>
            <p:nvSpPr>
              <p:cNvPr id="300" name="Line 11"/>
              <p:cNvSpPr/>
              <p:nvPr/>
            </p:nvSpPr>
            <p:spPr>
              <a:xfrm flipV="1">
                <a:off x="538200" y="299520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538200" y="364320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Rectangle 13"/>
          <p:cNvSpPr/>
          <p:nvPr/>
        </p:nvSpPr>
        <p:spPr>
          <a:xfrm>
            <a:off x="396720" y="4579920"/>
            <a:ext cx="28908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 flipH="1">
            <a:off x="75564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755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900000" y="3355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 po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0" y="5013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190800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1725840" y="8370720"/>
            <a:ext cx="1657080" cy="287640"/>
            <a:chOff x="1725840" y="8370720"/>
            <a:chExt cx="1657080" cy="287640"/>
          </a:xfrm>
        </p:grpSpPr>
        <p:sp>
          <p:nvSpPr>
            <p:cNvPr id="310" name="Rectangle 24"/>
            <p:cNvSpPr/>
            <p:nvPr/>
          </p:nvSpPr>
          <p:spPr>
            <a:xfrm flipH="1">
              <a:off x="1725480" y="837072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5"/>
            <p:cNvSpPr/>
            <p:nvPr/>
          </p:nvSpPr>
          <p:spPr>
            <a:xfrm flipH="1">
              <a:off x="2662200" y="837072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38"/>
          <p:cNvGrpSpPr/>
          <p:nvPr/>
        </p:nvGrpSpPr>
        <p:grpSpPr>
          <a:xfrm>
            <a:off x="3924360" y="2671920"/>
            <a:ext cx="1727280" cy="1512720"/>
            <a:chOff x="3924360" y="2671920"/>
            <a:chExt cx="1727280" cy="1512720"/>
          </a:xfrm>
        </p:grpSpPr>
        <p:sp>
          <p:nvSpPr>
            <p:cNvPr id="313" name="Oval 39"/>
            <p:cNvSpPr/>
            <p:nvPr/>
          </p:nvSpPr>
          <p:spPr>
            <a:xfrm>
              <a:off x="3924360" y="2671920"/>
              <a:ext cx="172728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40"/>
            <p:cNvGrpSpPr/>
            <p:nvPr/>
          </p:nvGrpSpPr>
          <p:grpSpPr>
            <a:xfrm>
              <a:off x="3924360" y="3319560"/>
              <a:ext cx="1657080" cy="287280"/>
              <a:chOff x="3924360" y="3319560"/>
              <a:chExt cx="1657080" cy="287280"/>
            </a:xfrm>
          </p:grpSpPr>
          <p:sp>
            <p:nvSpPr>
              <p:cNvPr id="315" name="Rectangle 41"/>
              <p:cNvSpPr/>
              <p:nvPr/>
            </p:nvSpPr>
            <p:spPr>
              <a:xfrm>
                <a:off x="3924360" y="3319560"/>
                <a:ext cx="16570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42"/>
              <p:cNvSpPr/>
              <p:nvPr/>
            </p:nvSpPr>
            <p:spPr>
              <a:xfrm>
                <a:off x="3924360" y="3319560"/>
                <a:ext cx="720720" cy="287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Text Box 44"/>
          <p:cNvSpPr/>
          <p:nvPr/>
        </p:nvSpPr>
        <p:spPr>
          <a:xfrm>
            <a:off x="539640" y="476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ando un magnete rotante invece di un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moto rettiline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ottiene una corrente indotta che alterna periodicament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nsità e verso in rapporto al polo del magnet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avvicinamento o allontanament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rrente alter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395280" y="587700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9"/>
          <p:cNvSpPr/>
          <p:nvPr/>
        </p:nvSpPr>
        <p:spPr>
          <a:xfrm>
            <a:off x="2843280" y="5516640"/>
            <a:ext cx="417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5231 L -0.00017 -0.25185 E">
                                      <p:cBhvr>
                                        <p:cTn id="119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1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0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396 -0.11852 C 0.32865 -0.14375 0.33524 -0.16782 0.34827 -0.16782 C 0.36302 -0.16782 0.36806 -0.14375 0.37292 -0.11852 C 0.37952 -0.09051 0.38438 -0.0625 0.4007 -0.0625 C 0.41545 -0.0625 0.42031 -0.09051 0.42691 -0.11852 C 0.43004 -0.14375 0.43646 -0.16782 0.45122 -0.16782 C 0.46424 -0.16782 0.47084 -0.14375 0.47587 -0.11852 C 0.48073 -0.09051 0.48733 -0.0625 0.50209 -0.0625 C 0.51684 -0.0625 0.52813 -0.11852 0.52813 -0.11829 C 0.53299 -0.14375 0.53802 -0.16782 0.55261 -0.16782 C 0.56719 -0.16782 0.5724 -0.14375 0.57726 -0.11852 C 0.58368 -0.09051 0.58854 -0.0625 0.60504 -0.0625 C 0.61979 -0.0625 0.62465 -0.09051 0.62934 -0.11852 C 0.63594 -0.14375 0.6408 -0.16782 0.65556 -0.16782 C 0.66858 -0.16782 0.675 -0.14375 0.68021 -0.11852 C 0.68507 -0.09051 0.69149 -0.0625 0.70625 -0.0625 C 0.72101 -0.0625 0.72587 -0.09051 0.73247 -0.11852 E">
                                      <p:cBhvr>
                                        <p:cTn id="123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40"/>
          <p:cNvGrpSpPr/>
          <p:nvPr/>
        </p:nvGrpSpPr>
        <p:grpSpPr>
          <a:xfrm>
            <a:off x="1763640" y="2852640"/>
            <a:ext cx="1584360" cy="1368360"/>
            <a:chOff x="1763640" y="2852640"/>
            <a:chExt cx="1584360" cy="1368360"/>
          </a:xfrm>
        </p:grpSpPr>
        <p:sp>
          <p:nvSpPr>
            <p:cNvPr id="321" name="Rectangle 41"/>
            <p:cNvSpPr/>
            <p:nvPr/>
          </p:nvSpPr>
          <p:spPr>
            <a:xfrm>
              <a:off x="1763640" y="2852640"/>
              <a:ext cx="158436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2"/>
            <p:cNvSpPr/>
            <p:nvPr/>
          </p:nvSpPr>
          <p:spPr>
            <a:xfrm>
              <a:off x="1763640" y="3789000"/>
              <a:ext cx="158436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3"/>
          <p:cNvGrpSpPr/>
          <p:nvPr/>
        </p:nvGrpSpPr>
        <p:grpSpPr>
          <a:xfrm>
            <a:off x="6013440" y="8469360"/>
            <a:ext cx="1657080" cy="287280"/>
            <a:chOff x="6013440" y="8469360"/>
            <a:chExt cx="1657080" cy="287280"/>
          </a:xfrm>
        </p:grpSpPr>
        <p:sp>
          <p:nvSpPr>
            <p:cNvPr id="324" name="Rectangle 44"/>
            <p:cNvSpPr/>
            <p:nvPr/>
          </p:nvSpPr>
          <p:spPr>
            <a:xfrm>
              <a:off x="6013440" y="8469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6013440" y="8469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6"/>
          <p:cNvGrpSpPr/>
          <p:nvPr/>
        </p:nvGrpSpPr>
        <p:grpSpPr>
          <a:xfrm>
            <a:off x="250920" y="2924280"/>
            <a:ext cx="502920" cy="1368360"/>
            <a:chOff x="250920" y="2924280"/>
            <a:chExt cx="502920" cy="1368360"/>
          </a:xfrm>
        </p:grpSpPr>
        <p:sp>
          <p:nvSpPr>
            <p:cNvPr id="327" name="Rectangle 47"/>
            <p:cNvSpPr/>
            <p:nvPr/>
          </p:nvSpPr>
          <p:spPr>
            <a:xfrm>
              <a:off x="250920" y="292428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8"/>
            <p:cNvGrpSpPr/>
            <p:nvPr/>
          </p:nvGrpSpPr>
          <p:grpSpPr>
            <a:xfrm>
              <a:off x="538200" y="2995200"/>
              <a:ext cx="0" cy="1224360"/>
              <a:chOff x="538200" y="2995200"/>
              <a:chExt cx="0" cy="1224360"/>
            </a:xfrm>
          </p:grpSpPr>
          <p:sp>
            <p:nvSpPr>
              <p:cNvPr id="329" name="Line 49"/>
              <p:cNvSpPr/>
              <p:nvPr/>
            </p:nvSpPr>
            <p:spPr>
              <a:xfrm flipV="1">
                <a:off x="538200" y="299520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50"/>
              <p:cNvSpPr/>
              <p:nvPr/>
            </p:nvSpPr>
            <p:spPr>
              <a:xfrm>
                <a:off x="538200" y="364320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Rectangle 51"/>
          <p:cNvSpPr/>
          <p:nvPr/>
        </p:nvSpPr>
        <p:spPr>
          <a:xfrm>
            <a:off x="396720" y="4579920"/>
            <a:ext cx="28908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2"/>
          <p:cNvSpPr/>
          <p:nvPr/>
        </p:nvSpPr>
        <p:spPr>
          <a:xfrm flipH="1">
            <a:off x="75564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3"/>
          <p:cNvSpPr/>
          <p:nvPr/>
        </p:nvSpPr>
        <p:spPr>
          <a:xfrm flipH="1">
            <a:off x="755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900000" y="3355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55640" y="2664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755640" y="414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7"/>
          <p:cNvSpPr/>
          <p:nvPr/>
        </p:nvSpPr>
        <p:spPr>
          <a:xfrm>
            <a:off x="190800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9"/>
          <p:cNvGrpSpPr/>
          <p:nvPr/>
        </p:nvGrpSpPr>
        <p:grpSpPr>
          <a:xfrm>
            <a:off x="6156000" y="2754360"/>
            <a:ext cx="1476360" cy="1368360"/>
            <a:chOff x="6156000" y="2754360"/>
            <a:chExt cx="1476360" cy="1368360"/>
          </a:xfrm>
        </p:grpSpPr>
        <p:sp>
          <p:nvSpPr>
            <p:cNvPr id="339" name="Rectangle 60"/>
            <p:cNvSpPr/>
            <p:nvPr/>
          </p:nvSpPr>
          <p:spPr>
            <a:xfrm flipH="1">
              <a:off x="6155640" y="2754360"/>
              <a:ext cx="147636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1"/>
            <p:cNvSpPr/>
            <p:nvPr/>
          </p:nvSpPr>
          <p:spPr>
            <a:xfrm flipH="1">
              <a:off x="6155640" y="3690720"/>
              <a:ext cx="147636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2"/>
          <p:cNvGrpSpPr/>
          <p:nvPr/>
        </p:nvGrpSpPr>
        <p:grpSpPr>
          <a:xfrm>
            <a:off x="1725840" y="8370720"/>
            <a:ext cx="1657080" cy="287640"/>
            <a:chOff x="1725840" y="8370720"/>
            <a:chExt cx="1657080" cy="287640"/>
          </a:xfrm>
        </p:grpSpPr>
        <p:sp>
          <p:nvSpPr>
            <p:cNvPr id="342" name="Rectangle 63"/>
            <p:cNvSpPr/>
            <p:nvPr/>
          </p:nvSpPr>
          <p:spPr>
            <a:xfrm flipH="1">
              <a:off x="1725480" y="837072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4"/>
            <p:cNvSpPr/>
            <p:nvPr/>
          </p:nvSpPr>
          <p:spPr>
            <a:xfrm flipH="1">
              <a:off x="2662200" y="837072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65"/>
          <p:cNvGrpSpPr/>
          <p:nvPr/>
        </p:nvGrpSpPr>
        <p:grpSpPr>
          <a:xfrm>
            <a:off x="8641080" y="2754360"/>
            <a:ext cx="502920" cy="1368360"/>
            <a:chOff x="8641080" y="2754360"/>
            <a:chExt cx="502920" cy="1368360"/>
          </a:xfrm>
        </p:grpSpPr>
        <p:sp>
          <p:nvSpPr>
            <p:cNvPr id="345" name="Rectangle 66"/>
            <p:cNvSpPr/>
            <p:nvPr/>
          </p:nvSpPr>
          <p:spPr>
            <a:xfrm flipH="1">
              <a:off x="8640720" y="2754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67"/>
            <p:cNvGrpSpPr/>
            <p:nvPr/>
          </p:nvGrpSpPr>
          <p:grpSpPr>
            <a:xfrm>
              <a:off x="8856720" y="2825280"/>
              <a:ext cx="0" cy="1224360"/>
              <a:chOff x="8856720" y="2825280"/>
              <a:chExt cx="0" cy="1224360"/>
            </a:xfrm>
          </p:grpSpPr>
          <p:sp>
            <p:nvSpPr>
              <p:cNvPr id="347" name="Line 68"/>
              <p:cNvSpPr/>
              <p:nvPr/>
            </p:nvSpPr>
            <p:spPr>
              <a:xfrm flipV="1">
                <a:off x="8856720" y="2825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69"/>
              <p:cNvSpPr/>
              <p:nvPr/>
            </p:nvSpPr>
            <p:spPr>
              <a:xfrm>
                <a:off x="8856720" y="3473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Rectangle 70"/>
          <p:cNvSpPr/>
          <p:nvPr/>
        </p:nvSpPr>
        <p:spPr>
          <a:xfrm flipH="1">
            <a:off x="8709840" y="4481640"/>
            <a:ext cx="28908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71"/>
          <p:cNvSpPr/>
          <p:nvPr/>
        </p:nvSpPr>
        <p:spPr>
          <a:xfrm>
            <a:off x="7632720" y="2970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72"/>
          <p:cNvSpPr/>
          <p:nvPr/>
        </p:nvSpPr>
        <p:spPr>
          <a:xfrm>
            <a:off x="7632720" y="3906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3"/>
          <p:cNvSpPr/>
          <p:nvPr/>
        </p:nvSpPr>
        <p:spPr>
          <a:xfrm flipH="1">
            <a:off x="7344720" y="3257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4"/>
          <p:cNvSpPr/>
          <p:nvPr/>
        </p:nvSpPr>
        <p:spPr>
          <a:xfrm flipH="1">
            <a:off x="7416720" y="256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5"/>
          <p:cNvSpPr/>
          <p:nvPr/>
        </p:nvSpPr>
        <p:spPr>
          <a:xfrm flipH="1">
            <a:off x="7632720" y="4049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6"/>
          <p:cNvSpPr/>
          <p:nvPr/>
        </p:nvSpPr>
        <p:spPr>
          <a:xfrm flipH="1">
            <a:off x="6408000" y="36910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0"/>
          <p:cNvGrpSpPr/>
          <p:nvPr/>
        </p:nvGrpSpPr>
        <p:grpSpPr>
          <a:xfrm>
            <a:off x="4030560" y="2530440"/>
            <a:ext cx="1512720" cy="1727280"/>
            <a:chOff x="4030560" y="2530440"/>
            <a:chExt cx="1512720" cy="1727280"/>
          </a:xfrm>
        </p:grpSpPr>
        <p:sp>
          <p:nvSpPr>
            <p:cNvPr id="357" name="Oval 79"/>
            <p:cNvSpPr/>
            <p:nvPr/>
          </p:nvSpPr>
          <p:spPr>
            <a:xfrm rot="5400000">
              <a:off x="3923280" y="2637720"/>
              <a:ext cx="1727280" cy="151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1"/>
            <p:cNvGrpSpPr/>
            <p:nvPr/>
          </p:nvGrpSpPr>
          <p:grpSpPr>
            <a:xfrm>
              <a:off x="4608360" y="2530440"/>
              <a:ext cx="287280" cy="1657080"/>
              <a:chOff x="4608360" y="2530440"/>
              <a:chExt cx="287280" cy="1657080"/>
            </a:xfrm>
          </p:grpSpPr>
          <p:sp>
            <p:nvSpPr>
              <p:cNvPr id="359" name="Rectangle 12"/>
              <p:cNvSpPr/>
              <p:nvPr/>
            </p:nvSpPr>
            <p:spPr>
              <a:xfrm rot="5400000">
                <a:off x="3923280" y="3215160"/>
                <a:ext cx="1657080" cy="287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3"/>
              <p:cNvSpPr/>
              <p:nvPr/>
            </p:nvSpPr>
            <p:spPr>
              <a:xfrm rot="5400000">
                <a:off x="4391640" y="2747160"/>
                <a:ext cx="720720" cy="287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Rectangle 81"/>
          <p:cNvSpPr/>
          <p:nvPr/>
        </p:nvSpPr>
        <p:spPr>
          <a:xfrm>
            <a:off x="395280" y="5013360"/>
            <a:ext cx="289080" cy="144360"/>
          </a:xfrm>
          <a:prstGeom prst="rect">
            <a:avLst/>
          </a:prstGeom>
          <a:solidFill>
            <a:srgbClr val="fccb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2"/>
          <p:cNvSpPr/>
          <p:nvPr/>
        </p:nvSpPr>
        <p:spPr>
          <a:xfrm>
            <a:off x="539640" y="476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ando un magnete rotante e due bobine si ottengono due corrent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otte con stessa intensità ma versi opposti:e ogni bobina vien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orsa da una corrente che alterna intensità e senso in rapporto con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polo inducente che varia periodicamene e del suo avvicinarsi 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ontanarsi:usando 4-6-8 bobine e collegandole opportunamente s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ttiene all’esterno una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rrente alternata:altern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5231 L -0.00017 -0.25185 E">
                                      <p:cBhvr>
                                        <p:cTn id="129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1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74 -0.32547 L 0.89774 -0.17848 E">
                                      <p:cBhvr>
                                        <p:cTn id="133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1476360" y="2960640"/>
            <a:ext cx="136836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 rot="16200000">
            <a:off x="3746520" y="396720"/>
            <a:ext cx="1368360" cy="93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 rot="16200000">
            <a:off x="3887640" y="5165280"/>
            <a:ext cx="1368360" cy="93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300720" y="2781360"/>
            <a:ext cx="1368360" cy="93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 rot="1807800">
            <a:off x="1979280" y="1413000"/>
            <a:ext cx="1368360" cy="93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 rot="19334400">
            <a:off x="2123640" y="4292280"/>
            <a:ext cx="1368360" cy="93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 rot="19273200">
            <a:off x="5651280" y="1196640"/>
            <a:ext cx="1368360" cy="936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 rot="1978800">
            <a:off x="5651280" y="4220640"/>
            <a:ext cx="1368360" cy="93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3166920" y="1793880"/>
            <a:ext cx="280836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3"/>
          <p:cNvGrpSpPr/>
          <p:nvPr/>
        </p:nvGrpSpPr>
        <p:grpSpPr>
          <a:xfrm>
            <a:off x="3274920" y="2081160"/>
            <a:ext cx="2592360" cy="2521080"/>
            <a:chOff x="3274920" y="2081160"/>
            <a:chExt cx="2592360" cy="2521080"/>
          </a:xfrm>
        </p:grpSpPr>
        <p:sp>
          <p:nvSpPr>
            <p:cNvPr id="373" name="Rectangle 16"/>
            <p:cNvSpPr/>
            <p:nvPr/>
          </p:nvSpPr>
          <p:spPr>
            <a:xfrm rot="16200000">
              <a:off x="4462920" y="2024640"/>
              <a:ext cx="216000" cy="259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4464000" y="2081160"/>
              <a:ext cx="216000" cy="2521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8"/>
            <p:cNvSpPr/>
            <p:nvPr/>
          </p:nvSpPr>
          <p:spPr>
            <a:xfrm>
              <a:off x="4186080" y="2949480"/>
              <a:ext cx="79236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21"/>
          <p:cNvSpPr/>
          <p:nvPr/>
        </p:nvSpPr>
        <p:spPr>
          <a:xfrm>
            <a:off x="5433840" y="0"/>
            <a:ext cx="37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lternatore con 8 bobin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ello statore ove vengon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generate correnti alter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79280" y="62164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otore con elettromagne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nducenti corrente nelle bobine dell’in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57456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rrenti indotte mediante apertura e chiusura di un circuito elet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340000" y="1268280"/>
            <a:ext cx="2663640" cy="15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2195640" y="1700280"/>
            <a:ext cx="2952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611280" y="1125360"/>
            <a:ext cx="720720" cy="187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133200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1332000" y="26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971640" y="112500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5580000" y="1268280"/>
            <a:ext cx="2016360" cy="158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508720" y="1628640"/>
            <a:ext cx="21589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8172360" y="1773360"/>
            <a:ext cx="647640" cy="647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7596360" y="148428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 flipV="1">
            <a:off x="7596360" y="2205000"/>
            <a:ext cx="64764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95280" y="342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774072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7631280" y="3062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nter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4572000" y="9079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1"/>
          <p:cNvSpPr/>
          <p:nvPr/>
        </p:nvSpPr>
        <p:spPr>
          <a:xfrm>
            <a:off x="500364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>
            <a:off x="5580000" y="16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755640" y="4076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971640" y="220500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468360" y="450864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1187280" y="4292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a corrente indotta pulsante può essere prodotta anche usand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me induttore un circuito ,fermo, formato da una bobina collegat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 un generatore di corrente e da un interruttore:quando il circuit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hiude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 appare una corrente indotta che raggiunge un picco e po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torna a zero ,in un senso; quando si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pre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 il circuito appare ancor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a corrente indotta con un picco e ritorno a zero,ma in sens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opposto al precedente:si potrebbe ,accendendo e spegnend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apidamente il circuito più volte,originare una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rrente altern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1476360" y="549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Osserva e commenta;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autoRev="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28866 L 0.0158 -0.19422 E">
                                      <p:cBhvr>
                                        <p:cTn id="154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autoRev="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36204 L 0.05104 -0.49861 E">
                                      <p:cBhvr>
                                        <p:cTn id="16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57456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rrenti indotte mediante apertura e chiusura di un circuito elet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2340000" y="1268280"/>
            <a:ext cx="2663640" cy="15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2195640" y="1700280"/>
            <a:ext cx="2952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611280" y="1197000"/>
            <a:ext cx="720720" cy="187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133200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1332000" y="26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971640" y="112500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5580000" y="1268280"/>
            <a:ext cx="2016360" cy="158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5508720" y="1628640"/>
            <a:ext cx="21589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8172360" y="1773360"/>
            <a:ext cx="647640" cy="647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7596360" y="1484280"/>
            <a:ext cx="64764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3"/>
          <p:cNvSpPr/>
          <p:nvPr/>
        </p:nvSpPr>
        <p:spPr>
          <a:xfrm flipV="1">
            <a:off x="7596360" y="2205000"/>
            <a:ext cx="64764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395280" y="342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774072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7631280" y="3062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nterr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4572000" y="9079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o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5003640" y="162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5580000" y="1628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755640" y="4076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1"/>
          <p:cNvSpPr/>
          <p:nvPr/>
        </p:nvSpPr>
        <p:spPr>
          <a:xfrm>
            <a:off x="971640" y="220500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468360" y="501336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1476360" y="549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Osserva e commenta;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 flipV="1">
            <a:off x="7596360" y="1341360"/>
            <a:ext cx="360360" cy="43200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7236000" y="76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reo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1403280" y="5013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Inserendo nel circuito una resistenza variabile (reostato)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è possibile,lasciando sempre chiuso il circuito, produrre u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rrente indotta, variando la resistenza con il reostato e quin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corrente circolante nella bobina indut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9" descr="sino2"/>
          <p:cNvPicPr/>
          <p:nvPr/>
        </p:nvPicPr>
        <p:blipFill>
          <a:blip r:embed="rId3"/>
          <a:stretch/>
        </p:blipFill>
        <p:spPr>
          <a:xfrm>
            <a:off x="2484360" y="3141720"/>
            <a:ext cx="3456000" cy="1339920"/>
          </a:xfrm>
          <a:prstGeom prst="rect">
            <a:avLst/>
          </a:prstGeom>
          <a:ln w="0">
            <a:noFill/>
          </a:ln>
        </p:spPr>
      </p:pic>
      <p:sp>
        <p:nvSpPr>
          <p:cNvPr id="427" name="Oval 30"/>
          <p:cNvSpPr/>
          <p:nvPr/>
        </p:nvSpPr>
        <p:spPr>
          <a:xfrm>
            <a:off x="324000" y="5805360"/>
            <a:ext cx="21564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0.04722 0.0419 E">
                                      <p:cBhvr>
                                        <p:cTn id="175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32037 L 0.04323 -0.57222 E">
                                      <p:cBhvr>
                                        <p:cTn id="177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372 -0.37083 C 0.26702 -0.39606 0.2717 -0.42014 0.28108 -0.42014 C 0.2915 -0.42014 0.29514 -0.39606 0.29861 -0.37083 C 0.3033 -0.34282 0.30677 -0.31481 0.31841 -0.31481 C 0.329 -0.31481 0.33247 -0.34282 0.33716 -0.37083 C 0.33941 -0.39606 0.34393 -0.42014 0.35452 -0.42014 C 0.36389 -0.42014 0.36841 -0.39606 0.37205 -0.37083 C 0.37552 -0.34282 0.38021 -0.31481 0.3908 -0.31481 C 0.40122 -0.31481 0.40938 -0.37083 0.40938 -0.3706 C 0.41285 -0.39606 0.4165 -0.42014 0.42674 -0.42014 C 0.43733 -0.42014 0.44097 -0.39606 0.44445 -0.37083 C 0.44913 -0.34282 0.45243 -0.31481 0.46424 -0.31481 C 0.47483 -0.31481 0.47813 -0.34282 0.4816 -0.37083 C 0.48629 -0.39606 0.48976 -0.42014 0.50035 -0.42014 C 0.50955 -0.42014 0.51424 -0.39606 0.51788 -0.37083 C 0.52136 -0.34282 0.52604 -0.31481 0.53646 -0.31481 C 0.54705 -0.31481 0.55052 -0.34282 0.55521 -0.37083 E">
                                      <p:cBhvr>
                                        <p:cTn id="186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332000" y="333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rrenti indotte e trasform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1484280"/>
            <a:ext cx="2808360" cy="172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2050920" y="2133720"/>
            <a:ext cx="3025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539640" y="1413000"/>
            <a:ext cx="71928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5219640" y="1484280"/>
            <a:ext cx="1081080" cy="172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5148360" y="206064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2195640" y="2205000"/>
            <a:ext cx="41050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1476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obina secondario:in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14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obina primario:indu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363528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laminato ferr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2"/>
          <p:cNvSpPr/>
          <p:nvPr/>
        </p:nvSpPr>
        <p:spPr>
          <a:xfrm>
            <a:off x="7524720" y="2060640"/>
            <a:ext cx="1224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4067280" y="4221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Generatore corrente variabile,alter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8388360" y="2924280"/>
            <a:ext cx="712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5"/>
          <p:cNvSpPr/>
          <p:nvPr/>
        </p:nvSpPr>
        <p:spPr>
          <a:xfrm flipV="1">
            <a:off x="5076720" y="263664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6"/>
          <p:cNvSpPr/>
          <p:nvPr/>
        </p:nvSpPr>
        <p:spPr>
          <a:xfrm flipH="1" flipV="1">
            <a:off x="6300360" y="177336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7"/>
          <p:cNvSpPr/>
          <p:nvPr/>
        </p:nvSpPr>
        <p:spPr>
          <a:xfrm flipH="1">
            <a:off x="6300360" y="2637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8317080" y="189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9"/>
          <p:cNvSpPr/>
          <p:nvPr/>
        </p:nvSpPr>
        <p:spPr>
          <a:xfrm flipH="1">
            <a:off x="133200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0"/>
          <p:cNvSpPr/>
          <p:nvPr/>
        </p:nvSpPr>
        <p:spPr>
          <a:xfrm flipH="1">
            <a:off x="125856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1"/>
          <p:cNvSpPr/>
          <p:nvPr/>
        </p:nvSpPr>
        <p:spPr>
          <a:xfrm>
            <a:off x="539640" y="260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212400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5219640" y="105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4"/>
          <p:cNvSpPr/>
          <p:nvPr/>
        </p:nvSpPr>
        <p:spPr>
          <a:xfrm>
            <a:off x="6877080" y="1413000"/>
            <a:ext cx="3589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665964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46836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8"/>
          <p:cNvSpPr/>
          <p:nvPr/>
        </p:nvSpPr>
        <p:spPr>
          <a:xfrm>
            <a:off x="826920" y="1484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702000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0"/>
          <p:cNvSpPr/>
          <p:nvPr/>
        </p:nvSpPr>
        <p:spPr>
          <a:xfrm>
            <a:off x="250920" y="4076640"/>
            <a:ext cx="73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1"/>
          <p:cNvSpPr/>
          <p:nvPr/>
        </p:nvSpPr>
        <p:spPr>
          <a:xfrm>
            <a:off x="8675640" y="4076640"/>
            <a:ext cx="7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305928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sa osservi ???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431640" y="4653000"/>
            <a:ext cx="828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ue bobine con diverso numero di spire:primario meno del secondario,non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llegate tra loro (nucleo ferroso solo per aumentare effetto induzione)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nel circuito primario circola una corrente alternata, variabile nel suo valore d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massimo a un minimo:induce una corrente variabile anche nel secondari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a la tensione viene aumentata in proporzione al rapporto tra le spire: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400/100 :verrebbe diminuita se fosse rapporto 100/4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autoRev="1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5 0.29537 C -0.02187 0.29028 -0.02118 0.28496 -0.02291 0.28033 C -0.02361 0.27824 -0.02621 0.2794 -0.02777 0.27824 C -0.03125 0.2757 -0.03385 0.2713 -0.0375 0.26968 C -0.04079 0.26829 -0.04722 0.26528 -0.04722 0.26528 C -0.06406 0.25 -0.11371 0.24885 -0.12934 0.24815 C -0.13732 0.24537 -0.14548 0.24375 -0.15364 0.24167 C -0.16041 0.23565 -0.16458 0.23496 -0.17291 0.2331 C -0.18819 0.22616 -0.1901 0.22639 -0.2085 0.22431 C -0.21718 0.22454 -0.26753 0.20857 -0.28107 0.23519 C -0.28888 0.26783 -0.27725 0.30394 -0.28593 0.33635 C -0.28454 0.37037 -0.29253 0.37778 -0.27465 0.38565 C -0.25312 0.4051 -0.22361 0.39098 -0.19878 0.38565 C -0.1618 0.3669 -0.12569 0.36783 -0.08593 0.36644 C -0.075 0.36389 -0.06666 0.36135 -0.0552 0.35996 C -0.05191 0.35857 -0.04878 0.35695 -0.04548 0.35556 C -0.04288 0.3544 -0.04132 0.35093 -0.03906 0.34908 C -0.0375 0.34792 -0.03576 0.34769 -0.0342 0.34699 C -0.02934 0.3426 -0.02465 0.3382 -0.01979 0.33403 C -0.01822 0.33264 -0.01493 0.32986 -0.01493 0.32986 C -0.01197 0.3132 -0.00607 0.28033 -0.02465 0.28033 E">
                                      <p:cBhvr>
                                        <p:cTn id="19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autoRev="1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02 0.22037 C 0.37327 0.21921 0.34306 0.21597 0.30504 0.21829 C 0.28021 0.22292 0.25556 0.22523 0.23073 0.22685 C 0.1658 0.22338 0.1724 0.22292 0.08247 0.22477 C 0.07066 0.22847 0.05903 0.23148 0.04688 0.23333 C 0.03889 0.24051 0.04289 0.23565 0.03559 0.25046 C 0.03455 0.25255 0.03247 0.25694 0.03247 0.25694 C 0.02848 0.2919 0.03004 0.27245 0.03247 0.33657 C 0.03282 0.34514 0.03091 0.35602 0.03559 0.36227 C 0.04497 0.37477 0.07275 0.375 0.08247 0.37523 C 0.11684 0.37639 0.15122 0.37662 0.18559 0.37731 C 0.25539 0.41065 0.33403 0.37893 0.40816 0.37731 C 0.41702 0.37454 0.41632 0.37014 0.42431 0.36667 C 0.43455 0.32685 0.43837 0.27847 0.42431 0.23981 C 0.42136 0.23148 0.41632 0.22893 0.41302 0.22037 Z">
                                      <p:cBhvr>
                                        <p:cTn id="194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autoRev="1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507 -0.28866 L -0.18507 -0.39375 E">
                                      <p:cBhvr>
                                        <p:cTn id="196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autoRev="1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0.11551 L 0.05903 -0.39907 E">
                                      <p:cBhvr>
                                        <p:cTn id="198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476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sare un magnete e delle bobine con numero di spire 100 – 300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n tester per misurare correnti indot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eseguire alcune prov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re – allontanare magnete da bobina variando veloc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ambiare numero di spire per la bobina usat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ambiare polo in avvicinamento alla bobina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nnotare come varia la corrente nel tester: valore, s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55640" y="3716280"/>
            <a:ext cx="6769080" cy="217440"/>
          </a:xfrm>
          <a:prstGeom prst="rect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00000" y="4581360"/>
            <a:ext cx="331164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971640" y="558972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3058920" y="566100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971640" y="2997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nduttore di rame isolato in superficie,avolto per formare 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12400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19564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eleme151"/>
          <p:cNvPicPr/>
          <p:nvPr/>
        </p:nvPicPr>
        <p:blipFill>
          <a:blip r:embed="rId1"/>
          <a:stretch/>
        </p:blipFill>
        <p:spPr>
          <a:xfrm>
            <a:off x="290520" y="914400"/>
            <a:ext cx="8562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53" name="Rectangle 4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1908000" y="2276640"/>
            <a:ext cx="2449440" cy="1368360"/>
            <a:chOff x="1908000" y="2276640"/>
            <a:chExt cx="2449440" cy="1368360"/>
          </a:xfrm>
        </p:grpSpPr>
        <p:sp>
          <p:nvSpPr>
            <p:cNvPr id="56" name="Rectangle 8"/>
            <p:cNvSpPr/>
            <p:nvPr/>
          </p:nvSpPr>
          <p:spPr>
            <a:xfrm>
              <a:off x="1908000" y="2276640"/>
              <a:ext cx="24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1908000" y="3213000"/>
              <a:ext cx="244944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0"/>
          <p:cNvGrpSpPr/>
          <p:nvPr/>
        </p:nvGrpSpPr>
        <p:grpSpPr>
          <a:xfrm>
            <a:off x="1835280" y="4941720"/>
            <a:ext cx="2449440" cy="1368360"/>
            <a:chOff x="1835280" y="4941720"/>
            <a:chExt cx="2449440" cy="1368360"/>
          </a:xfrm>
        </p:grpSpPr>
        <p:sp>
          <p:nvSpPr>
            <p:cNvPr id="59" name="Rectangle 11"/>
            <p:cNvSpPr/>
            <p:nvPr/>
          </p:nvSpPr>
          <p:spPr>
            <a:xfrm>
              <a:off x="1835280" y="4941720"/>
              <a:ext cx="2449440" cy="431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1835280" y="5878080"/>
              <a:ext cx="2449440" cy="432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5651640" y="765000"/>
            <a:ext cx="1657080" cy="287640"/>
            <a:chOff x="5651640" y="765000"/>
            <a:chExt cx="1657080" cy="287640"/>
          </a:xfrm>
        </p:grpSpPr>
        <p:sp>
          <p:nvSpPr>
            <p:cNvPr id="62" name="Rectangle 13"/>
            <p:cNvSpPr/>
            <p:nvPr/>
          </p:nvSpPr>
          <p:spPr>
            <a:xfrm>
              <a:off x="5651640" y="76500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651640" y="76500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5796000" y="5445000"/>
            <a:ext cx="1657080" cy="287640"/>
            <a:chOff x="5796000" y="5445000"/>
            <a:chExt cx="1657080" cy="287640"/>
          </a:xfrm>
        </p:grpSpPr>
        <p:sp>
          <p:nvSpPr>
            <p:cNvPr id="65" name="Rectangle 17"/>
            <p:cNvSpPr/>
            <p:nvPr/>
          </p:nvSpPr>
          <p:spPr>
            <a:xfrm>
              <a:off x="5796000" y="544500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5796000" y="544500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9"/>
          <p:cNvGrpSpPr/>
          <p:nvPr/>
        </p:nvGrpSpPr>
        <p:grpSpPr>
          <a:xfrm>
            <a:off x="5724360" y="2781360"/>
            <a:ext cx="1657080" cy="287280"/>
            <a:chOff x="5724360" y="2781360"/>
            <a:chExt cx="1657080" cy="287280"/>
          </a:xfrm>
        </p:grpSpPr>
        <p:sp>
          <p:nvSpPr>
            <p:cNvPr id="68" name="Rectangle 20"/>
            <p:cNvSpPr/>
            <p:nvPr/>
          </p:nvSpPr>
          <p:spPr>
            <a:xfrm>
              <a:off x="5724360" y="2781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5724360" y="2781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9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71" name="Rectangle 22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28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73" name="Line 26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30"/>
          <p:cNvGrpSpPr/>
          <p:nvPr/>
        </p:nvGrpSpPr>
        <p:grpSpPr>
          <a:xfrm>
            <a:off x="395280" y="2349360"/>
            <a:ext cx="502920" cy="1368360"/>
            <a:chOff x="395280" y="2349360"/>
            <a:chExt cx="502920" cy="1368360"/>
          </a:xfrm>
        </p:grpSpPr>
        <p:sp>
          <p:nvSpPr>
            <p:cNvPr id="76" name="Rectangle 31"/>
            <p:cNvSpPr/>
            <p:nvPr/>
          </p:nvSpPr>
          <p:spPr>
            <a:xfrm>
              <a:off x="395280" y="2349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32"/>
            <p:cNvGrpSpPr/>
            <p:nvPr/>
          </p:nvGrpSpPr>
          <p:grpSpPr>
            <a:xfrm>
              <a:off x="682560" y="2420280"/>
              <a:ext cx="0" cy="1224360"/>
              <a:chOff x="682560" y="2420280"/>
              <a:chExt cx="0" cy="1224360"/>
            </a:xfrm>
          </p:grpSpPr>
          <p:sp>
            <p:nvSpPr>
              <p:cNvPr id="78" name="Line 33"/>
              <p:cNvSpPr/>
              <p:nvPr/>
            </p:nvSpPr>
            <p:spPr>
              <a:xfrm flipV="1">
                <a:off x="682560" y="2420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4"/>
              <p:cNvSpPr/>
              <p:nvPr/>
            </p:nvSpPr>
            <p:spPr>
              <a:xfrm>
                <a:off x="682560" y="3068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35"/>
          <p:cNvGrpSpPr/>
          <p:nvPr/>
        </p:nvGrpSpPr>
        <p:grpSpPr>
          <a:xfrm>
            <a:off x="468360" y="5013360"/>
            <a:ext cx="502920" cy="1368360"/>
            <a:chOff x="468360" y="5013360"/>
            <a:chExt cx="502920" cy="1368360"/>
          </a:xfrm>
        </p:grpSpPr>
        <p:sp>
          <p:nvSpPr>
            <p:cNvPr id="81" name="Rectangle 36"/>
            <p:cNvSpPr/>
            <p:nvPr/>
          </p:nvSpPr>
          <p:spPr>
            <a:xfrm>
              <a:off x="468360" y="5013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37"/>
            <p:cNvGrpSpPr/>
            <p:nvPr/>
          </p:nvGrpSpPr>
          <p:grpSpPr>
            <a:xfrm>
              <a:off x="755640" y="5084280"/>
              <a:ext cx="0" cy="1224360"/>
              <a:chOff x="755640" y="5084280"/>
              <a:chExt cx="0" cy="1224360"/>
            </a:xfrm>
          </p:grpSpPr>
          <p:sp>
            <p:nvSpPr>
              <p:cNvPr id="83" name="Line 38"/>
              <p:cNvSpPr/>
              <p:nvPr/>
            </p:nvSpPr>
            <p:spPr>
              <a:xfrm flipV="1">
                <a:off x="755640" y="5084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9"/>
              <p:cNvSpPr/>
              <p:nvPr/>
            </p:nvSpPr>
            <p:spPr>
              <a:xfrm>
                <a:off x="755640" y="5732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40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539640" y="4221000"/>
            <a:ext cx="289080" cy="14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611280" y="652464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3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4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5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6"/>
          <p:cNvSpPr/>
          <p:nvPr/>
        </p:nvSpPr>
        <p:spPr>
          <a:xfrm flipH="1">
            <a:off x="90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7"/>
          <p:cNvSpPr/>
          <p:nvPr/>
        </p:nvSpPr>
        <p:spPr>
          <a:xfrm flipH="1">
            <a:off x="971640" y="602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8"/>
          <p:cNvSpPr/>
          <p:nvPr/>
        </p:nvSpPr>
        <p:spPr>
          <a:xfrm flipH="1">
            <a:off x="900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2484360" y="1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2556000" y="1125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5219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4788000" y="13413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varia la corrente prodotta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 velocità del magnete-con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cinamento-allontanamento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ispondi, 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1979640" y="39337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umenta con velocità di spostamento del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gno cambia con verso spostamento del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annulla se magnete im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2993 2.59259E-006 E">
                                      <p:cBhvr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8889 L 3.61111E-006 -0.23102 E">
                                      <p:cBhvr>
                                        <p:cTn id="11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11111E-006 L -0.30713 1.11111E-006 E">
                                      <p:cBhvr>
                                        <p:cTn id="13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13635 L 1.11111E-006 -0.22037 E">
                                      <p:cBhvr>
                                        <p:cTn id="1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6 L -0.30712 3.7037E-006 E">
                                      <p:cBhvr>
                                        <p:cTn id="1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eleme152"/>
          <p:cNvPicPr/>
          <p:nvPr/>
        </p:nvPicPr>
        <p:blipFill>
          <a:blip r:embed="rId1"/>
          <a:stretch/>
        </p:blipFill>
        <p:spPr>
          <a:xfrm>
            <a:off x="990720" y="1076400"/>
            <a:ext cx="71625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104" name="Rectangle 3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"/>
          <p:cNvGrpSpPr/>
          <p:nvPr/>
        </p:nvGrpSpPr>
        <p:grpSpPr>
          <a:xfrm>
            <a:off x="1908000" y="2276640"/>
            <a:ext cx="2449440" cy="1368360"/>
            <a:chOff x="1908000" y="2276640"/>
            <a:chExt cx="2449440" cy="1368360"/>
          </a:xfrm>
        </p:grpSpPr>
        <p:sp>
          <p:nvSpPr>
            <p:cNvPr id="107" name="Rectangle 6"/>
            <p:cNvSpPr/>
            <p:nvPr/>
          </p:nvSpPr>
          <p:spPr>
            <a:xfrm>
              <a:off x="1908000" y="2276640"/>
              <a:ext cx="24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908000" y="3213000"/>
              <a:ext cx="244944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5651640" y="765000"/>
            <a:ext cx="1657080" cy="287640"/>
            <a:chOff x="5651640" y="765000"/>
            <a:chExt cx="1657080" cy="287640"/>
          </a:xfrm>
        </p:grpSpPr>
        <p:sp>
          <p:nvSpPr>
            <p:cNvPr id="110" name="Rectangle 12"/>
            <p:cNvSpPr/>
            <p:nvPr/>
          </p:nvSpPr>
          <p:spPr>
            <a:xfrm>
              <a:off x="5651640" y="76500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651640" y="76500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5724360" y="2781360"/>
            <a:ext cx="1657080" cy="287280"/>
            <a:chOff x="5724360" y="2781360"/>
            <a:chExt cx="1657080" cy="287280"/>
          </a:xfrm>
        </p:grpSpPr>
        <p:sp>
          <p:nvSpPr>
            <p:cNvPr id="113" name="Rectangle 18"/>
            <p:cNvSpPr/>
            <p:nvPr/>
          </p:nvSpPr>
          <p:spPr>
            <a:xfrm>
              <a:off x="5724360" y="2781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5724360" y="2781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116" name="Rectangle 21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2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118" name="Line 23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4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25"/>
          <p:cNvGrpSpPr/>
          <p:nvPr/>
        </p:nvGrpSpPr>
        <p:grpSpPr>
          <a:xfrm>
            <a:off x="395280" y="2349360"/>
            <a:ext cx="502920" cy="1368360"/>
            <a:chOff x="395280" y="2349360"/>
            <a:chExt cx="502920" cy="1368360"/>
          </a:xfrm>
        </p:grpSpPr>
        <p:sp>
          <p:nvSpPr>
            <p:cNvPr id="121" name="Rectangle 26"/>
            <p:cNvSpPr/>
            <p:nvPr/>
          </p:nvSpPr>
          <p:spPr>
            <a:xfrm>
              <a:off x="395280" y="2349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27"/>
            <p:cNvGrpSpPr/>
            <p:nvPr/>
          </p:nvGrpSpPr>
          <p:grpSpPr>
            <a:xfrm>
              <a:off x="682560" y="2420280"/>
              <a:ext cx="0" cy="1224360"/>
              <a:chOff x="682560" y="2420280"/>
              <a:chExt cx="0" cy="1224360"/>
            </a:xfrm>
          </p:grpSpPr>
          <p:sp>
            <p:nvSpPr>
              <p:cNvPr id="123" name="Line 28"/>
              <p:cNvSpPr/>
              <p:nvPr/>
            </p:nvSpPr>
            <p:spPr>
              <a:xfrm flipV="1">
                <a:off x="682560" y="2420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9"/>
              <p:cNvSpPr/>
              <p:nvPr/>
            </p:nvSpPr>
            <p:spPr>
              <a:xfrm>
                <a:off x="682560" y="3068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35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539640" y="4221000"/>
            <a:ext cx="289080" cy="14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8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9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0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1"/>
          <p:cNvSpPr/>
          <p:nvPr/>
        </p:nvSpPr>
        <p:spPr>
          <a:xfrm flipH="1">
            <a:off x="90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197964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5219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4788000" y="1341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varia la corrente prodotta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 300 spire-100 spir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ispondi, 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2"/>
          <p:cNvSpPr/>
          <p:nvPr/>
        </p:nvSpPr>
        <p:spPr>
          <a:xfrm>
            <a:off x="298764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291636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4"/>
          <p:cNvSpPr/>
          <p:nvPr/>
        </p:nvSpPr>
        <p:spPr>
          <a:xfrm>
            <a:off x="197964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5"/>
          <p:cNvSpPr/>
          <p:nvPr/>
        </p:nvSpPr>
        <p:spPr>
          <a:xfrm>
            <a:off x="53964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corrente prodotta, a parità di velocità di spostamento del magnete,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aria con numero di spire della 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3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2993 2.59259E-006 E">
                                      <p:cBhvr>
                                        <p:cTn id="3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8889 L 3.61111E-006 -0.23102 E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11111E-006 L -0.30713 1.11111E-006 E">
                                      <p:cBhvr>
                                        <p:cTn id="3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142" name="Rectangle 3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1908000" y="2276640"/>
            <a:ext cx="2449440" cy="1368360"/>
            <a:chOff x="1908000" y="2276640"/>
            <a:chExt cx="2449440" cy="1368360"/>
          </a:xfrm>
        </p:grpSpPr>
        <p:sp>
          <p:nvSpPr>
            <p:cNvPr id="145" name="Rectangle 6"/>
            <p:cNvSpPr/>
            <p:nvPr/>
          </p:nvSpPr>
          <p:spPr>
            <a:xfrm>
              <a:off x="1908000" y="2276640"/>
              <a:ext cx="24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1908000" y="3213000"/>
              <a:ext cx="244944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5651640" y="620640"/>
            <a:ext cx="1657080" cy="431640"/>
            <a:chOff x="5651640" y="620640"/>
            <a:chExt cx="1657080" cy="431640"/>
          </a:xfrm>
        </p:grpSpPr>
        <p:sp>
          <p:nvSpPr>
            <p:cNvPr id="148" name="Rectangle 9"/>
            <p:cNvSpPr/>
            <p:nvPr/>
          </p:nvSpPr>
          <p:spPr>
            <a:xfrm>
              <a:off x="5651640" y="620640"/>
              <a:ext cx="165708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5651640" y="620640"/>
              <a:ext cx="720720" cy="43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5724360" y="2852640"/>
            <a:ext cx="1657080" cy="216000"/>
            <a:chOff x="5724360" y="2852640"/>
            <a:chExt cx="1657080" cy="216000"/>
          </a:xfrm>
        </p:grpSpPr>
        <p:sp>
          <p:nvSpPr>
            <p:cNvPr id="151" name="Rectangle 12"/>
            <p:cNvSpPr/>
            <p:nvPr/>
          </p:nvSpPr>
          <p:spPr>
            <a:xfrm>
              <a:off x="5724360" y="2852640"/>
              <a:ext cx="1657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724360" y="2852640"/>
              <a:ext cx="720720" cy="21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154" name="Rectangle 15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6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156" name="Line 17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19"/>
          <p:cNvGrpSpPr/>
          <p:nvPr/>
        </p:nvGrpSpPr>
        <p:grpSpPr>
          <a:xfrm>
            <a:off x="395280" y="2349360"/>
            <a:ext cx="502920" cy="1368360"/>
            <a:chOff x="395280" y="2349360"/>
            <a:chExt cx="502920" cy="1368360"/>
          </a:xfrm>
        </p:grpSpPr>
        <p:sp>
          <p:nvSpPr>
            <p:cNvPr id="159" name="Rectangle 20"/>
            <p:cNvSpPr/>
            <p:nvPr/>
          </p:nvSpPr>
          <p:spPr>
            <a:xfrm>
              <a:off x="395280" y="2349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1"/>
            <p:cNvGrpSpPr/>
            <p:nvPr/>
          </p:nvGrpSpPr>
          <p:grpSpPr>
            <a:xfrm>
              <a:off x="682560" y="2420280"/>
              <a:ext cx="0" cy="1224360"/>
              <a:chOff x="682560" y="2420280"/>
              <a:chExt cx="0" cy="1224360"/>
            </a:xfrm>
          </p:grpSpPr>
          <p:sp>
            <p:nvSpPr>
              <p:cNvPr id="161" name="Line 22"/>
              <p:cNvSpPr/>
              <p:nvPr/>
            </p:nvSpPr>
            <p:spPr>
              <a:xfrm flipV="1">
                <a:off x="682560" y="2420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3"/>
              <p:cNvSpPr/>
              <p:nvPr/>
            </p:nvSpPr>
            <p:spPr>
              <a:xfrm>
                <a:off x="682560" y="3068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Rectangle 24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539640" y="4221000"/>
            <a:ext cx="289080" cy="14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H="1">
            <a:off x="90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197964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5219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5"/>
          <p:cNvSpPr/>
          <p:nvPr/>
        </p:nvSpPr>
        <p:spPr>
          <a:xfrm>
            <a:off x="4788000" y="1341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varia la corrente prodotta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 magnete grosso,piccol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ispondi, 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298764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291636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8"/>
          <p:cNvSpPr/>
          <p:nvPr/>
        </p:nvSpPr>
        <p:spPr>
          <a:xfrm>
            <a:off x="197964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3964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corrente prodotta, a parità di velocità di spostamento del magnete,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aria con la forza del 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2993 2.59259E-006 E">
                                      <p:cBhvr>
                                        <p:cTn id="5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8889 L 3.61111E-006 -0.23102 E">
                                      <p:cBhvr>
                                        <p:cTn id="5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11111E-006 L -0.30713 1.11111E-006 E">
                                      <p:cBhvr>
                                        <p:cTn id="5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180" name="Rectangle 3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"/>
          <p:cNvGrpSpPr/>
          <p:nvPr/>
        </p:nvGrpSpPr>
        <p:grpSpPr>
          <a:xfrm>
            <a:off x="1908000" y="2276640"/>
            <a:ext cx="2449440" cy="1368360"/>
            <a:chOff x="1908000" y="2276640"/>
            <a:chExt cx="2449440" cy="1368360"/>
          </a:xfrm>
        </p:grpSpPr>
        <p:sp>
          <p:nvSpPr>
            <p:cNvPr id="183" name="Rectangle 6"/>
            <p:cNvSpPr/>
            <p:nvPr/>
          </p:nvSpPr>
          <p:spPr>
            <a:xfrm>
              <a:off x="1908000" y="2276640"/>
              <a:ext cx="24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908000" y="3213000"/>
              <a:ext cx="244944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5651640" y="765000"/>
            <a:ext cx="1657080" cy="287640"/>
            <a:chOff x="5651640" y="765000"/>
            <a:chExt cx="1657080" cy="287640"/>
          </a:xfrm>
        </p:grpSpPr>
        <p:sp>
          <p:nvSpPr>
            <p:cNvPr id="186" name="Rectangle 9"/>
            <p:cNvSpPr/>
            <p:nvPr/>
          </p:nvSpPr>
          <p:spPr>
            <a:xfrm>
              <a:off x="5651640" y="76500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"/>
            <p:cNvSpPr/>
            <p:nvPr/>
          </p:nvSpPr>
          <p:spPr>
            <a:xfrm>
              <a:off x="5651640" y="76500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5724720" y="2781360"/>
            <a:ext cx="1657080" cy="287280"/>
            <a:chOff x="5724720" y="2781360"/>
            <a:chExt cx="1657080" cy="287280"/>
          </a:xfrm>
        </p:grpSpPr>
        <p:sp>
          <p:nvSpPr>
            <p:cNvPr id="189" name="Rectangle 12"/>
            <p:cNvSpPr/>
            <p:nvPr/>
          </p:nvSpPr>
          <p:spPr>
            <a:xfrm flipH="1">
              <a:off x="5724360" y="2781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 flipH="1">
              <a:off x="6661080" y="2781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192" name="Rectangle 15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194" name="Line 17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8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9"/>
          <p:cNvGrpSpPr/>
          <p:nvPr/>
        </p:nvGrpSpPr>
        <p:grpSpPr>
          <a:xfrm>
            <a:off x="395280" y="2349360"/>
            <a:ext cx="502920" cy="1368360"/>
            <a:chOff x="395280" y="2349360"/>
            <a:chExt cx="502920" cy="1368360"/>
          </a:xfrm>
        </p:grpSpPr>
        <p:sp>
          <p:nvSpPr>
            <p:cNvPr id="197" name="Rectangle 20"/>
            <p:cNvSpPr/>
            <p:nvPr/>
          </p:nvSpPr>
          <p:spPr>
            <a:xfrm>
              <a:off x="395280" y="2349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1"/>
            <p:cNvGrpSpPr/>
            <p:nvPr/>
          </p:nvGrpSpPr>
          <p:grpSpPr>
            <a:xfrm>
              <a:off x="682560" y="2420280"/>
              <a:ext cx="0" cy="1224360"/>
              <a:chOff x="682560" y="2420280"/>
              <a:chExt cx="0" cy="1224360"/>
            </a:xfrm>
          </p:grpSpPr>
          <p:sp>
            <p:nvSpPr>
              <p:cNvPr id="199" name="Line 22"/>
              <p:cNvSpPr/>
              <p:nvPr/>
            </p:nvSpPr>
            <p:spPr>
              <a:xfrm flipV="1">
                <a:off x="682560" y="2420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3"/>
              <p:cNvSpPr/>
              <p:nvPr/>
            </p:nvSpPr>
            <p:spPr>
              <a:xfrm>
                <a:off x="682560" y="3068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Rectangle 24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539640" y="4221000"/>
            <a:ext cx="289080" cy="14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 flipH="1">
            <a:off x="90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197964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5219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5"/>
          <p:cNvSpPr/>
          <p:nvPr/>
        </p:nvSpPr>
        <p:spPr>
          <a:xfrm>
            <a:off x="4788000" y="1341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varia la corrente prodott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e avanza polo Nord o Sud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ispondi, 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6"/>
          <p:cNvSpPr/>
          <p:nvPr/>
        </p:nvSpPr>
        <p:spPr>
          <a:xfrm>
            <a:off x="298764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291636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8"/>
          <p:cNvSpPr/>
          <p:nvPr/>
        </p:nvSpPr>
        <p:spPr>
          <a:xfrm>
            <a:off x="197964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>
            <a:off x="539640" y="4869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corrente prodotta, a parità di velocità di spostamento del magnete,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di numero di spire varia verso in funzione del polo magnetic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he viene introd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7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2993 2.59259E-006 E">
                                      <p:cBhvr>
                                        <p:cTn id="7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11111E-006 L -0.30713 1.11111E-006 E">
                                      <p:cBhvr>
                                        <p:cTn id="7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7848 L 3.61111E-006 -0.09445 E">
                                      <p:cBhvr>
                                        <p:cTn id="7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1835280" y="189000"/>
            <a:ext cx="2449440" cy="1368360"/>
            <a:chOff x="1835280" y="189000"/>
            <a:chExt cx="2449440" cy="1368360"/>
          </a:xfrm>
        </p:grpSpPr>
        <p:sp>
          <p:nvSpPr>
            <p:cNvPr id="218" name="Rectangle 3"/>
            <p:cNvSpPr/>
            <p:nvPr/>
          </p:nvSpPr>
          <p:spPr>
            <a:xfrm>
              <a:off x="1835280" y="189000"/>
              <a:ext cx="24494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1835280" y="1125360"/>
              <a:ext cx="244944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5"/>
          <p:cNvGrpSpPr/>
          <p:nvPr/>
        </p:nvGrpSpPr>
        <p:grpSpPr>
          <a:xfrm>
            <a:off x="1908000" y="2276640"/>
            <a:ext cx="2449440" cy="1368360"/>
            <a:chOff x="1908000" y="2276640"/>
            <a:chExt cx="2449440" cy="1368360"/>
          </a:xfrm>
        </p:grpSpPr>
        <p:sp>
          <p:nvSpPr>
            <p:cNvPr id="221" name="Rectangle 6"/>
            <p:cNvSpPr/>
            <p:nvPr/>
          </p:nvSpPr>
          <p:spPr>
            <a:xfrm>
              <a:off x="1908000" y="2276640"/>
              <a:ext cx="24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1908000" y="3213000"/>
              <a:ext cx="2449440" cy="43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8"/>
          <p:cNvGrpSpPr/>
          <p:nvPr/>
        </p:nvGrpSpPr>
        <p:grpSpPr>
          <a:xfrm>
            <a:off x="5651640" y="765000"/>
            <a:ext cx="1657080" cy="287640"/>
            <a:chOff x="5651640" y="765000"/>
            <a:chExt cx="1657080" cy="287640"/>
          </a:xfrm>
        </p:grpSpPr>
        <p:sp>
          <p:nvSpPr>
            <p:cNvPr id="224" name="Rectangle 9"/>
            <p:cNvSpPr/>
            <p:nvPr/>
          </p:nvSpPr>
          <p:spPr>
            <a:xfrm>
              <a:off x="5651640" y="765000"/>
              <a:ext cx="1657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5651640" y="765000"/>
              <a:ext cx="720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1"/>
          <p:cNvGrpSpPr/>
          <p:nvPr/>
        </p:nvGrpSpPr>
        <p:grpSpPr>
          <a:xfrm>
            <a:off x="5724360" y="2781360"/>
            <a:ext cx="1657080" cy="287280"/>
            <a:chOff x="5724360" y="2781360"/>
            <a:chExt cx="1657080" cy="287280"/>
          </a:xfrm>
        </p:grpSpPr>
        <p:sp>
          <p:nvSpPr>
            <p:cNvPr id="227" name="Rectangle 12"/>
            <p:cNvSpPr/>
            <p:nvPr/>
          </p:nvSpPr>
          <p:spPr>
            <a:xfrm>
              <a:off x="5724360" y="2781360"/>
              <a:ext cx="165708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5724360" y="2781360"/>
              <a:ext cx="720720" cy="287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324000" y="189000"/>
            <a:ext cx="502920" cy="1368360"/>
            <a:chOff x="324000" y="189000"/>
            <a:chExt cx="502920" cy="1368360"/>
          </a:xfrm>
        </p:grpSpPr>
        <p:sp>
          <p:nvSpPr>
            <p:cNvPr id="230" name="Rectangle 15"/>
            <p:cNvSpPr/>
            <p:nvPr/>
          </p:nvSpPr>
          <p:spPr>
            <a:xfrm>
              <a:off x="324000" y="18900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6"/>
            <p:cNvGrpSpPr/>
            <p:nvPr/>
          </p:nvGrpSpPr>
          <p:grpSpPr>
            <a:xfrm>
              <a:off x="611280" y="259920"/>
              <a:ext cx="0" cy="1224360"/>
              <a:chOff x="611280" y="259920"/>
              <a:chExt cx="0" cy="1224360"/>
            </a:xfrm>
          </p:grpSpPr>
          <p:sp>
            <p:nvSpPr>
              <p:cNvPr id="232" name="Line 17"/>
              <p:cNvSpPr/>
              <p:nvPr/>
            </p:nvSpPr>
            <p:spPr>
              <a:xfrm flipV="1">
                <a:off x="611280" y="259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611280" y="90792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19"/>
          <p:cNvGrpSpPr/>
          <p:nvPr/>
        </p:nvGrpSpPr>
        <p:grpSpPr>
          <a:xfrm>
            <a:off x="395280" y="2349360"/>
            <a:ext cx="502920" cy="1368360"/>
            <a:chOff x="395280" y="2349360"/>
            <a:chExt cx="502920" cy="1368360"/>
          </a:xfrm>
        </p:grpSpPr>
        <p:sp>
          <p:nvSpPr>
            <p:cNvPr id="235" name="Rectangle 20"/>
            <p:cNvSpPr/>
            <p:nvPr/>
          </p:nvSpPr>
          <p:spPr>
            <a:xfrm>
              <a:off x="395280" y="2349360"/>
              <a:ext cx="502920" cy="1368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21"/>
            <p:cNvGrpSpPr/>
            <p:nvPr/>
          </p:nvGrpSpPr>
          <p:grpSpPr>
            <a:xfrm>
              <a:off x="682560" y="2420280"/>
              <a:ext cx="0" cy="1224360"/>
              <a:chOff x="682560" y="2420280"/>
              <a:chExt cx="0" cy="1224360"/>
            </a:xfrm>
          </p:grpSpPr>
          <p:sp>
            <p:nvSpPr>
              <p:cNvPr id="237" name="Line 22"/>
              <p:cNvSpPr/>
              <p:nvPr/>
            </p:nvSpPr>
            <p:spPr>
              <a:xfrm flipV="1">
                <a:off x="682560" y="2420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>
                <a:off x="682560" y="306828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4"/>
          <p:cNvSpPr/>
          <p:nvPr/>
        </p:nvSpPr>
        <p:spPr>
          <a:xfrm>
            <a:off x="468360" y="1916280"/>
            <a:ext cx="288720" cy="144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39640" y="4221000"/>
            <a:ext cx="289080" cy="14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6"/>
          <p:cNvSpPr/>
          <p:nvPr/>
        </p:nvSpPr>
        <p:spPr>
          <a:xfrm flipH="1">
            <a:off x="826560" y="40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7"/>
          <p:cNvSpPr/>
          <p:nvPr/>
        </p:nvSpPr>
        <p:spPr>
          <a:xfrm flipH="1">
            <a:off x="82656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>
            <a:off x="900000" y="342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9"/>
          <p:cNvSpPr/>
          <p:nvPr/>
        </p:nvSpPr>
        <p:spPr>
          <a:xfrm flipH="1">
            <a:off x="90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971640" y="692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82692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82692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i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97964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5219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r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Magnete </a:t>
            </a:r>
            <a:r>
              <a:rPr b="1" lang="it-IT" sz="1800" spc="-1" strike="noStrike">
                <a:solidFill>
                  <a:srgbClr val="bbe0e3"/>
                </a:solidFill>
                <a:latin typeface="Arial"/>
              </a:rPr>
              <a:t>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4788000" y="1341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varia la corrente prodotta?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 nucleo ferro dolce o senz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ispondi, poi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298764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2916360" y="1197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0 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197964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b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53964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corrente prodotta, a parità di altre condizioni,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aria se nella bobina è presente o meno un nucleo di ferr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0"/>
          <p:cNvSpPr/>
          <p:nvPr/>
        </p:nvSpPr>
        <p:spPr>
          <a:xfrm>
            <a:off x="1835280" y="692280"/>
            <a:ext cx="72072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1763640" y="6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autoRev="1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782 L -0.00017 -0.25185 E">
                                      <p:cBhvr>
                                        <p:cTn id="9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2993 2.59259E-006 E">
                                      <p:cBhvr>
                                        <p:cTn id="9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18889 L 3.61111E-006 -0.23102 E">
                                      <p:cBhvr>
                                        <p:cTn id="9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autoRev="1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11111E-006 L -0.30713 1.11111E-006 E">
                                      <p:cBhvr>
                                        <p:cTn id="9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6:52:15Z</dcterms:created>
  <dc:creator>Utente</dc:creator>
  <dc:description/>
  <dc:language>en-US</dc:language>
  <cp:lastModifiedBy>federico barbarossa</cp:lastModifiedBy>
  <dcterms:modified xsi:type="dcterms:W3CDTF">2019-06-02T13:00:17Z</dcterms:modified>
  <cp:revision>10</cp:revision>
  <dc:subject/>
  <dc:title>Diapositiva 1</dc:title>
</cp:coreProperties>
</file>